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119428-00ED-4078-86B3-16E2E14E559A}" type="datetime">
              <a:rPr b="0" lang="en-US" sz="1200" spc="-1" strike="noStrike">
                <a:solidFill>
                  <a:srgbClr val="000000"/>
                </a:solidFill>
                <a:latin typeface="Trebuchet MS"/>
              </a:rPr>
              <a:t>07/30/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8D1767-74C8-4DE0-BFAE-0911DD22315D}"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BE911E-288F-4BFD-A3DD-62A2BE6E47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045C6F-07C9-4BB7-950C-7785B5769D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1231DC-E862-408B-B1C1-D21575AB97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CFEB06-A9E5-49B9-A646-3AA7E59513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0C2E18-33C4-429E-AF58-B3010665DF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D8546E-9D2C-4BFE-92A4-5A07FFA9CD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37205E-198D-466C-BA84-89D7F5CE1A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2FBF3C-3AF6-4AB1-881B-BC243179FC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1876D7E9-15E5-44BE-B489-345A2ADC5B3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819C012D-4010-4312-BE85-CF534F36DDA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72F988DE-681A-4E39-8FE2-240BA7BE03B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A95E3200-8630-4642-96E6-2870DC98E1D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89D062F0-D78E-4C7D-A48E-4D95235CBDF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0E724283-1A64-4DA7-9980-0875F62C1B2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8713D96F-2339-4CCA-BF71-EC343974A15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1E376ACC-4113-4931-86AF-27543DA72EF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CCC67611-7691-47BF-857D-180CA7FB862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C07340D-67BB-4B7B-986C-3A90425E48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08723832-A137-4EA0-B021-AB8D88686F2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6F35D276-1E22-433B-8B57-B95B6875B58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7BCEF0B7-56B5-4593-B0FE-6E51EC4F12A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A0B70451-A4BE-44ED-8949-1141467E98F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B5BC5E50-5563-43C8-8970-A8FF6918639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DFAFD62A-5F46-461C-AC24-1404D380FF1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7827F424-9125-4EBB-B00D-8DFA1C4CE35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AFF67A93-6D29-4B92-8AA7-0E2A9F63205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54FF4FBF-E5B4-4553-94F2-CCB554D6DAA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8C88B683-1511-4776-BAD5-3E8A198C55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E2640598-FDE4-4232-943F-678C6338A05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E16EB7FD-3394-4B8C-B218-5664E4BCD2E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2118F1FD-ABC6-4511-9CC3-F491F635A10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4E6694B2-D83C-48EA-9BEB-44DD6549802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0EF4E358-C4CD-4F5B-ABA1-2ACFA552D5E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3218D21B-F8B3-4469-BEF2-5D4BD7C2EDD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BE552AF0-12AC-4B33-B028-AD2D45C07CB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0CC91115-928F-4D06-B65C-17B2562763D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97D3B5FA-9814-45FD-9140-19FE5049592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F5946AAD-FF39-4D7B-9F16-F48633B6CC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B20F4459-F4E9-4920-802D-CF7F2FDFCB3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2D68BAC6-2D25-40BA-9FA3-2CB1357844D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DD3A6A55-1AE0-4946-B0DB-3055BFBE30D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CBAC1C38-A20F-478D-AC1A-66865347775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E50D4063-8C8C-4623-8079-2F54D9C3A93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707FBC4D-F9C9-43CD-A2A9-DF2E726B014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FA1C7431-B7FC-4A33-A59D-8C5E8ADA8D3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EDEFF1AE-55DE-4901-ADB9-EA9FA8ABC3F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1928FE63-EEAE-4689-A919-ED83158861F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D36663C6-8137-4867-988E-850EE736A35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68D85B52-2853-4CD8-84BC-004D7F60CF6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00063865-2AAD-4C24-82E6-D7C53C1E405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38714F53-9DB0-4DD2-8E4D-B4FBAB44D6F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398A7D6C-A6B8-4D1B-99B1-D08A0BB896B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9910821F-BF65-40FE-A30B-EA765CD155CA}"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E422D6D-86E6-4B58-A1D0-9887C298472C}"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B180969-168C-41EB-AEAF-3087EA41675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F08500C-8FC7-40FC-80CA-F685C1657F4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A32121E-1264-4AA3-8204-9ED1C497C8C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E3146F6-C8AE-415D-BFB8-CACA6AD61C3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9F9F9E6-142C-4E88-8E6E-A709696200E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BEE38B2-3F4F-40FB-AA01-F6B347B58E4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2F4BBF3-8899-4186-AE73-34548E5D4DD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7A7A79E-F41A-429D-9420-7D53499BBB2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C48FE93-136C-4E10-847C-1D1CE693085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66EC256-A025-4FF3-AEB7-C4528458BF4A}"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3862B44-D340-490C-997D-FF86773EAE36}"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7A7ABCD6-4698-4788-B2C0-68DF02DEA303}"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6C41CD7B-7156-41D2-A473-7E71BA39812C}"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371AA57B-E5DB-4361-82E3-6F916D539A5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CD4485A0-DA17-4D94-A3AB-CA8CCC21999F}"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DAF775EF-4B4D-4F9A-8760-23B057D441EB}"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D64A308C-2810-45D4-9BFD-9564288F147C}"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736AA822-252D-4F29-98CC-C9A5C10A9BD8}"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2DAD694E-0987-4838-BB8C-C62763545E7F}"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A8C82DEE-D786-4656-B5DB-1C45F3EBA831}"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00BC205D-31B1-405F-9632-BEC0EB0DEABD}"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5B363ACC-0E3B-4840-9B7F-ED990DEF594B}"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848E43A2-024B-4F06-A54F-66A441FE3DE0}"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46EE20A1-1862-43A6-AA78-1EAF094A497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D0C1E0FE-1438-4828-A799-CE656497FEE0}"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D49BCBC7-4D0F-4DA0-A74B-08DE23948FEE}"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16297F5C-E09F-401F-89F7-F777DC061EDB}"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4357DB52-0CC9-4BBA-8B92-016155675F91}"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1ABA73D3-13C3-4C19-8E58-043650B49DC8}"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85B623E8-F641-4365-A414-2B5746079CBD}"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54FF6F89-61AA-46CF-A472-DD1C535B045C}"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E1C066BF-C699-4BA5-BFCD-F1B72C1AC4E6}"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83A9B7E8-7895-43E2-BAB7-2922CFE91207}"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E0C3FB73-9B44-4CDD-B968-F76FB45E0A7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00958C88-A3F7-478A-BD46-CB3FEEAFBB96}"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4D2C341B-825F-4A93-8392-413291053E75}"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1983C4E-2642-42E6-BAE7-EC47473AA8C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5F8F6F1-B4F6-4CD5-B04A-5D41C7A1289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135DFD7-FB68-4C42-83B7-A4E1DC07962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CCD5B89-9EB0-4225-BECC-AAB5DDDC27B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48D1567-D0FB-408D-8D38-070825CFE5C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81C4DCA-CDB9-4AD3-A1F7-95AD82E01A1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6B35F21-4D90-4E33-B33D-D13CE0A9273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FFB9F14-3AC6-4EFB-99F0-A3B8BE9F8F1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4B5AB05-054E-4FF9-A97E-6C938159394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665C31AD-00B2-48FB-BA52-73191C3808AD}"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28D98B9F-4BFB-48F3-8B2A-00CB42CF8E53}"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932B9E79-C384-4C25-AEC3-DB833A1745AB}"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DDC5618B-4C99-4741-BAA7-0744282296F7}"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FF9D08EE-4B2D-4D45-AC31-054CB16651CC}"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6F20832A-DFCB-42E3-9356-D15EE6C6E875}"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340984C8-539F-4A7C-B294-6C4604599964}"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AE7FAA98-4B30-405C-8631-B95D91B85F0B}"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0451BB74-B0F8-4B64-B5A7-3E5EAC91326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75E386F4-4165-4287-9AB3-3935FB5C154E}"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6C100158-F0CF-45FA-8A19-9FA1A38D2C68}"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FBE799C1-D208-4770-A0CB-3B8B345ACCE6}"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69A2D4C6-8A8E-4813-8655-C65320B1BB9E}"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6137F527-1437-4A88-924C-A9827032E8B2}"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74A631EC-C265-45A4-B606-9E8FE4A6774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7B36819-4F5D-4DB7-913D-8C7752198DD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C361FBC-3724-4873-A7EC-352ED0B7CB0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58FA75B-896E-40C4-9569-D672CD407B6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5789114-9015-464F-A388-EAECCF81702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28E233B-B997-4830-978A-189A878DAA3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06FE855-CD44-4C59-86D3-ED0FF0DE3F9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C57ABD3-6562-4E75-A778-56E0F880DFC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665F52A-01F9-40BA-BA41-6359A3A7432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C996787-03DA-483E-B625-6A2D485EDB7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2F6C8026-CEC5-4A0F-B36A-B2A642536651}"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8995E83D-3769-480C-A4BF-2C70CF1F452D}"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5F903EDB-80EE-4A19-B164-2D2C890E5707}"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679CF130-CD8C-45C9-9D8F-5EFE16E71BC4}"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3C405218-3506-4E00-85A7-560DF2B593A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6A9BD8FA-D5E8-4647-9B32-8E9A7B4673A5}"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7DDBC8EA-D628-442C-A67D-62B2EA5C8BD4}"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28334C76-E67B-4B1C-85DD-055145C2443C}"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4552999F-DBB4-408F-99FC-091E0C8650CE}"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0BE90FDB-96F2-4D97-B85D-213C00897ADE}"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FD98C3E1-42A1-4C33-9B78-10E3AE61826E}"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CFCFDA3A-5A12-4E43-AAF4-317141152AC3}"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F5F74D32-3AD5-4AFF-AC99-9927D45DE291}"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3A10B06D-5FF5-4485-BC31-AFD8A026CCF2}"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F6D81BB2-96A8-41DE-8861-6EEF5D3D850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FC55D347-DCD1-455A-A723-18DED061C22D}"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F54F94C3-88E3-408A-866D-2FA46F72A294}"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058424A5-1753-4B74-918F-25483F3F28B8}"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2752BB19-0C4A-4663-9A8E-05381EF54791}"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AD1BF744-F45C-4B0B-8E6E-7F7895D2118E}"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D9029E44-0745-45D3-9CA9-7D0281D1935C}"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7533F4D8-9F12-45F5-88BC-2518C70AB178}"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038BB7BA-D4CD-40BF-A1F9-DDC561658EB8}"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56DF4518-DF58-4F43-8782-A1959E2D8230}"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BC84912F-7A70-4965-8B0E-9112221A682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44901921-E228-4611-A797-1B731DA02EEC}"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11C44729-A78D-4626-B7B2-44FC1F4B62EB}"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6FE6D5DF-B4A4-4BF7-810A-1AD079EDC684}"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6A91529F-EEA8-49E5-8DCE-D1DF95E6F2E8}"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0E4AD45D-F2F4-4B9F-917E-C3A6312DD70D}"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7A5BF71B-CF27-4A4D-A3D4-9B525765CA37}"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45228791-6D7F-43C7-8A86-5CDAAA4F54C6}"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43EBB969-B20A-4A79-ACF3-F3BAE004CAF1}"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8334029E-22EA-4B03-82B9-C2CA09CD38CA}"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A7AF987F-A08D-4401-A6C9-16C18F36DDF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08386776-ED8C-4F99-BB8D-89E107395120}"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791EF150-E73C-483F-A685-87EEC5A1DEF5}"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BDFF79E0-761F-4AA9-8710-B79AE4FC13B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BCC2E7-4A3D-4339-9757-6547BBE6E6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2DBEF-10CB-4E31-B4B4-E3A2D0476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006A2-AC85-416A-A93C-09B9DF617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F17DA-D67A-46E6-A49F-52F08D1D4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A4404-4B91-4E9D-BBE1-AE6B4485E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8D938-5CBA-43F1-B971-76DE8D706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6BD29-661E-45B0-A659-4EE160297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84838-6A48-48F1-B10B-785C5FF35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E3CBA-40D4-46F9-8CDB-9D0F5848A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E3D38-A91A-4784-9292-8BD9E6A04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43471F-7C41-41C9-B50B-09DA94119A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F2E5C4-360D-4C88-870D-A06B283DDA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A334BAA-8201-4D96-AA36-012C2EEE8D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BF6385E-0834-4832-BE7B-EE5FF173B5F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78C39D2-5B08-4717-A9EA-8E060718823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8871C21-80F7-4850-8AC8-1CCC9E4DF06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AE3778A1-7787-4177-A349-6F99DAA41F3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38D35718-0A3C-43EA-8585-C420B535748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C103EDA-6F68-4817-89E1-12CA23E27CD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A9244A0-F5BC-489B-9581-D7ED88AAF0E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7B6C953-9FB7-4C5C-9EFD-5AA42C3AA51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B13C68E-A4C9-413F-B4E4-0E67EE77466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89022F7-6F94-4BD2-83C0-C986433D79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B1FDD24-EEBD-4615-B585-503D03C46AD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DA3C151-3DBE-4BA4-8991-1FDB477BD8D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702C01F-5BF4-41C3-A149-376C8E2212E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011B0FB-BA4D-4E04-9F63-BFC131FAE6B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A11EBF2-990C-4995-BD8E-C16ADEF76EF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DA744755-D9AC-4B81-91A8-D2B0FC88B0F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8144AA01-2C49-4DD5-A863-4EA465E7B0B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E056B13-F203-46B0-8DCD-3B92E961CD1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33DA0D0-9176-4BBD-99C5-1143C155D06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CD76B14-319C-431B-94A4-0BC5E90828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81FA7FD-88E0-447E-BD9A-AEBC1D1658F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ACE04D92-108E-4D85-945B-D27F3CBF63B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2F79AD8A-C2C2-4155-8581-6F68AE2C35B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F34B596-56F2-42B3-8EFC-C827AAB3FC4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2EB2D87-00E7-4062-A186-0E105980A44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F044D80-448A-419C-BAA2-F4BCE28D29C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09C1656-D65A-4856-92A9-DA79ACF2B86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A3CBF1FF-5E68-48B4-A6DD-455EA5B984B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9E90BC42-2164-40EA-9219-FFB96608A4A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1E00C3D-2ED0-468E-BD5E-B8958FD0E8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1A5A34C-6954-4B3A-913C-A5D3B19E9A6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65FB8FE-2EB2-4019-BB10-BFF39F1DE44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3EBCAEB-C3B2-4855-AC2E-E0464F97FA0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321A17E3-EE0E-4DEE-9B7E-E6E23C247F9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60DBF7C9-6857-470C-9F72-5F55D4C5E58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8C6222D4-012B-4C07-B274-A2A3DC3CFA9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90F12528-94EF-493A-9AC5-07B7C161FAF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81E0543F-7B02-4903-A2A6-304A746A188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7C0ED682-A4FE-4859-B19D-AAEA40DE1F2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1C4CC5BC-0AE7-4914-A80A-4E5D7600F4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B4AFC664-F78A-4848-84ED-929B348E01A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9B767338-45E5-4C7C-92C6-AFCCE4E4F87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282DB70F-64DC-4600-9DA0-28A2A5B7098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F02220F8-D780-4B4A-AFB5-8391EA9BE0A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6F8A6EE3-8750-40EA-9B83-C646891B72E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C0BB75ED-DBA1-4A08-A5C1-7CE5A394C36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9A366B13-A466-48DE-8D2F-764D869FC57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A907B5F-EE65-4E37-B4B2-F20B9CF959B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8725AEC1-6363-4E20-916B-1EA58F01A67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7D2F8B6E-9E85-48D4-AF61-71EDB22289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92A599-0B8E-4AB4-A213-74E47EE052C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43EC4C-4547-4B9A-8058-4AFB9E43DC3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6D1D48-70C2-41A2-8AE5-3C6B5AF2AD2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87A973-4CAC-47CA-B953-67B12A22E4B9}"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F6C823-FB76-4BC6-BB4C-820BEDC62AE1}"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FE6629-74F2-4951-BEAA-5CB8D76642B7}"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C2DD8B-7A25-45BA-8111-D7886860055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BEC006-F3E3-46C6-9ECA-7578675C6D4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1C16EF-B1BF-4A79-9521-D85D0B7BECE1}"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12AED9-F45F-43BA-A663-E2CEB099F2D4}" type="datetime">
              <a:rPr b="0" lang="en-US" sz="1200" spc="-1" strike="noStrike">
                <a:solidFill>
                  <a:srgbClr val="898989"/>
                </a:solidFill>
                <a:latin typeface="Trebuchet MS"/>
              </a:rPr>
              <a:t>07/30/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64066F-5B5F-43DE-B4B8-F3F56788FFC4}"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C4483D-2D15-4127-A403-444165600EA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AE091E-4C07-4281-BA67-2CF262B2C12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23660E-ADAB-41D6-91D0-82EE1836EC4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E2E234-9A02-4B9C-A60B-731F791127C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B8EE8D-5173-4F5E-9A7E-5AD477A28D6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687190-1FAC-4021-B8D2-6628BC11D967}"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B6BE8B-FA50-4B29-97CE-390A2191BE62}"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320902-C56A-4A47-B9DF-52C7EA34F80E}"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282ED6-7A82-4C1B-A029-4E6107E63F88}"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D34B5A-FB9A-49FF-A9BC-F8B945BA6FDE}"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5B9F8B-E3EC-451F-AE63-285709898760}"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296B01-375A-4440-818C-61528FE7166D}"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6F82AC-9848-4E0F-8417-C4C79885C77C}"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45F114-B97F-4A44-B1B0-D6B146CD56B3}"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A08DEA-3834-4CCC-9866-C93CD69F98A5}"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780F48-87CC-41F2-8125-FB867FDF20AF}"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FF849E-9060-4D7A-AC68-30E72876177D}"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357A2C-3CAD-4BCA-832C-0AD1D616AECB}"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6ECBBD-11A7-4855-A7B2-2DD32B6E6EA4}"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