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825124-4545-4AD3-811E-394FA39A1629}" type="datetime">
              <a:rPr b="0" lang="en-US" sz="1200" spc="-1" strike="noStrike">
                <a:solidFill>
                  <a:srgbClr val="000000"/>
                </a:solidFill>
                <a:latin typeface="Trebuchet MS"/>
              </a:rPr>
              <a:t>07/29/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D26678-419D-4E59-8B39-463DA786CB53}"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79258B-599A-4FB5-B3D4-4A61A46DDF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4B3F7E-4744-441C-BB5D-EAE65D98CB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C1FE44-C7A6-4851-9B02-E0D9CA2942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10189A-C144-484E-9C08-256367B473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59B52C-7E70-453C-ADF3-ECF20B9D21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3D5032-DAAA-40D4-BB7F-D990D06126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0712FF-0EAD-4B67-B177-D2395E530B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1CF495-D75F-4916-B82F-EEE756BC14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E6267A80-8921-4C71-969D-38441E610EC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2525E0FE-B10B-46D6-91C4-FA7A2CD9962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8EB33920-D0DB-42D0-9DFE-A4964272651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7C7DA4D-0E11-4202-9075-D12043BDC8D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38C9013F-A4FC-4160-B833-833122EAEE2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EAB0B726-ED83-411B-B797-6874E89E27D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5E53E110-1D91-49D2-BA5A-A5EB11D9B38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3ABA80EC-0462-41B3-B900-2D0B6811B1C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F10E6B56-9060-45B0-AFEB-0436B4D77D9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C9B4707-AAE4-45FA-8460-F34C5E8F36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CBC8A555-DE0F-4077-829D-DDF19B67D49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22B3885A-511F-406A-80C5-BFCF9D60BB2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0E6617FD-1F91-4128-88C2-50D0F96157D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4B7619B0-D297-4323-9E0D-7C08A2555BA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DD7E7B32-1971-4033-A1EE-8B922640B86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304B0103-6A42-42A0-8E86-F5B5355A69B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D7DAC4F4-D038-41B1-98E0-5319A90FC96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FEB9B2C3-BE80-402C-BFC6-A1CC5100A8B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BD5FFA31-0D02-4B16-971D-323B3A47708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BBFC7EFD-C057-4570-875C-DED369C4C5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D839F180-F74A-4D48-B0D1-0A73E7160D1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70AF4FD-3A26-4DA7-9B51-56790E15AB8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95858157-547D-4925-B4E6-83D12AA12BB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5417B3EC-E6C1-403D-A135-BC147AD479A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15BF55B3-ECC1-43F3-B9C2-6AD75F77BF7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84F1E0E5-12C8-46E6-A220-CC2826AC37C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DAA8B55A-6B0D-4406-BCD6-035D72B5090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9E352E41-15D6-41E7-9871-8D0EB6B072C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D389986F-583A-4644-B50F-941F147EEA2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A0D18C9-1A31-439F-9E40-81F4C79504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D3203EE6-F9B9-4B4C-ACB4-875F5C36D4C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0EE4167B-4122-4908-BD62-229EA47E772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EA412A00-FD65-4725-AEC8-C973A58C5E8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5409B47-DC82-4669-B87B-09D08FE1E99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002DEE2F-A6AD-45A2-ADE7-EA9DF3A9D31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5F653C05-D15F-48C9-9D03-0212BB92560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6FA3D495-8B15-4819-BCB6-87D1F7208DB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265A1AE4-82D1-47FC-8F8D-08BEAA99E02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79D505ED-56BE-4B9F-9893-4D084F7CA5E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A49B3427-43C7-4E27-9F8F-752DC118EC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B377A743-6F89-4CE7-9B1E-F3EF19A007B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091C65ED-0388-4664-9769-36EB1833788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7C83E0F3-920C-452C-A6FD-AC0A80B7E45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30B1D58B-5155-4708-B1B5-E1F59B30CE3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F3FBB503-9A47-46C1-9996-17B862FDD42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C5941AE-2DA5-4E1E-801F-8987F9B1480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FB28935-4269-4786-BA05-7F4A4C4725E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3819F55-6766-4952-ACCD-4B2AB29CBF8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C71B4D8-0C57-44A7-B948-3A78C07D110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135A259-CBED-4A87-9B67-AB78ABC521C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B4F36C6-58D3-420F-8822-E3895004F27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560599A-366E-4D78-BBC1-45AB7376D92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77A6B63-5002-4A1A-A7EF-1B06511E6F7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560301D-347D-4890-95AF-6A76874EADD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D80B88B-A653-4B2C-80D9-4FD8F6691BB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2C5AA3A-2BF0-45BE-8509-BAED570E7A6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F87DAE5-86BF-48A0-8B8B-8612D3CDF6D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F7BE6F14-06F8-4EAE-8208-B796CAB1472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4449DDA5-81E0-47FB-83AD-759DE57F2D4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047299CF-3772-43CC-B929-2D1C0B93C0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88672534-6044-4728-A638-AA008D0E396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5468E556-A803-49A5-A7E0-78FEBF42C68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8B3A9542-45DA-4509-965C-1DB8F2E24FF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CA2D2A1E-F381-4EEC-9706-A8FCC5F296A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F01C0208-541F-477A-A432-22552AA7E49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4C135503-B494-464C-9F95-BA9416205E8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C03B749D-4054-4B71-A29F-F4658C7BF15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712D7E74-5172-42ED-B80C-B4784BF8AC2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E24AB4D9-3B0D-4479-98F2-3B1C01B9CB90}"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FE76F12-EA46-4D38-8F2D-B61D56B86B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BD6E7D39-6C27-4519-B5FF-E7855A73173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2B5C6C17-CF2A-4CF3-A510-C6093EDDC6B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A3065912-60BF-407D-B85E-7BDD216594C8}"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13C40CC0-82D8-4171-A130-C18F30B9878C}"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BFB78847-9EC2-49DF-B7A0-CB1485000EF7}"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9308F95D-D9A8-4252-BD57-B14E2C5C0E29}"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2C33384C-A9E5-4B65-B9AA-45C18C0E8D08}"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0402C1E4-7FB8-43FC-93CC-D96463996A10}"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BAA38097-7FE1-429C-A614-6703960B88EE}"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C2B34DA8-32B0-43A8-808D-6E3011744D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7943A641-A692-4803-A54F-3A80BD6A0EC1}"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DB6A2B5-4CB3-4903-BE78-10BCB2FE7FE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C3A02CA-1B02-42DD-B5E6-54C6D2EB4E8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E07B7D5-9F1C-4808-B724-3D1778A1C61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A978C55-A41C-4306-8383-029738D7822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7C87F6D-6323-4DA3-B51D-82F0BF8FF7B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4AC85FB-C90D-437F-909A-5A19E3FACDB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CD113F1-07AA-4C28-B898-58F04DC88D6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FF684E4-21B1-478D-AC80-1F32B198386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24B854A-3E7D-470B-9D9F-588C62FD679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4312B35-3C7B-4830-AB93-CB06889CF93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B6CE6AC-D76C-4257-9D32-F3F65B72FC22}"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5AB2EA5-C6F0-411B-B866-1F2BAEF1BAAE}"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E149D6F-CAE1-4052-90D6-B9A243C3FE6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CEDBF584-FA44-4743-82BE-8CDA4210A61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166EE3E8-2F6C-4598-9AB1-2B6EA0E3DAFC}"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88EADDBF-6A0E-4D87-B163-41324550272D}"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F7937E71-1A35-45AE-803E-44CCD1008F8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EF7E4A8E-6EC5-44C1-B20A-84CE3EF2549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7F3691AF-654E-49C4-87EF-3260BA3991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A7CF845B-27B9-4710-9DFE-6F554AB65673}"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52C8640A-CD06-462F-B299-0AA262B09E8D}"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291F7C96-DFF1-4DA2-8B82-E5002134E2A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7C51DE3A-C87D-4763-B4A9-19EA426D01D3}"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70308CC3-6820-4B22-931A-4F4C30429260}"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B81B2A8-00BE-4238-B42D-0043C3CE2C0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35CCD3F-B71B-4EC5-AAAF-3EA7B80242B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860559B-05E0-4031-92BE-7D65887973F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608DD53-171C-42EC-9BCD-A59B81CB10C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158A8D7-C6E2-45B3-88DB-2D819A17FDD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B6EFBEB-2550-40D1-ACC8-05C6CAE0609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DCFC6CB-028E-4AFF-842F-6077360B7E7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275FFF5-0117-45FA-B429-5D52F28F048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2FD7F3C-280C-41FD-AD49-AD50CB7A87A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8F05743-D1CB-4027-9A84-31237D594D9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89110E5-A28C-443E-AE8C-3BA0A5FF245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331A3F9-45D2-4F20-9DC0-761F10E2562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3FBF61D3-E8E1-4CD7-8CBB-78E5908139C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9437E6C0-4AC4-4229-8BF9-D1A610AE780A}"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F26E81FF-4C71-4018-AA71-312D73A8A0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D837BD79-E118-4BB5-8FEE-6FC70E5AFCA9}"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DB15EAA6-43AE-454A-AA3E-C5A3C3A4FD13}"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D4E4E251-EB29-443E-B3FD-39ECA48AB34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299CA580-2E4C-4898-B65D-6B97C1AFD94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085D44A3-80C2-4F7F-ABE8-1716E8B1B80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E0693E5F-6E15-43D5-B49F-8F3416C0AD3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2563774B-24BB-4059-8758-DBFC389E5F71}"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D37442C3-AD2E-450D-8479-DCD81757508E}"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217EA0CD-D160-402F-A7ED-290232F79755}"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4EAD5B78-89CF-4D07-9CDE-DB5CDDD5C2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33B01C18-17DA-4D16-98C6-BC5445591F8D}"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763BD48D-AE47-43E9-95B8-07A9ABA181AF}"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36B8575E-B63C-4F7E-82F2-6F454504420D}"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326D7930-994E-4C5A-BF51-1C5F526BA599}"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E2F5439C-F5EE-45A0-A441-21423EF93E38}"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0E055FDF-ED26-4DDD-B0D0-7524AB5F4AF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C14235A1-F1D5-401A-AE61-264DB7926FCB}"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75A9A642-2546-434F-A308-B9E79DACB5D5}"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CA50D753-0231-4898-9688-5EA47CAED23A}"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3C1F1223-1054-4C88-817E-0DD03351C7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92CD5F7A-4A83-412E-A273-54F959E6CC25}"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D6E55E86-9395-4446-871E-B2005EA41CB9}"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03EBAE42-0E1C-4A57-A564-0A55C2E44CC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AFDDED88-FB78-4C6B-BB86-6BD61E5E7516}"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DF402E1C-83CD-4171-9F09-13AEB913168E}"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74B1D621-6069-4B0B-9813-422F4DC0EE5F}"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4CA68AEC-0583-4406-A00B-FFD6EDA82403}"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A6D43FA5-16F0-47C9-BD71-FB1CB63CE688}"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9FB0F922-58F8-40D7-802F-2A46E4124824}"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07B660BC-DE73-4B50-8D4B-613D6EAE22A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294A168D-DDF8-43BF-B1DE-D498AE2AEE83}"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42B316FE-5718-4E0D-A28D-BA679A30862D}"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849370EA-E359-42F9-BE35-0C6697170BC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D17A0-683D-4CBE-94AD-B64020A27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94F98-80A6-4087-905A-3F0E8B16E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B9B85-F473-481D-9456-C2B4A05F1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1BD06-2B5C-46F2-90CC-06A8C65E0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5DE87-394E-4FF2-8D95-AC5555C41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9564F-BE86-45A3-B3C0-4AC7A2777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F6ADC-F6D3-459B-9ACF-F6DFDC4CF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BFAFE-26B7-433D-B7F4-34579AB1C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7552E-EC1D-4343-BE94-00562F8FF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44752-62CC-4DC2-8FB0-AFF694A86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9D7EA-6858-4366-95AD-2271AA266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18AF5-9403-46FE-B437-692620895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321CE2-0094-4A6B-9B98-C9C7029398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8522EE6-C984-469A-A8BB-14D8ACD1EAC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FF191B4-BDF7-447E-940E-F4AE0C2952D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3741270-12F3-42C9-8757-BF04BE5C5CD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9B795E77-25F4-4A7A-BAD3-966BE5A0DAE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C075CD4-4B8F-435C-827D-C6C54AA2F95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C431163-9AC3-4AED-B506-00B6A5BDB0C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9F7A2A3-95AC-4D8F-ABD8-357C467158C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3F0F893-6394-4779-9202-F9D50C81CF4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6C418F3-328E-4FE0-8434-9D337F0C4A2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EEF21C6-4BFE-4D53-9576-58CC8A27E5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5F98F74-22C7-4F44-AB1A-2B570F84E57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4C8A726-3F27-4D24-8A68-E121745A51F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AFDC864-088D-4453-8B25-6AB4C8B7FA9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07D2A28-D7BC-4A92-8E97-F5541411F79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ABE8E8B-298E-46B6-B80C-2EC426CB515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F1AC4F96-082C-4FA3-A708-2520F253751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449A8FD-71C4-49CA-9042-CD19645F10A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599A6AD-BBD8-493A-A05E-0C575E87DE8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8516F87-F9D9-4C61-A0A6-B85839F5936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BF4549E-A66D-412E-AC40-92AE01D2D2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964A83F-8CCE-4968-A6F5-793E19925BF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1F465E2-083E-4D64-84AF-E948D28C577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308D84B-6495-4DBE-B069-A625747BF02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2157596-1467-444B-A732-6DF02E45693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5F8B1B2-3BD1-4746-9984-783E5F4A173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BE14C4B-0EE6-425F-B160-E12BF199F40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B6A1A7A-3E48-4D42-B15E-F7C6F8FD99F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FA2BF4C2-0EFC-48A1-9A18-F1E2903AF22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E8035AE-6815-4501-B95E-3149879D230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07ABE29-9B5D-4F6F-AE49-22E96DAC56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278BFCC-D44E-4374-AB63-6200B16D786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220D55C-3E9F-4151-8ABC-31B799DF310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7890DC2-9981-4ACE-A035-7046B83CBAB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C7CFD4E-5B66-45D5-B60E-C33F3AE435B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AB9725E-6D54-4AC0-9663-95CEAAE27B2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0E16EA9-BB54-4A9E-9039-9189B983E9C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9CDC5FB4-222E-41D9-AB39-CCDA3A4798A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5007471C-071E-4920-BDF1-E361839196D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C2DBBD30-7E53-43D6-BAE8-B69B2FADD08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144B595B-671A-4DAE-9ECD-99FB0806B3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C326DEB4-320F-48CA-B187-4227447621B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1BF45C5-CBAC-418F-A778-4AC84CF37E0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BBA7878-6401-41D1-9F1E-1EE15CB2A79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14A787F5-5FCB-4DDB-812A-C67CEDA089E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3A6D9C18-EB3B-4106-A6F9-25FD9102281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15A0AB3D-BBB2-4123-A53B-A173B5C2FF5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9F24FF76-AF75-40AC-B06E-7BF7EB9DD55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49BF29A-018E-4BE4-94ED-B55A53F2DB4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1B10AF1F-6245-4C35-9800-D5E609890E6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FEB5577D-E54A-4716-9A56-3D3801B31D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CAEEE1-3CB3-460E-A3B7-51948CB11BC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33A8A7-2C94-4DE5-8045-69D0FD86B0C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9B0940-1662-41F8-893F-B031BE91A3B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4693DF-3BC3-49F0-AD35-621CF4FF2E81}"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70DE16-838F-4706-B8E8-5BC9191BB208}"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488849-0B1D-4410-B892-4CD943859C29}"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6B8DCC-E8EE-444D-A9BF-F6A326DA9B7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69596C-328D-4BEB-88C5-17BD2174C42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68E9B3-7D8F-4728-9FB2-07C420BDC968}"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1F8A5E-5101-4234-A997-62A992BAE9A0}" type="datetime">
              <a:rPr b="0" lang="en-US" sz="1200" spc="-1" strike="noStrike">
                <a:solidFill>
                  <a:srgbClr val="898989"/>
                </a:solidFill>
                <a:latin typeface="Trebuchet MS"/>
              </a:rPr>
              <a:t>07/29/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D8851D-1F50-4D6B-B15E-2C947B7036A2}"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45AEF4-3DB6-4A54-97F2-661633488ED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FE74DC-D22C-49E7-89CA-A7E556A4161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C5ADB2-E08F-410F-9C9B-66586CBFB27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B26B68-A915-4690-807C-8B5E7F977E3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4FC821-487C-486D-9ED4-5E634A8E8A4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DF74E3-BA72-40B5-A724-A5CF84E12CB5}"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15C444-9B8B-4512-A547-3654733D28E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970F25-4C97-4FC4-B7B4-C1DCA92D7A7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CBC28D-961E-46FC-8C07-4265109C4E5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303965-87C3-4C06-8BEA-EDF83ED2FEE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8741A5-8CDA-49E2-BD62-BE85E79ADFA6}"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A95E21-9B28-4359-ADA0-43D4F216FCD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26A4B4-BDF3-4475-82AE-3CA39AD5549E}"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845D4F-7A47-4236-9B52-4BA185C7AEF0}"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00C60C-3903-4B1B-8697-B8A45FE1B501}"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1EE91D-32BD-4B55-BE8B-921F3E607A49}"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B8E3D6-1860-4D4C-96CB-DFB9F0A8BF2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EECCA4-D890-4C01-940F-F05C7F04B90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D4811E-C05D-4CCB-9D42-669DB8C0119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