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94519-047B-4BE8-948C-DC32E1B20AE1}" type="datetime">
              <a:rPr b="0" lang="en-US" sz="1200" spc="-1" strike="noStrike">
                <a:solidFill>
                  <a:srgbClr val="000000"/>
                </a:solidFill>
                <a:latin typeface="Trebuchet MS"/>
              </a:rPr>
              <a:t>07/30/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CD431-B1A8-4BA5-BEFA-99F7B0443A8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0BFA1-DC54-4B5A-B788-601ED9237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8D2E0-72EA-4E3F-B352-282EEF68C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22FBD-0C6B-433D-B828-E670F8237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5AA21-54A8-4640-ACE0-9D464931B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E7980-5739-45F3-9CFA-810215421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8194F-B545-44F0-B6F9-9F29CFFFA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52C29-9BD7-4D76-BA38-2BCE5675E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29F6F-4796-490F-96BC-AF3DE02B2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B4B78BB-2D0E-4161-9BC9-4CBAF462FA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8FFA4D4-2C6E-4325-AD04-5A4230EF41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F267034-FBC4-4731-A36F-2EC002A474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E4C5F8A-EEEE-41E8-B3E0-D12344BD39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B77B1A1-71CD-48A1-ACCB-A1CC5B9292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2B8D785-4F5A-45AF-B397-6D36986CAF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F389B36-B3E6-47AA-A60C-082D1B37C9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A3DA96A-4DC4-46BF-B9E5-3BC812705F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8B008C1-A919-4DFF-A1CB-D77D8E5284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D73D297-EEA5-4E21-B028-D6353E527F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1DB8205-69EC-4AC6-B4E7-72AE0AC1A0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EF54360-53AF-4DD3-841E-C6EFCEBDE77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C5F31A8-9022-4816-9E7D-29FC6BB33D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9A2AF91-32D4-4EEB-AAF8-97CC87B9047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C0E74BC-6356-4B9A-BDA3-A34A738640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1CE50EB-A2CB-4B06-9624-E893DFE2CF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22B6F4B-DD89-49B6-9E69-7F1A59D91D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BD1373A-1621-4E0B-B821-5C8E1FD112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3B71474-5648-4F83-B0F7-440A4E8AC1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6076D67-C266-4057-84BC-0FD57EE71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A30CE06-30D5-41F7-B211-662CA18FCCB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41ED625-C432-4DCC-AF83-3390794B61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1988260-91D9-45CC-A5E6-7DEB7C02DB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E7E8CCA-0421-4C58-A0E2-42868094A2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9B562FA-A6AE-494F-A27C-798C3B59A0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6E929BE-E46C-477B-9CBB-BB7AF1575E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A498173-54E8-45C4-AC06-6F7307FC2E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E36F801-4F84-4EDE-8619-215C01C89B0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87CCEB9-4631-489E-84ED-5791A61628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43DD734-543B-4529-A9B7-E92B154E0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E3840B5-459E-4196-8B63-9F2F6CE1B5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780D499-0C10-4B4C-AB03-E26406FE942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1C4F22C-1175-4135-9041-672E96F5DB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0A45488-25F0-4978-86AB-7641FEA1B0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DDBA6AB-5971-4459-92D7-2F930F5B2E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A24CAD8-B368-4E4B-AC87-9AFC85A3C29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DC869E1-C9D4-4A42-9A15-14D6F52A7C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B14C922-3F7D-4EEC-8F62-595FC0E0880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CF5BD7C-9FF1-4970-A422-5720B896AC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33A4954-81E1-4E9B-AFFB-E09FED32B1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0660732-C95D-48E4-B304-6F287119BB5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2AB5982-54F9-490C-911A-9963B92A1D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FF1F8D9-2371-40FF-BF20-B3B5A2AF15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F13C51A-F24F-4B82-8BCC-DFE5691A523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55FD025-F81C-45EE-A896-EF395467994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F96B59-9B64-4291-A26A-5E6B175F83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AA8AC3-F8CB-42EA-A275-2FA97399F1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50EC12-AFEE-4959-BE30-4DD444D2D1F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45B428-FC8F-4C99-8659-FEB45F7415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4434BE-8879-49A1-98C6-04627D6B67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2788B5-6B9E-499F-91A1-3EF804E334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51A4BC-23B6-4092-839F-B802D59D86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A82EA5-3950-4E55-BC75-DEA6D35F5E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17F77E-2C9F-43F7-9FE2-2E4984D0F2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4E1AAF-3109-4CD5-AB16-6DE51478CB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3E394E-B154-403C-924B-2650CA17456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8CE342-98CC-473A-81A1-04D2550A153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1A2A3A6-CD9C-4AF1-8DA2-163A3708AF0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BF94BD1-2AB7-48A7-B4C6-9FC5D8158F2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D8085E2-71F1-4090-B85F-310757FF0F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6581054-6017-4116-A1DD-1BBAC7FFB05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C9BB87A-CD65-47CB-87B9-06FFBA78FC5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30BE569-A1D5-432D-8669-F25B32C1335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016626F-551E-40D5-9C05-98B4B2720D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2E6BAAC-564D-4D5C-9FD9-89C39B1AAFF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729D06D-913B-406B-B8E6-6C4BC6BD493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DCF1029-0DB3-4838-B168-79447A49BA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FCC463E-186D-4712-A058-BD6A2B6BFCB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51E5DAF-A406-4BC4-A24B-3200E4E0246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E233417-17D2-4DC5-B40F-C239AFDFE6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C9EDAE2-45F5-4E82-8C7C-4CDE391D570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8048B7C-835C-4E47-8F5E-F2DD788B56D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6B6FC71-F8A1-4003-BF28-99C051245BD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A13399B-30DD-43DB-9E70-9CF499D10DD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2E1E0F0-8030-4C83-A486-EE24E2A0664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15DDA22-45A9-43D8-96F9-74A05EE04E8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06886A5-B8EC-48D1-9345-1B9B8A62390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C2F3784-33DD-4C8B-B2B1-097D305596E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30B9307-B721-44F6-A77E-74E36E29410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F28D33E-4C47-40DF-8A61-9E3EF736F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AA5BD20-7671-44FE-8571-BD92CFA2674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F31D42B-1108-4FC2-81D2-E43FD6D34E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A1436F3-50D1-4E2E-A404-8D0F0AB9B3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389877-57F4-4217-A72A-E660E5C47CD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121FF96-63E9-4460-A5ED-754CD271CDF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C7C62D-3BB7-4C3E-BB3A-B536DC69664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0CB339E-5E80-4BD9-830D-E6B7F5F0D1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C64F84-7CC2-4D2A-B5F7-A176033560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4D2254-495C-4618-940B-24891C0FA3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4EDE2F-5668-4586-99CB-D598AC6106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245341B-96BF-4F82-83DE-2E8D2CF9E7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E2FD386-3F60-4E00-A3E3-5DAC7779CC4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B2958A3-8762-4CBE-83F7-D85FD0FF6DF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8C30553-76E8-4832-B5F5-78F6C87FBE0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882FEAF-F697-4FEF-A64B-976E6CE8E26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0804F49-84FD-4659-A4F5-733BFFFCA8E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0B496BE-5025-4D3D-ACA7-C467D37B7FA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B688A04-4047-4D3E-8243-4B491590E4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C3C216B-0340-4900-B2DC-34737EB243F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43E3A72-65F0-412E-9AF4-8EB983FCBE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F9AE160-71DD-4DCA-A2B7-BB58A731C5B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0AB084-4D04-44B9-A52A-F642F089668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9DF6BF0-7991-4D2F-B268-B7208862AE2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3B43546-38D3-41D2-A412-75D62EBD575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005CCFF-0F5D-4833-ACBE-0B16CDC4A8E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2ABB222-57B4-4EA3-ACA5-BD34570F2E2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DB7424-9EE7-4E21-AF8B-A04DE9B83BC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D768A5-4F4A-41CE-981E-5F72D7DD2B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2C70FA-64C2-486B-A0A4-590193B3A1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C2D7561-E075-4EE7-B994-7E0D66E8B3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28B7A64-62AE-4353-B68C-44DD7DA94C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339216-978B-4B15-A580-814B2898B8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B8CC76-7E08-4D4F-B407-4665169614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23ACAA-E445-45EA-88A0-83EADC7C5E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6625305-0398-4930-BB29-0A302DE5E1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71BFE50-4F13-4CE1-ADC2-A00A24D4896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4EBC92B-F878-4396-9241-56E87893582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9CDE160-5129-4DA8-928A-44054465B22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36E4668-57B4-4298-8F7C-D0C28C89871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92722A2-FAB9-4CB0-BF1D-D8091E7DB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3C18FDE-5A01-445F-9C56-68F14F69C9A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82892C4-F324-4B8E-A631-E160B8A8CF2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F28E4A4-BFAB-4C61-810A-6236A7E9F99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7D0DEF3-F4FF-4592-BF26-8FBBBFC4CDC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0BDDCAF-397D-4690-A9C3-4577522EB83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6BB4094-EF80-4F89-B3BC-3951CDFC997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7DA88E9-72C6-4AEB-93F9-11669AB39A5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FB7B821-770A-478A-A516-16F455F4500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077F934B-73BE-40EA-8856-41CD22A99F9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E890FB3-F9F1-497E-BE35-752684BA0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09DD61E-32D5-407C-B244-741CD929E6C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205EC00-B4A1-40D3-B2C2-197957F8D95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91ED9E8-5F92-43B9-BA0D-17BC82BBA57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77AB7B2-B4E2-4373-B8F0-4DC12A0BBA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AAFFBBD-D30E-4C9E-B4FB-0B96A5DB2B3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7491DEB-E049-41B9-B263-EB6D75D6161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2EFF15F-A2B0-452B-AB25-35D8B4A3E24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8F24961-C2DF-468F-A293-D56F0274954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2F0F9C0-C76B-4BBE-9C26-024155B4BEF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950160D-75E1-4634-9D7E-F8D38265F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BCED87D-FF5D-44C6-A862-B8ABE48E4F3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AA11BBF-3E11-4BF5-BEC2-D5815DFA4D2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50B155F-4163-46F9-9931-5104053EBE9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8D9A661-D57E-4791-BF2D-3EDA1B25F74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11D2744-5760-47A7-87FF-6576616A69A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5C5310E-9A02-425E-AADD-A3D6FB109EE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46E8FE9-3BF9-44AE-809A-C321F4BA57B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DC3820E-1C9A-4D11-8F43-38A4B5BB31A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043F676-ABCB-4B41-97BC-0853034BE46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3096A3C-AFEC-453C-9DAF-7FFF5839E7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D3BD210-D6C6-4B35-B271-E5AD49D79E4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B0944B8-83EA-4AE8-98ED-76C59A3FAC0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FED0228-2339-4200-8FAE-02F3484760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C6EBE-5327-44AF-B9D4-B87B5345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3F55-E16B-4724-B7FA-26CAFCF25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3246-CD0D-4735-9462-C6CCAF9C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8308-9EEF-434C-B674-89722B6BE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D0272-7BD2-419B-85C4-10AE2E71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E3AA-50A6-4070-BE32-84F6EC204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A94A-F1C8-4187-8757-0CBCBFF4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7C63-EF3B-4A4A-9731-67EE34672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2C7F-4624-40AA-87FE-674768B20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D1BC-0DF9-4177-AE58-E088AFF5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B617B-47A8-4839-AF57-C61486F9F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DDBAC-C3F2-4D51-B89E-191444B75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B51AE1-47C4-4945-AB6A-DEBD2B018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029634-71E6-4C20-AB0D-C4AA6D40AC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84A4A3-EE93-4BF3-82FD-4D91FC4E50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3076A9-4F0E-422A-913D-3019FDE769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1CEBC14-62F2-4FB5-AD51-644539364C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54E4EC6-1A2E-4B1F-B5E5-42EEA2D5FD3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80910D-AFFB-4EF5-A44B-12A8A9BB4A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CF7080-DEBE-4019-948D-9BCA03BF73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284160-33D3-4080-82A4-7695397BAFD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436CC3-7191-431A-8A95-AD4B3764F2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0DE0ABA-44DE-43FA-AE81-49CF47039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B8ECC50-B50A-4DB6-87E8-4236DD4E92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1EB1A1-72D3-4684-98ED-3D257DD7458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E0BB2F-22A4-45D3-AA2C-7C8A09BD40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6733C31-2351-4646-B764-ED58732316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FBB544-843B-4B89-A98F-87CEAA3AEB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9704480-FA43-4DD9-AB19-F52348CF9F7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5F586AE-0DF0-4354-840E-EA3CCE03010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22550C-39FB-45F0-A99E-48C55EE561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A62FE1-27D5-4B61-92F5-CCC87E8715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C24632-5196-4DF7-B834-317FF9407E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191CA2-6AD2-468C-A446-913CAF5A62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60AE15B-3C92-4894-A062-83EEDFCDFD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3CE7DC6-41E5-40C0-B9FF-786A7EDF2E9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7D6CD2-9BA4-4A12-AD93-51A0672328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FACB24-BD4D-43E8-94C4-9E68B167B66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9EE16F-CB68-40F2-B3B5-CF188CC421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8D4C338-7A3A-43F9-9FD4-DE1C3459AE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8934AF8-DCC8-4AD9-A10D-5BF968DE874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1931294-AC3C-4F16-A0CF-73D29FC355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F50185-8046-4707-BD13-50B6D992B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FE8E25-D01F-4940-8AC8-B2BFF6C6766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0D01BC-0E63-4CA3-8ACD-2D38F47AE75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406BC6-C290-4E04-9787-FD1F521217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6E2EE14-1195-4617-B839-2655264DBD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75E601C-3C69-4F74-92AC-1078AF7D87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B96A083-5C38-4B28-99CA-2C7329CCB2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C286529-9FB8-4A21-996E-A934CF60C1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2C46E1B-CAAC-46F8-89EA-D334CBE2DC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B151662-9633-4295-9869-F4E4C8BC06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C295F53-6CEC-4719-9FDE-CF49BF5DA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4070114-7668-47BD-9202-499B54EF95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97D73F1-9DF8-428A-8A58-1BCF176791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BE5E53E-923E-4D4B-86DC-8F8666A7FAE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65EDC1B-BA22-446D-8E69-42AF647457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48D1AF2-890E-42FE-9D15-9FF90AD8AA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466EAB2-E985-4A72-99E3-C3EED5B8A6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5A4207E-44BE-427F-BE00-A53D58804A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681866-F552-4421-A17A-590CBA2EE6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DFB79F3-6852-4D2B-873F-9A9EF10DCA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BA6580D-62C4-4E58-A643-CC3521E81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34D83-6351-4BEB-B468-C2498B1585D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62056-F9CF-4198-B248-5FFE3F19FE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17FDD-2B15-4DC9-9001-DB39F1557A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B2D17-33D9-4A74-831E-3CA44D5AEBA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3CC54-CF3F-40FE-A2AE-1ED1A701A9F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C882C-9373-4EF3-86B4-ABF0B123B2D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79DD9-EA67-48B8-831A-9AB929999A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78445-6FD0-404B-B6D5-15F8625A36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6E9F8-11EF-4983-8125-D5A2E4F84CF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EF0E6-3A13-4E41-8DC2-16FC63FAD2AA}" type="datetime">
              <a:rPr b="0" lang="en-US" sz="1200" spc="-1" strike="noStrike">
                <a:solidFill>
                  <a:srgbClr val="898989"/>
                </a:solidFill>
                <a:latin typeface="Trebuchet MS"/>
              </a:rPr>
              <a:t>07/30/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C8B3B-88AB-4E66-8C33-E971831F832B}"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A6D6C-1B09-482D-A8E8-7DE92543B72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58930-146C-4591-910D-D12372749C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A3467-D118-4AC1-811E-5CD927E81D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F4FC2-188E-4A91-8B28-3515D6260B4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701A0-7651-47BE-BDC0-5A61D46939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F993B-57EE-497D-B862-8EACF3519102}"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43F0D-6ACA-4760-900F-177F6D8B93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001A4-5566-4962-9269-665800CDDE3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DF5D9-A7C3-4452-BA66-8456F7C23E2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1D830-7AA5-4D4B-9254-BE3B0A99D44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81A35-522E-401C-BDB4-C7409D7339A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63EE9-73D1-42E9-A32B-E32B609C1C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6535D-1E7C-41D8-8096-6C598C39C31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C1FFC-71BC-4747-82DB-56D9ECB353C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23C77-0F5A-4A01-9E5F-38857A864CF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AF02E-16CD-447B-AB8D-F22350705C6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CEE37-5D46-416D-BB04-DD11A22ADA2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AF0B9-47C6-4FEA-8F84-98BE2AD2B9D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38BD-B43D-4972-8FBD-39086B64119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