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E9EA82-2B21-44E9-A5D2-8017A8D9BEFC}" type="datetime">
              <a:rPr b="0" lang="en-US" sz="1200" spc="-1" strike="noStrike">
                <a:solidFill>
                  <a:srgbClr val="000000"/>
                </a:solidFill>
                <a:latin typeface="Trebuchet MS"/>
              </a:rPr>
              <a:t>07/29/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602DD-27B3-4CD8-81BF-559B0211622A}"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9656EF-AD77-4589-B49D-11861691CC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0F657-FC34-42D1-90C4-E9854C72F2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A78CE8-FCDC-47F2-89E7-BEB28C2F6B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ADEB6F-4AFE-420B-A3A0-937C9BABC1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BB9523-DCCE-4142-BFE8-2F4DF4E3AC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43CB28-BC2B-423A-BC1B-8B2D04C21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8B2BE4-E36B-45A1-8B15-0132899F32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A713E4-6D6B-4493-A173-75A44A409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ADE65C7-060B-4F86-804F-FD084C6A2D7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758D4239-E842-47F8-A235-3025E1132EE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26405A5D-231F-40E1-82F0-C270A272A78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7650623-695E-40C9-ADB6-D799926F7F7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ABCC789-3A8B-492B-97CE-D63ABE8EA3F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57E5E2B-FC86-461D-A197-92B3B624E1F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9586044-3391-43AC-885B-87A99ECB8E3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AB272FD0-323E-4634-A09C-16D6D6A7588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0A9E200E-5B65-4D2E-A26E-350E12C2714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D5C91D8-7436-4EFD-AFE5-6F91C77403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D804213-FC4D-42B9-B431-ADFA3C4E1F3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021D9DA-C2EA-44FC-B756-0657D3EC1DE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DEE479C-3A9A-4ED7-BBAD-572D45F0B89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83B95A32-06C5-4D12-86EC-7A668A82A79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9BF46A95-1670-41ED-9D09-F583D81E71B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4FED7C4-CA48-4754-8A43-88680D35DC4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35413F0-0247-4364-AF17-ECAF571FA0E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C87EC0D-D081-4C3A-B09D-80569421F76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59C74C6-D8A6-4A7B-A30F-2173E6EF8DB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729AA7C4-301F-488F-9AF0-FD3DD91A01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1E85C3BD-6A92-4546-A585-8294BF696B3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048C4E4-51E6-44CB-A0F0-F6EF65603A0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EF587913-E540-4D74-A737-6C4B8A17580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C47FA774-6794-4D00-A807-4910F722B6E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E5B4E83E-852B-4C8D-A9A7-6210849242F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1C7CE715-5842-4753-A607-485A6CB5EF6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42BA434B-FCFA-4C49-A6A8-732618C4488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5BFB25D-90B2-4CB4-8E7C-070B77177AF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5836446-7E81-48AE-B585-E031471C6E1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C8C7A8A-B3F0-4819-AADD-F60E01899D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6B18493C-6F70-451B-847A-A30271B8A15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3C6C7EFB-5A1B-4EC6-AB36-B42EB945FC6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031CA8BB-E156-40D6-82BC-A42666385F3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E3406F8-4AFC-4401-8E00-7E34C6036EB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82692F7-257E-4BF9-8892-2FD66873E27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E7790140-B7C4-43B6-AFDE-FA395D7FFDF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7073F8B7-6282-4532-A7FB-3C5C0BA37F6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3E55990E-4063-4C66-8655-FF693741D17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38CB4528-24B9-4310-B5EE-A7D85B80BF8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D5508D4-1611-4695-B19B-5E4B8EB44D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39612E4-6C72-457A-9A71-7F25F43852A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EBEE75B7-671C-4622-A482-1B4B0746C26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C4CCC5D8-E759-4031-85C1-9FA5EBFB599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A4711845-19A0-479E-AE57-4BC0FA3F6AB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0177EBBE-4E72-4D05-AA15-954FB179978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A979846-E268-436B-9305-DB53BE515D1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7CD17B4-4A2A-4CD1-BD52-5117AEEA242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E1AB851-39D1-4A42-A082-77F46B21072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71189A2-CC3A-4780-AACE-67AA116C1D3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DD58084-3163-481D-9818-E471CD540C5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6172CA3-948D-419F-A83E-BCEE893650B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C1888D4-D2A0-4140-A363-E4194DB15FA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354B851-463D-4E42-95C3-D67F673BD96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730DC1B-2FB2-41FF-9B98-4EDFDAEBEFC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3A8FE27-423D-47DF-8232-A374B9B10A2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50ECF6F-A2CF-4F65-9EAF-6060075D1C7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51AA3B2-E7D7-4A98-8C8E-1FBA0F4B53F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209D412-333D-4932-9C29-D64B9672C0C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2F3BD190-2FC5-4170-A174-62AC7478B23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65FDD395-0E80-434D-ADF0-5FD1C7F3B9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09CAA437-CECC-4AB3-AEB5-3047D1CF456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08518A93-B57C-4696-9E7A-F8C7E50CA7C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48806673-F720-4AC6-B5DC-77C0E1BD5D5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6672D8BC-A37F-4417-BE4C-74A9EE92417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417B2F6-42E2-4CAA-8A30-22D5938391B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652D234F-8E9E-4F9E-9F4D-3F8092DBCC4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BF2C47BA-69E0-4087-89DD-848A04F5C56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E558D985-505D-440E-A777-B2A18EA5893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0A09BACC-0428-4B38-8422-688FC361DD5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A99ECA9-60C6-4A23-BA63-CE2EA9F631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FAF4DBB7-92CF-419E-962A-A6C53358AAE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3C07327C-297E-438C-90F7-2D39274403B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BDD8B023-CBB3-498D-8669-F776403C945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DB8E0C11-F847-4D4F-A0B5-AC840A3A423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C01D7A38-8E6A-4C0E-9F18-3063694A0D7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B9FC605-67E0-4D3D-A602-0AC19E4B071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553944B-39F3-45D1-84DE-84013BA814A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4CE47AF-E9A7-4165-8483-A9101B45A37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9725B1F9-6A12-483E-A936-B090E37B10B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F7569934-C893-4287-BDE4-1F1D74F7A8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24882A80-91C8-463B-99A9-803CFE067E7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2133381-5D2C-423F-BC1B-B764B994C8C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AC4EE0F-C68D-47DE-86DC-C752D128C23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8CCA219-B267-4D62-A3D6-FA0FC37491D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79C63B0-91F0-45A3-9B7C-CD14F7F495E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D9F296F-7838-41ED-AC76-0F4DD9DF31E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3D9755E-502A-4111-957F-941258CE11E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263CF60-721C-48C9-BF61-A4CDC48468D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23A0AD1-221B-49E4-9CDB-E92E5C54B65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3BC8A56-E050-41B6-99A7-8332C776F94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1935665-95E2-43F1-8FBA-4D2729CC628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68890F9-CE37-4405-808C-D9A31D66FA1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97BACDA-E575-47B1-9308-3C8AD83C0B6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4953CBD-CE2B-4D05-A75B-ECF05892A07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648E3BF7-679F-415A-8578-2D2090A9836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32108CD-407E-4A02-9CD2-D7B3818FD6B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8E6F87AC-581C-494C-BF56-6F39E9406CB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A1B6C335-D54B-4229-BB91-7E317BFDC57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BDFB9A01-4BC7-40B5-A334-0CA9709F008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58F1EEB-148D-4B64-8D96-6794B7A118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123A7CB-2973-418E-9C2E-050CD9CD339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6BAFFD6-18CC-44FE-9BF5-FBBB8A1F134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37A7D291-ADB9-4C16-9CFD-05EEF56F4D5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6085ED07-30A2-4635-A0BD-F33E16B8CB1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69DE4092-94D5-40CD-8157-9181456BB98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388C457-063D-4AF3-843A-20F1C27444E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2CC4671-6B73-431C-866A-C8F9304E7E5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9EB304F-DDA6-486D-8816-EB6DD205DF1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8D9057A-1BB3-4B07-A983-848A1C3C690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BF72B5C-F2DB-42F7-B6B8-80B1D351859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9F0475F-341B-4C34-8DCE-870F587E9CE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95B2A45-53D3-47E9-A30D-68F096F2F63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8E420B4-020E-4DE2-83C6-4B77C1AC9B2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44860DB-CD53-4964-9E2F-BE147D41857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069EAD7-6F89-480E-B630-9E53FBC4C8B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C7260B1-2EF1-46FB-9EBC-7516E254230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00A3A1D-3275-40FD-B82A-1B893785F39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70B5DBDC-9A5B-4490-8428-B8A37474529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9DE7D5C3-39A6-4993-B0FC-B114E8E295A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A7196A2C-455D-437F-9506-4B66D9990A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BBAB974B-BA73-41A9-A6E1-740D2417103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5C8B0483-E010-4692-9535-FED4CE088F5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8C14F3BE-510D-409B-BA18-73D8E9C849DF}"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063EEAB-4C6B-43BE-90A3-27D3B9766CF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23E1518-2E41-4159-A8E1-49C915E542F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70DD692-5CD9-416C-8B95-C49414B036B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746ED0B9-00C7-40B5-8323-F2086AA56D0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A5CF968A-AD6E-48A7-A021-2145A0405310}"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803B66E1-297D-46F7-8A63-99F42CCE611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81555F16-F645-4BBA-91AF-BE7087C062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E1AC400A-929C-412B-9314-586926F7BAC8}"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BF97C718-52E0-4DCB-907F-5F4C07497D8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4747F55A-762E-43CF-B397-4BC96031DF2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2791F4BA-D3E6-4590-AA30-9D176A07D1B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5821FC84-6670-4C0C-ABFE-70093C0908C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89DC0BE4-9000-44D2-9A10-CADCBD1A1EC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81D8C27-B7AC-4797-A98F-1A565F94602F}"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684984D9-F0A4-4B13-82D4-F030047CD18B}"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D210F941-7BF4-493F-856B-E689DB11414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8859F430-FE85-426A-B3CC-8F8C33A120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33ADDE2A-0C9B-47B7-91CC-D1B9B16A93A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48604D3-11B1-4917-883E-5021B119C5A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DAD4C493-2B01-4C76-A3DE-93BED76117F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819C1FC-65FE-4D48-93BF-9F1233018AB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508C838E-FC0B-439E-8CBB-70E4E3E9084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1FAED577-4505-4121-9AF4-7F324648C9A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E9C2B54A-F704-4570-BEC2-2202B992784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3CA2C853-B3D8-4176-BAE2-C86526ADEF1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7D402E10-6ACF-4D23-A069-83716F7C5A7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8A8FA10-DC84-4D1A-AB5E-E911EC5398A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D8795C6A-AE55-4F83-A7E6-BF543C6872C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AB6BAAFE-EADF-4976-8D67-258F167AB39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FFB0E7DF-D47C-4E92-B334-7C67882A064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72DCD-87FD-4AE8-B331-CFBE65060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36BD1-3266-4EE3-BC5C-F234D523F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7FFD4-442D-4FC5-B8AF-130FDE2C4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E8B92-D3F2-4924-9FF0-AE73F1C57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70BE9-BD3F-4352-93FA-F08320F08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D9A9B-625C-4247-83A7-E40FDCE88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FD12C-D8D5-456A-9728-718E52F6C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4B2B7-6DC8-4B9E-B16E-E05492644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E47F3-D89E-4F7A-B6FE-9C6B1F45A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C9759-473D-4091-9E56-B856AF0DD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73015-77D1-40A5-BF17-E1F48074C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82189-FE8F-4732-A328-87E63FA9A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ECF9C5-99EE-482C-B6E1-C6CF1308D0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E157ED6-88C0-46BC-BDBD-E03254E7584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42460E5-643E-4859-B21E-14AE1A7E925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A07C5BF-A8DF-4D15-8689-A1698599198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D9A840BA-FE49-4759-8D1D-DD02F4A9FC0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ACD0FC4-1D86-497A-832F-83B350325D3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F144A49-D784-43FB-9D0B-B4028F592CC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458F73D-E36F-4992-8E6E-34164892ADB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D53A2EA-D2C9-49A7-BAF3-44ECE2DC0A1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6D0039C-C371-482C-85FF-C5A592B6F1D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C0082B3-3F65-4484-9B50-B9B1D7F0CE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99AE2E4-C06E-4FF2-94CF-CEBEAD86056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413446D-01B6-42BF-9838-F7CF4EB5F34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22A82B4-91C5-43C7-97AC-A2CCB274EA7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7299895-9199-4E91-A378-F8C09713B49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6C4FC79-7F0E-4304-9E3F-FE7B26051B8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19DE21B0-9801-41DD-A507-A0D1B6A4F28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2F9E320-D56C-4966-A700-CFA54F2F273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C94F753-2D62-4330-9642-E7C88FFACEC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DF02F91-71DC-467A-A825-5C4A3569BA6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3E9F1FC-70D7-4DAF-93F0-40C2BA0907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6D408E9-2FEA-4A2C-A2B1-1F0B2D1B57F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AA73EAE-325C-4DF7-A0C0-E3F0C5032C4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0C0E242-70FF-4D6D-B48E-E5ACC046808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800960B-CDDC-46EC-B6E9-BC53E89CE50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FE5A496-94EA-48CE-B221-F8A87B6A7B2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47E0922-140A-417C-8316-811C7B1B08A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DBDEFD8-5229-4E01-8758-BADF4D5A05C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35172F50-14A6-4A73-B619-98141B85DF1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3DC6CF6-0097-4D3C-98C2-CF59A13A171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0AF72AD-4E54-4C16-9E56-8E633F2826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45E2AE9-1F02-450E-9097-18D8BCF312B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CB8E9A7-E39D-4967-A73D-F2CA2C28E54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17D8826-B31F-4639-A0D4-2173F83B418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A26A1A9-4CBE-462F-80AA-04C1A314411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0250455-79D8-4D93-A740-2609E98C18A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BD794FD-F8FF-45B4-A191-AAFB1763EFB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86EDBA8B-756F-4655-A799-DCE527C267D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F0AD6728-FC9B-4ADD-B8DF-9FD5B5BF0E5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5F42DDD-45C2-47C7-A1B7-D28F67C4A7B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1F8B0755-384C-4B62-8956-31A3CA9A9B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C1B0834B-26FB-4E71-8A29-F4B43A5BEBF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520D86F-B4F1-4B78-9F53-27786DEE333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D93403A-3297-420F-9679-D5DA5D22585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44F8779-A708-469F-9BB7-07704B5DDB6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9BB834FF-307A-42B7-BDD2-D5ACAB8BB81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54CFC47C-9AD0-4BEB-9B3B-73CCC25E23A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C02F0950-C3C2-4393-8261-4700A0FDEC8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8419B8C-AB7B-46AE-99DB-AED24A2F63D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8A61B553-B252-47DE-BF47-CA47D543E9C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3CE21B5-89F5-46BD-A5F3-5E2C105630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93F41-A33E-4383-B16A-57452AD4D22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C8C976-392E-4B21-A0CB-615CD285483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D7D75B-4F72-4834-A13E-183DC11A230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A5185B-DDB7-4EE6-86D6-6C72F431EA38}"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C73EB-86B7-4F4B-8D2F-A386065A7B0B}"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9155B9-B3EC-4393-A081-1D7EE9A9D137}"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4BE17-AC1C-4DA8-9AC4-299C7A4103C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B102A5-AC6B-4A62-95AD-4B9D6FC6F97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FC362-846C-4005-9419-FBBBF1A388C4}"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7A2A9-CAFD-42D6-A9D5-0D173EC32856}" type="datetime">
              <a:rPr b="0" lang="en-US" sz="1200" spc="-1" strike="noStrike">
                <a:solidFill>
                  <a:srgbClr val="898989"/>
                </a:solidFill>
                <a:latin typeface="Trebuchet MS"/>
              </a:rPr>
              <a:t>07/29/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6FBBC6-68D7-4311-A4C0-DC17A9B7892C}"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45C67E-6133-477D-A042-C275117AF44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44735-8919-4EAA-B2C0-53FAA909D21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851000-CC65-4D92-9D73-8A97F4AD2F4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7D19E8-0380-4E9C-AB3F-B6C93A29B57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2AFED4-8A94-4E73-942B-CB85F6EAEF5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6E9C77-72E5-47A3-9ABD-F5615DC362A6}"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A9E330-9256-40DB-A00D-E41199BDE08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E8BB4B-5866-4093-9977-826ABB8C171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04A8A-9090-41F2-B404-7403B4FAE20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EE876-5352-48B7-9808-C2716E5AFAE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EFC7D9-6B00-4423-A110-CE3607782C23}"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5B3A16-5A5D-403A-BB98-D675BBE4D2E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E0D94F-8E2E-4AD0-B47E-A7820789709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F2F5F6-5F11-455B-8031-841BDC00D09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7EB460-8DB1-42E5-BA46-E99B09825E4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62C641-EB04-4BB1-8677-230CEDED2D3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95BDFF-6CDC-4C9F-948E-903007029FE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732C3-5024-46E4-B886-76339532E8D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2F2AE-4D5B-4CBD-93ED-E91B245C2F8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