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36558D-9BA3-4DA4-9D88-1E71B8CDACDE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E98DAB-CF4A-482A-A725-C207B5084661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5B027E-C6C0-4482-808C-307CD0A28BA5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27925B-2DFE-4706-A0F2-C2064945D10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7BBCFD-C344-4061-966C-12145293325E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36E920-C26E-4091-ACF3-D4C2AC6E843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6A25E4-5EA8-406C-AD8D-EF01B06E1DC3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939D08-52EA-4B4F-A722-C5B36B3BDE6E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2F546C-F3C0-4037-94AF-6B0547EA83D5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26263F-7536-4A0C-B7FD-F6B82ED35F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9D0919-15C9-4539-AE41-38416B700213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155798-B9D3-4930-AA1B-49919281A63E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8B1AF0-DA19-422D-854B-B3595C7169CE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ADD933-D2F7-4929-A13D-F222AFDEF236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D86DAD-1054-4C66-BF5C-76372E0675B0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9AE8AC-3D25-4626-8078-75B726DFBB07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B8A054-F95C-4195-8E90-B3CE62047AA3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F62749-4C8D-46CA-AF75-928E2588EBFB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0FBEFD-D912-4D03-9469-E0276CFB16A6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BDFE69-56B6-4802-9631-A50D3212DA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25208E-1502-4016-8B4C-20C8B38F5048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3117F-E19E-4FFE-8761-D85A82161A3B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B9245-4361-4AA5-AB9A-606C490F2106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0B6F8-4BF7-4F13-A0B8-B22234EF5EB0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E5C34-4769-4551-AE92-E4FD050FC4CE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B6D48-C667-4F21-808E-1B3391D8C41C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919B0-7989-4263-8192-352611AB6CA8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95B2C-5C92-4DAC-9F62-01CF32A52015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4A9FA-47B9-45BE-AEAB-EF864D11791E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9FCC8-98CD-48B8-A3DC-C8335DFFF1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04968-59FB-4B92-88D7-A5A1DA69DDF0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E8A53-4E8C-41F9-A374-D0FF277486DF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A432B-E905-48CB-ACB8-F470CA574206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6BF7A5-41F2-4C10-AF2F-A65D6298C69E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2B0136-8699-465F-98F7-44FAB54651DA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F74754-C9D3-4F37-BEF5-DA569ED1A21E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8EBA58-E658-4955-A6D5-9808C9FB2B73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7EABB5-D303-4A5C-8239-B64E85C47DD4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B3E48A-2609-4CFA-9B62-0A597077EA67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9DAB8B-275C-474D-8B62-04BA7F8CEE6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4E5426-3558-4535-8385-BCAFE30F589C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9BA232-83F8-448A-A478-19D2CA73F637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22E9FD-F54C-4324-9774-5D986CB8E0AB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DC0371-2CEB-4439-96FF-3A0303381071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CF9310-D909-4AAB-A8ED-8C1DC6192385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57565C-819A-4CA1-8F42-1DAD2EA5789D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A3E29E-4EB3-490A-A964-564AECF70706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7A2FD4-680A-4871-90AF-2CA12C6F0912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176F91-AA17-48D3-A3AA-D4A96AE4032D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3077A0-C68F-4041-8295-96AF9B8AA8C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FF3B6C-E336-4E01-BE79-AF98AFD5A19A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C35740-25BD-4BD3-BE59-24B7F7CD89A3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B4DE10-9789-4FB0-BE0E-5DB9359E06C2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52213E-35C3-498A-B22E-FCF5680A06FE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17C374-E819-4B13-9AC1-52902346EE5E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9DAA7E-9E21-42CF-B223-63D93BCB1F85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22C270-5EF6-4631-9BCD-3AE0B81172F7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A058B-E2BC-4D8B-89D2-8BEDCB6F2834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82FBD-64DF-4D67-AA68-FBB744CD09F3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F1CA8-F10C-4E69-8EBC-EE2E458768D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8B132-3C40-4446-82E1-3BD36DEAB788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BEB1F-D544-4911-94AD-EEEFB422BF8E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7613D-4602-4226-94C8-B108A89677D7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12EA6-E92D-49C1-9B31-7D479A8B3CC8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7CE61-4097-49A1-BF5F-F1AD4871179F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9C045-867C-4A6D-9973-FA8EE3FBE248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A8CEA-5216-43D1-AD5D-1751D05DB4DD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2E621-109A-4E27-8897-0014752E16BE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5D03A-74E2-4C27-8968-92187D4B757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2A7F-3D37-4549-B053-60AFFCE9B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445A-7C3F-49A1-8565-F758941A9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F936-4F3E-4FED-B7D8-27C4E93E5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8F29-CCE6-4D97-AC36-268899411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6E26-7365-481A-80DF-1B2EB3E11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F738-6EEA-444A-ABD8-9F5A5BCD9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43AB-3EEB-474B-8EB3-6889C8E0D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CAD9-C6E1-47F0-851F-71FEA2D2A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B5A4-C8E5-4055-9012-B382B859B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5682-C1EE-4E99-9318-775D44E6C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BD61-A8A2-411F-98B9-A18B739F0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828E-E673-4749-BAF6-45FB4FD74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CD1CD3-32F3-4F5E-84BE-2934B39BAE78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4A7A24-F718-488E-9017-8E2A4A33DA4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805BCF-6F1A-41BB-A2BD-6E6A080F3D5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CDC1A5-25E7-4EF8-B1CF-9168E2163D0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888792-C6F3-4D9C-96FA-09185BD2FD8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18E4AD-6BC5-44A8-B006-5CCDAAA8922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2E233E-D682-4427-9A25-82734073B58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2E0EF3-89EC-412D-9FD8-04ECB5D6258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B345FE-0989-4D89-8D69-8C69645E5D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9C71EC-E17B-447F-A829-870867C6B7E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C6A8D2-A1A0-4256-A979-380BA798502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8E1F87-66B9-486E-A16D-D06F45949A24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297100-2260-4EB3-84E2-F108472DF34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C52CDE-444C-4795-A810-16598ECE939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34ACB0-0B2D-4C53-ACFC-D86001C907B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B38B2F-DD4F-4EA5-9FEE-7F873A3BC2EE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7B3E14-B8B6-408A-8D1E-77738E2499C8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C3957D-A465-4219-A8FE-2891F16F3E1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C0A78A-4C88-4BEC-BA16-7DB1061DA2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0C7AD6-2FBA-4498-B881-90FE19A6028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89C052-20B2-4A5E-9051-8378CDC3BC8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731766-1D12-4498-B6F1-B63FDB298AF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659CF9-9490-4DF4-B6D5-BCB9CA263B5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CA5983-8D60-460D-9D35-5725C241628B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6E287-DEFD-4F53-9DA5-99CB0629E8DF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E9DDC-97F5-4560-BCB9-8B8766E142A0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66EBA-9063-4536-BDC9-8837823D6EC3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04C83-CD8E-49DD-8C1E-9B52A3090C5A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FA47B-6009-42DA-B319-1C158A7A39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7F03F-025C-4A54-9056-5AE11264F32E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7DC0E-796C-4A18-8C9B-AFDCBCD51D2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1C624-D10D-4C99-BFD4-0AD134DDF955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4A554-E077-400D-952C-39922A5F757D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322EE-1862-47B6-A6CD-B5CA8F4D5591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B4760-D913-4770-AA08-79E43BB700FF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B2A72-C003-4D58-9DC2-59A62BF904B7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4CE1E5-DF56-4232-A6C1-3F915AD9BDA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8C59B4-456C-462F-A6DE-B8AFA76A8F0F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2FA742-A503-4941-9208-2825D5A39E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63360" y="-6336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5AE6DE-ADDA-4A8F-A6CD-873C4519697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386" name="TextBox 2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3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E47225-DAB3-469D-AAB0-C6BDCD1A206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426" name="TextBox 2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4F6A7F-AA43-4E7A-B7BA-F5E377A1BCA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465" name="PlaceHolder 1"/>
          <p:cNvSpPr>
            <a:spLocks noGrp="1"/>
          </p:cNvSpPr>
          <p:nvPr>
            <p:ph type="sldNum" idx="11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5B1A9A-9EA0-42CA-A71F-B71D35E8EC3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503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73BA9B-1C9C-4545-A2CD-5F8639F5580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785DF7-6975-4236-B638-F04CA9EFA33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8518A3-8075-4A51-A361-76CCCEBB55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F3EEC7-B7CD-4169-8ED9-0D29B670561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7799E3-DEF4-4A51-8971-92B691335D4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270" name="TextBox 2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Num" idx="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AFA952-BC84-4710-A9A3-F67D8132925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309" name="TextBox 2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77FB6C-E898-4EB1-8790-0392F8129FB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icann.org/en/public-comment/idn-vip-proposed-project-plan-20feb12-en.htm" TargetMode="External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cann.org/en/minutes/resolutions-25sep10-en.htm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community.icann.org/display/VIP/Home" TargetMode="External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IDN Variant Issues Project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(VIP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1371600" y="2895480"/>
            <a:ext cx="6400800" cy="20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Calibri"/>
              </a:rPr>
              <a:t>Project Update and Next Step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Calibri"/>
              </a:rPr>
              <a:t>11 April 201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Slide Number Placeholder 1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DCF35D-4FBE-4701-BBE5-2497361AED6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Integrated Issues Report: Objec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82" name="Rectangle 2"/>
          <p:cNvSpPr/>
          <p:nvPr/>
        </p:nvSpPr>
        <p:spPr>
          <a:xfrm>
            <a:off x="2752560" y="1371600"/>
            <a:ext cx="58676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dentify the sets of issues relevant to all the studied scripts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dentify any sets of issues that are script specific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Provide a brief analysis of the issues, including the benefits and risks of possible approaches identified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dentify areas where further study or work could be pursu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46909F-1FDF-4697-A4DD-BBE743AB6FD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ubtitle 1"/>
          <p:cNvSpPr/>
          <p:nvPr/>
        </p:nvSpPr>
        <p:spPr>
          <a:xfrm>
            <a:off x="1582560" y="2286000"/>
            <a:ext cx="6172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Integrated Issues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Report out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87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94E5F8-BA30-4E4D-98B8-AA4FB8CF999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Box 5"/>
          <p:cNvSpPr/>
          <p:nvPr/>
        </p:nvSpPr>
        <p:spPr>
          <a:xfrm>
            <a:off x="2797200" y="1152360"/>
            <a:ext cx="6238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xecutive 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1 - Overvi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2 - Project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3 – Range of variant case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4 – Establishing variant 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5 – Treatment of variant 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6 – Other related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7 – Discussion of potential additional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hat is a </a:t>
            </a:r>
            <a:r>
              <a:rPr b="1" lang="ja-JP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“</a:t>
            </a: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variant</a:t>
            </a:r>
            <a:r>
              <a:rPr b="1" lang="ja-JP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”</a:t>
            </a: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91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010F20-EA93-45D2-A053-AE7580B445E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Box 5"/>
          <p:cNvSpPr/>
          <p:nvPr/>
        </p:nvSpPr>
        <p:spPr>
          <a:xfrm>
            <a:off x="2438280" y="990720"/>
            <a:ext cx="65977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No commonly-agreed defin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Used to refer to a number of different conce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Report continues to use the term in a loose sen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More specific terms are recommended, e.g., 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variant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 with a qualifier to give mor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Scope of the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9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433EC0-B1FC-4B84-AE28-5DBD648942F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Box 5"/>
          <p:cNvSpPr/>
          <p:nvPr/>
        </p:nvSpPr>
        <p:spPr>
          <a:xfrm>
            <a:off x="2590920" y="1490760"/>
            <a:ext cx="62388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ssues discussed concern IDN variants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at the top level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(i.e., IDN variant TLD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Other related issues are discussed as relev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Classification of identified variant c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AB5EFE-D05C-48EE-9534-D775791FFDC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Box 5"/>
          <p:cNvSpPr/>
          <p:nvPr/>
        </p:nvSpPr>
        <p:spPr>
          <a:xfrm>
            <a:off x="2797200" y="1295280"/>
            <a:ext cx="623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Picture 2" descr="Variants"/>
          <p:cNvPicPr/>
          <p:nvPr/>
        </p:nvPicPr>
        <p:blipFill>
          <a:blip r:embed="rId1"/>
          <a:stretch/>
        </p:blipFill>
        <p:spPr>
          <a:xfrm>
            <a:off x="914400" y="1828800"/>
            <a:ext cx="723888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hole string variants vs. code point varia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0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A722A8-C408-4781-894F-A334D01604F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Box 5"/>
          <p:cNvSpPr/>
          <p:nvPr/>
        </p:nvSpPr>
        <p:spPr>
          <a:xfrm>
            <a:off x="2666880" y="1488960"/>
            <a:ext cx="6239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Code point variant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 based on a relationship between code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.g., a single code point is a variant of another code point or sequence of code po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Whole-string variant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 based on a relationship between whole str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.g., their meaning to a language commun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07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A7C7C0-D9A1-48E4-BB99-F92E5D554D2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Box 5"/>
          <p:cNvSpPr/>
          <p:nvPr/>
        </p:nvSpPr>
        <p:spPr>
          <a:xfrm>
            <a:off x="2514600" y="1600200"/>
            <a:ext cx="6238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wo El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Code Point Repertoire for the Root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Label Generation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11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7E8DD7-F67A-4C58-BEC0-835A560ABB8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TextBox 5" descr=""/>
          <p:cNvPicPr/>
          <p:nvPr/>
        </p:nvPicPr>
        <p:blipFill>
          <a:blip r:embed="rId1"/>
          <a:stretch/>
        </p:blipFill>
        <p:spPr>
          <a:xfrm>
            <a:off x="2792520" y="1219320"/>
            <a:ext cx="6248160" cy="4529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the Code Point Reperto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1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82A552-BF2E-49A3-A157-10A2EBC7C4F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Box 5"/>
          <p:cNvSpPr/>
          <p:nvPr/>
        </p:nvSpPr>
        <p:spPr>
          <a:xfrm>
            <a:off x="2797200" y="1295280"/>
            <a:ext cx="58896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ssu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ich code points selected for inclus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expertise required for selectio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ow future changes in the valid and/or permitted code points are to be handl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Trebuchet MS"/>
                <a:ea typeface="Trebuchet MS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00F910-4432-4BC8-BC6C-A998AB3EBB4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2590920" y="1523520"/>
            <a:ext cx="5867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1) Project Overview and Goal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2) Case Studies and Integrated Issues Repor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3) Next Steps:  Project Pl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4) Discussion and Ques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19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4F6B84-6D59-4EEB-90B1-F8F9DEF9BB4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Box 5"/>
          <p:cNvSpPr/>
          <p:nvPr/>
        </p:nvSpPr>
        <p:spPr>
          <a:xfrm>
            <a:off x="2797200" y="1219320"/>
            <a:ext cx="6238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abel Generation Rules (LGR) for the Code Point Repertoire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dentifying code points that are variants of one another, and the code point substitution r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stablishing the status rules applicable to labels containing permitted code po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Creating Label Generation R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2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B9DD53-D71A-4172-9AA2-921FFB7E54C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Box 5"/>
          <p:cNvSpPr/>
          <p:nvPr/>
        </p:nvSpPr>
        <p:spPr>
          <a:xfrm>
            <a:off x="2797200" y="1295280"/>
            <a:ext cx="623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ssu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expertise required to determine code point variant rul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ich label states are permit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flexibility should be provided regarding use of code points with different script proper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Treatment of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A637AF-51C1-4FCC-90AE-B38FF7FF58E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Box 5"/>
          <p:cNvSpPr/>
          <p:nvPr/>
        </p:nvSpPr>
        <p:spPr>
          <a:xfrm>
            <a:off x="2590920" y="1830240"/>
            <a:ext cx="6172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ossible states identifi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ctivated, Allocated, Blocked, Delegated, Mirrored, Withhe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sulting user experience and ICANN/registry/registrar operations dependent on which states are employ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User experience consider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30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10F5D1-E554-47E4-B90C-4F5A8543608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Box 5"/>
          <p:cNvSpPr/>
          <p:nvPr/>
        </p:nvSpPr>
        <p:spPr>
          <a:xfrm>
            <a:off x="2743200" y="1676520"/>
            <a:ext cx="5791320" cy="34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Many types of users considered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apabilities w/r/t the script:  full competence, limited competence, or no familiarity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User roles:  system administrator, other network operator, domain name registrant, software developer, law enforcement/security, end user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Themes in the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34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4E82EF-F515-42D9-AF42-5AF2F6AE4A4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Box 5"/>
          <p:cNvSpPr/>
          <p:nvPr/>
        </p:nvSpPr>
        <p:spPr>
          <a:xfrm>
            <a:off x="2743200" y="1295280"/>
            <a:ext cx="5791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ension betwe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nterest in creating greater functionality to address a range of potential variant ca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ifficulties of meeting those objectiv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isks and costs are signif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Need for cost-benefit analysis for each potential mechanism to balance risks, costs, and benefit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39C07C-D247-4BD8-A029-D2521D8B574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1904760" y="22860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Next Steps:  Project Pl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otential next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40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06876A-22A3-4762-AF5A-65B4FC028A9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Box 5"/>
          <p:cNvSpPr/>
          <p:nvPr/>
        </p:nvSpPr>
        <p:spPr>
          <a:xfrm>
            <a:off x="2743200" y="1676520"/>
            <a:ext cx="5791320" cy="38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veral potential projects identified in the Integrated Issues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Open for public com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rebuchet MS"/>
                <a:hlinkClick r:id="rId1"/>
              </a:rPr>
              <a:t>http://www.icann.org/en/public-comment/idn-vip-proposed-project-plan-20feb12-en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mment period extended to 8 April, with reply period through 29 April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1:  Label Generation Ruleset Tool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A30001-E9DE-4029-B694-6BC98CAA18C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Box 5"/>
          <p:cNvSpPr/>
          <p:nvPr/>
        </p:nvSpPr>
        <p:spPr>
          <a:xfrm>
            <a:off x="2743200" y="1676520"/>
            <a:ext cx="5791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evelop the specification for a standard tool for listing the allowed code points and the label generation rules, and for the generation of the corresponding variant labels, if an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(Specifies a standard format for an IDN t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Placeholder 3"/>
          <p:cNvSpPr/>
          <p:nvPr/>
        </p:nvSpPr>
        <p:spPr>
          <a:xfrm>
            <a:off x="304920" y="2514600"/>
            <a:ext cx="213336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 </a:t>
            </a: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41,880 FY12 $80,520 FY1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Already ongoing; Not dependent on having variants in the ro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3:  Examining the Feasibility of Whole-String Varia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248DE0-F4CC-427F-B072-73E864FED7B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Box 5"/>
          <p:cNvSpPr/>
          <p:nvPr/>
        </p:nvSpPr>
        <p:spPr>
          <a:xfrm>
            <a:off x="2743200" y="1676520"/>
            <a:ext cx="579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udy the feasibility of unambiguously identifying and implementing whole-string variant TL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21337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122,512 FY12 $130,55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59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5:  Examining the Technical Feasibility of Mirror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17BFD5-13CD-4276-B06D-CE563515D6A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Box 5"/>
          <p:cNvSpPr/>
          <p:nvPr/>
        </p:nvSpPr>
        <p:spPr>
          <a:xfrm>
            <a:off x="2590920" y="1589040"/>
            <a:ext cx="608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udy the technical feasibility of mirroring variants in the root. Particularly the feasibility of ensuring that mirror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s beyond DNS, in applications like Web, email, FT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(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irroring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means a mapping of 2 or more namespac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304920" y="25146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88,890 FY12 $177,08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81932B-E48E-47D0-B8C9-F17C5931B80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1904760" y="236232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Project Overview and Go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7" name="Picture 13" descr="tagline.jpg"/>
          <p:cNvPicPr/>
          <p:nvPr/>
        </p:nvPicPr>
        <p:blipFill>
          <a:blip r:embed="rId1"/>
          <a:srcRect l="0" t="0" r="0" b="36540"/>
          <a:stretch/>
        </p:blipFill>
        <p:spPr>
          <a:xfrm>
            <a:off x="457200" y="1981080"/>
            <a:ext cx="123336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6:  Examining the User Experience Implications of Active Variant TLD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B14849-D78B-4B0D-AC9F-CF7AE26AB60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Box 5"/>
          <p:cNvSpPr/>
          <p:nvPr/>
        </p:nvSpPr>
        <p:spPr>
          <a:xfrm>
            <a:off x="2590920" y="1654200"/>
            <a:ext cx="608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udy the implications on user experience of variant TLDs in both mirrored and non-mirrored implementa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04920" y="289548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53,930 FY12 $426,512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2:  Label Generation Ruleset Process for the Root Zon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A83247-FC0C-405B-977C-FDBF57131DE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Box 5"/>
          <p:cNvSpPr/>
          <p:nvPr/>
        </p:nvSpPr>
        <p:spPr>
          <a:xfrm>
            <a:off x="2743200" y="1447920"/>
            <a:ext cx="579132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roject 2.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termining the approach to developing the code point repertoire and the label generation process for the root zon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Project 2.2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pending on the outcome of project 2.1,work is to develop the code point repertoire and the label generation process for the root zo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2.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627,42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2.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Not estimat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4:  Enhancing Visual Similarity Process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965633-DF33-4CD8-B04F-F1A2DD7F22E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Box 5"/>
          <p:cNvSpPr/>
          <p:nvPr/>
        </p:nvSpPr>
        <p:spPr>
          <a:xfrm>
            <a:off x="2754360" y="1252440"/>
            <a:ext cx="6084720" cy="42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roject 4.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velop an enhanced visual similarity process for the root that is predictable and repeatabl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Project 4.2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pending on the outcome of project 4.1, work ranges from keeping status quo to using tools like the LGR tool to identify visual similarity using a deterministic approach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4.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661,23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4.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Not estimat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7:  Updates to ICANN</a:t>
            </a:r>
            <a:r>
              <a:rPr b="1" lang="ja-JP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’</a:t>
            </a: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s gTLD and ccTLD Program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68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C09DE7-E9E9-41B9-B066-AF705BB0E4D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Box 5"/>
          <p:cNvSpPr/>
          <p:nvPr/>
        </p:nvSpPr>
        <p:spPr>
          <a:xfrm>
            <a:off x="2754360" y="1447920"/>
            <a:ext cx="608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cope of work depends on the outcome of projects 2.1 and 4.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s proje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implement the changes that may be needed as a result of the Label Generation Ruleset and the enhanced Visual Similarity processes in the new gTLD and ccTLD processe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8:  Updates to ICANN and IANA Opera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72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076195-F8B8-4D87-B2B7-09AF9495F1B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Box 5"/>
          <p:cNvSpPr/>
          <p:nvPr/>
        </p:nvSpPr>
        <p:spPr>
          <a:xfrm>
            <a:off x="2754360" y="1447920"/>
            <a:ext cx="608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cope of work depends on the outcome of projects 2.1 and 4.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s proje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implement the changes that may be needed in ICANN and IANA processes and operation as a result of the Label Generation Ruleset and the enhanced Visual Similarity processe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IDN VIP Next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Slide Number Placeholder 4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7C9CB5-7162-4FC3-9B48-2BFBB566669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Diagram 4" descr=""/>
          <p:cNvPicPr/>
          <p:nvPr/>
        </p:nvPicPr>
        <p:blipFill>
          <a:blip r:embed="rId1"/>
          <a:stretch/>
        </p:blipFill>
        <p:spPr>
          <a:xfrm>
            <a:off x="219240" y="762120"/>
            <a:ext cx="8888400" cy="3127320"/>
          </a:xfrm>
          <a:prstGeom prst="rect">
            <a:avLst/>
          </a:prstGeom>
          <a:ln w="0">
            <a:noFill/>
          </a:ln>
        </p:spPr>
      </p:pic>
      <p:sp>
        <p:nvSpPr>
          <p:cNvPr id="677" name="Line Callout 1 5"/>
          <p:cNvSpPr/>
          <p:nvPr/>
        </p:nvSpPr>
        <p:spPr>
          <a:xfrm>
            <a:off x="2622600" y="3505320"/>
            <a:ext cx="1600200" cy="1752480"/>
          </a:xfrm>
          <a:prstGeom prst="borderCallout1">
            <a:avLst>
              <a:gd name="adj1" fmla="val 18750"/>
              <a:gd name="adj2" fmla="val -8333"/>
              <a:gd name="adj3" fmla="val -43814"/>
              <a:gd name="adj4" fmla="val 50671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Box 15"/>
          <p:cNvSpPr/>
          <p:nvPr/>
        </p:nvSpPr>
        <p:spPr>
          <a:xfrm>
            <a:off x="262260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cludes board decision on types and states of variants to Impl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Callout 1 7"/>
          <p:cNvSpPr/>
          <p:nvPr/>
        </p:nvSpPr>
        <p:spPr>
          <a:xfrm>
            <a:off x="5670720" y="3505320"/>
            <a:ext cx="1600200" cy="1752480"/>
          </a:xfrm>
          <a:prstGeom prst="borderCallout1">
            <a:avLst>
              <a:gd name="adj1" fmla="val 18750"/>
              <a:gd name="adj2" fmla="val -8333"/>
              <a:gd name="adj3" fmla="val -43814"/>
              <a:gd name="adj4" fmla="val 50671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Box 17"/>
          <p:cNvSpPr/>
          <p:nvPr/>
        </p:nvSpPr>
        <p:spPr>
          <a:xfrm>
            <a:off x="567072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cludes board decision directing staff to implement the variant proce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Time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2" name="Picture 9" descr="Untitled.png"/>
          <p:cNvPicPr/>
          <p:nvPr/>
        </p:nvPicPr>
        <p:blipFill>
          <a:blip r:embed="rId1"/>
          <a:stretch/>
        </p:blipFill>
        <p:spPr>
          <a:xfrm>
            <a:off x="0" y="1384200"/>
            <a:ext cx="9144000" cy="4078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20DCA9-E50D-41B8-A5A8-C9C16530F72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2590560" y="255276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Discussion and Ques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2800440"/>
            <a:ext cx="77724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hy this pro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F66C3F-4CC0-437C-ADD7-6304D43B2C4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2590920" y="1676520"/>
            <a:ext cx="571500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ong-standing request from a number of IDN user commun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Board direction to develop an issues report on the sub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rebuchet MS"/>
                <a:hlinkClick r:id="rId1"/>
              </a:rPr>
              <a:t>http://www.icann.org/en/minutes/resolutions-25sep10-en.htm#2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13" descr="tagline.jpg"/>
          <p:cNvPicPr/>
          <p:nvPr/>
        </p:nvPicPr>
        <p:blipFill>
          <a:blip r:embed="rId2"/>
          <a:srcRect l="0" t="0" r="0" b="36540"/>
          <a:stretch/>
        </p:blipFill>
        <p:spPr>
          <a:xfrm>
            <a:off x="457200" y="1981080"/>
            <a:ext cx="123336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CEBE45-39EC-4744-AA4E-095176BE91A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1828440" y="22860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Case Studies and Integrated Issues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IDN Variant Issues Project Phases 1 &amp; 2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1728A0-A4D6-4B38-8740-9637643C334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ight Arrow 4"/>
          <p:cNvSpPr/>
          <p:nvPr/>
        </p:nvSpPr>
        <p:spPr>
          <a:xfrm>
            <a:off x="3983040" y="2205000"/>
            <a:ext cx="1981080" cy="21430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ra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tegrated Issues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ubl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ight Arrow 5"/>
          <p:cNvSpPr/>
          <p:nvPr/>
        </p:nvSpPr>
        <p:spPr>
          <a:xfrm>
            <a:off x="152280" y="2276640"/>
            <a:ext cx="2840040" cy="304560"/>
          </a:xfrm>
          <a:prstGeom prst="rightArrow">
            <a:avLst>
              <a:gd name="adj1" fmla="val 50000"/>
              <a:gd name="adj2" fmla="val 5003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Arabic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ight Arrow 6"/>
          <p:cNvSpPr/>
          <p:nvPr/>
        </p:nvSpPr>
        <p:spPr>
          <a:xfrm>
            <a:off x="3068640" y="2967120"/>
            <a:ext cx="838080" cy="647640"/>
          </a:xfrm>
          <a:prstGeom prst="rightArrow">
            <a:avLst>
              <a:gd name="adj1" fmla="val 50000"/>
              <a:gd name="adj2" fmla="val 49995"/>
            </a:avLst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Public Com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ight Arrow 7"/>
          <p:cNvSpPr/>
          <p:nvPr/>
        </p:nvSpPr>
        <p:spPr>
          <a:xfrm>
            <a:off x="6040440" y="2967120"/>
            <a:ext cx="838080" cy="647640"/>
          </a:xfrm>
          <a:prstGeom prst="rightArrow">
            <a:avLst>
              <a:gd name="adj1" fmla="val 50000"/>
              <a:gd name="adj2" fmla="val 49995"/>
            </a:avLst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Public Com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ight Arrow 8"/>
          <p:cNvSpPr/>
          <p:nvPr/>
        </p:nvSpPr>
        <p:spPr>
          <a:xfrm>
            <a:off x="152280" y="266220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Chinese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ight Arrow 9"/>
          <p:cNvSpPr/>
          <p:nvPr/>
        </p:nvSpPr>
        <p:spPr>
          <a:xfrm>
            <a:off x="152280" y="304308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Cyrillic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ight Arrow 10"/>
          <p:cNvSpPr/>
          <p:nvPr/>
        </p:nvSpPr>
        <p:spPr>
          <a:xfrm>
            <a:off x="152280" y="3462480"/>
            <a:ext cx="2840040" cy="304560"/>
          </a:xfrm>
          <a:prstGeom prst="rightArrow">
            <a:avLst>
              <a:gd name="adj1" fmla="val 50000"/>
              <a:gd name="adj2" fmla="val 5003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Devanagari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ight Arrow 11"/>
          <p:cNvSpPr/>
          <p:nvPr/>
        </p:nvSpPr>
        <p:spPr>
          <a:xfrm>
            <a:off x="152280" y="384336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Greek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ight Arrow 12"/>
          <p:cNvSpPr/>
          <p:nvPr/>
        </p:nvSpPr>
        <p:spPr>
          <a:xfrm>
            <a:off x="152280" y="426708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Latin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10" descr="idn vip report_Page_001.jpg"/>
          <p:cNvPicPr/>
          <p:nvPr/>
        </p:nvPicPr>
        <p:blipFill>
          <a:blip r:embed="rId1"/>
          <a:stretch/>
        </p:blipFill>
        <p:spPr>
          <a:xfrm>
            <a:off x="6954840" y="2230560"/>
            <a:ext cx="1905120" cy="2146320"/>
          </a:xfrm>
          <a:prstGeom prst="rect">
            <a:avLst/>
          </a:prstGeom>
          <a:ln w="0">
            <a:noFill/>
          </a:ln>
        </p:spPr>
      </p:pic>
      <p:sp>
        <p:nvSpPr>
          <p:cNvPr id="566" name="Rectangle 14"/>
          <p:cNvSpPr/>
          <p:nvPr/>
        </p:nvSpPr>
        <p:spPr>
          <a:xfrm>
            <a:off x="6878520" y="2243160"/>
            <a:ext cx="2057400" cy="2133720"/>
          </a:xfrm>
          <a:prstGeom prst="rect">
            <a:avLst/>
          </a:prstGeom>
          <a:noFill/>
          <a:ln w="57240">
            <a:solidFill>
              <a:srgbClr val="4f81bd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3"/>
          <p:cNvSpPr/>
          <p:nvPr/>
        </p:nvSpPr>
        <p:spPr>
          <a:xfrm>
            <a:off x="2957400" y="1447920"/>
            <a:ext cx="2799000" cy="45972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d in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A59C36-8580-4BCC-A00F-0F5C9C7F72E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hase I: Script case stud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047760" y="1599840"/>
            <a:ext cx="5684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6 teams:  Arabic, Chinese, Cyrillic, Devanagari, Greek, Lat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Comprised of community experts in DNS, Registry/Registrar operations, Linguistics, Security, Policy, and ID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Case Study Teams completed reports in October 201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Picture 13" descr="tagline.jpg"/>
          <p:cNvPicPr/>
          <p:nvPr/>
        </p:nvPicPr>
        <p:blipFill>
          <a:blip r:embed="rId1"/>
          <a:srcRect l="0" t="0" r="0" b="36540"/>
          <a:stretch/>
        </p:blipFill>
        <p:spPr>
          <a:xfrm>
            <a:off x="824040" y="1905120"/>
            <a:ext cx="123336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C0900D-5BD3-4F1B-AD30-E2F6DBEDD35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hase II: Integrated Issues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1"/>
          <p:cNvSpPr/>
          <p:nvPr/>
        </p:nvSpPr>
        <p:spPr>
          <a:xfrm>
            <a:off x="2743200" y="1841400"/>
            <a:ext cx="5943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eveloped with support from a Coordination Team comprised of representatives from the case study team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ummarizes and synthesizes the issues identified by the case study te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1E8685-4D4D-402B-A80A-5798E1E919D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orking pract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78" name="Rectangle 2"/>
          <p:cNvSpPr/>
          <p:nvPr/>
        </p:nvSpPr>
        <p:spPr>
          <a:xfrm>
            <a:off x="2819520" y="1371600"/>
            <a:ext cx="6019560" cy="47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CANN project team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Synthesis of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Writing and editing the rep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ordination te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dvisory and reviewing ro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Liaison with the 6 case study te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eekly teleconference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rebuchet MS"/>
                <a:hlinkClick r:id="rId1"/>
              </a:rPr>
              <a:t>https://community.icann.org/display/VIP/H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1T22:25:11Z</dcterms:created>
  <dc:creator>Karen Lentz</dc:creator>
  <dc:description/>
  <dc:language>en-US</dc:language>
  <cp:lastModifiedBy>Naela Sarras</cp:lastModifiedBy>
  <dcterms:modified xsi:type="dcterms:W3CDTF">2012-04-10T19:39:36Z</dcterms:modified>
  <cp:revision>222</cp:revision>
  <dc:subject/>
  <dc:title>Presentation Title</dc:title>
</cp:coreProperties>
</file>