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dt" idx="1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23A4B8-4D66-44EC-B2CB-11BC046FDE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ftr" idx="1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 type="sldNum" idx="2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4EFAA4-DFF1-478B-9615-AFD30B5017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126BEF-C5AC-44CC-B7AB-CE6AB8000A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76017-DA1A-47EF-9D38-FD0ECACD169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8CC5B-0CF3-4682-B2C6-24BE42B85F5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5E837-18FC-438E-9CE6-7C8A5CAE1F2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C5E3D-654A-4FE4-A879-712B940EC0C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6FB30-7161-4CE7-85BB-DCCEBCB9B7A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EC119-B2A6-4110-8475-6B63CABC714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F4C81-5AFD-4B00-85B8-4BEA3D279F9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97DBF-6321-45BF-B4CF-507830EE774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0F1D3-4794-4B16-A5AA-C4969C46433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90517A-AC65-4A98-86C0-6065A2BEE0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D8148B-5759-4F19-9CC3-00CAF9E7C5F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D4C895-A5BD-46F4-BBAA-2F815191A6C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03A458-BBD7-4739-B03B-67F58D167D4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86BC2A-77B1-414C-9268-7F96ED163B7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5DA426-C1F8-4E2E-BDFF-92767EB34FA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471671-6CF6-4D1F-A5EC-819C9F0064B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A9DB7C-64B2-4032-9D7D-2987AED098A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A9EC27-1F6B-4B8B-9D75-7FE427E390B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5CD48D-50A3-4AFF-9790-79E2A92EE70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3625CA-167C-4F81-96E7-0C1B0DEEAC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D5803B-2EBF-4B33-9CB0-92672DEC081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AAF551-37B8-4ADD-A2F4-12BF8AA3B55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FB7F34-B9F7-4452-9A8F-50AC43F495B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5CEC9C-3077-4C9E-93AD-D62687E5259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D89C88-6C8E-45D0-A801-FCBFA128C24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3A8895-E307-447A-8FDE-97390C0280D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690FC6-59F7-4068-B82C-C5F637CB046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2B3A34-0795-4607-8447-D9634584A07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460EC1-0309-4BA7-8815-8E5A1857749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7B4C09-29A0-45ED-9760-EDC3C0A022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9C76CD-397D-43B7-B817-EEF8FF62848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1BC6AE-31BC-411F-85A4-2AD0FEEBB3A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DE0A46-BE56-402C-A655-4CCC46C9C22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90BE8-CD33-4EA5-AF01-33C684C650D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FAFDE-CCC3-429C-824E-72A3F541685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52CC1-6213-46AA-8CBC-1CD2863338D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87033-A9FD-4F66-AD89-5F7C5A8020C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016F3-6A26-4B02-BF2A-2B28D12B234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E322C-DFFF-456F-890E-6B2A3F98CAF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F72D6-B526-4EFB-9736-22F695CFD8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2A061-5F32-4A81-9824-68497BA8725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FEB50-6EE1-49B0-B189-D9020FD96CC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097E0-760E-4C7E-8EFF-56C9E3C764E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8E4D7-B8BC-465B-80A0-54A77938089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1E037-137B-4077-89B2-5C6A2967181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218D66-A595-4C8C-877C-FA8E7E64B6D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BA6AA3-5E96-421B-94D8-D1BC2B50ED8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70EFA3-71CA-4A97-A85D-B01B32ECF03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36ADE5-D140-4F6C-BF3F-84782A09AFF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695F16-524D-4260-ACB7-E349728D85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994EF7-F414-4BEC-B8B0-B0881E822D2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4F3789-0A6D-4712-9B91-E811ADAED78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AC3D79-F362-4A1C-BF5E-165D45AE14B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35A9D3-12EE-4385-AE83-49BCA95154C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64542F-425D-4ADB-A1D9-C5D49C27BB5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6DD40A-A7D5-4688-A73C-0B3D402B778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850016-9BF2-49D4-AAD5-BDB2DB22A70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ACA14C-C226-4C71-8279-08258105E76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1B65B9-434B-4F82-8262-9193089E99F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903C83-1824-48F5-8780-37C63CEC97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B093F9-B1F5-4F2C-BBD6-18974FDFEDA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F5E320-7BED-4C8B-9333-599828B5790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59589F-B5E3-4796-AE36-C5C2D4D87BC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554A27-3101-408E-9B28-7A5BE986BD4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5D27DE-B9FB-4C9C-8FBA-5D51B1D8D02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63373C-CD2D-432C-BC2E-F8CA3B37189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E33035-7295-4542-9144-A08C5E71A18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07176C-4FD2-490D-8456-5FB85DB5414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92C4ED-BFDB-43DC-B8C5-195C6A3318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30D4-3111-49E8-B42C-8EE200B50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C063-5FF1-4080-9468-7588C762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F1AA-1BEE-4EBF-A0DC-A50A06B3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5951-8E3B-4AD9-BFEF-B348CEA3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D1EE-5050-42F3-AC51-4F2D75D9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993A-E4B9-4EA6-9F9C-91FC0CA9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F396-0B5E-4D3C-96E2-7C565A2C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9A96-43E7-4BC9-8188-7A2AF579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8A24-40EC-43FB-BE87-A91C91F9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01AA-42BD-45EF-9347-C16AAC85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4374-C9E5-4EB2-9795-8BB1A74EE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03B3-9D66-4D6D-917A-051A966D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D686E-DA15-4870-925D-E61479A195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56E3A-2CEF-4FBD-95B0-6CE8A82BDB2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3E95D-417C-489E-B321-E78EBEC4009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266AF-B3CD-4740-AC94-EB82079DEB3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EBD0D-1B14-4B49-9405-681E96C3405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796B0-117E-4982-AB5A-BBC7BEB4126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5C50D-FE38-431B-BFC9-9F8B7C217D3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CB2EC-88A7-49B6-AE40-2C415C3F8AB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9DA10-8726-4EE3-9120-F53BF6D95FD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55361-45CB-4CC1-B2C9-C2AAED7800A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16E6F-CE1B-4769-BD75-89C5AF2E3A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DA802-C3B1-4F3B-81A6-DCA0BA8A605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F7968A-69BA-4280-84AE-478EC8FF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9CD46A-9475-4C3A-8D4C-60ECB4A5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BDED48-0C2F-4585-916E-6D6A43FD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6005C7-AD38-408E-87F5-DA6B3E7B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C319A8-09FD-44B0-89B7-3FFBAFC2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E4EB1A-B2F5-4029-9A84-CBE70B14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71C076-93DD-47AB-A3BC-19092C91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BC404E-2814-4E31-A3B6-52FFE3C7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891FC2-FACF-4C29-895A-07F951C3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F14D58-F542-41D9-9BC5-BEC4E0D6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B88936-40BB-4861-8A92-A491FF508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1E2481-6068-474B-9F12-236B593FB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418429-9C46-45BC-84F1-142CDF88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BA95FE-73D1-44E8-8647-E80A4FB1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DFDFA5-AA2C-42DC-8238-7D5A26D6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0BD47A-E664-4BA5-9F90-E059D519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4BE510-4F00-48BC-8C9E-A839DB6C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D38F6B-7838-46B3-A627-C9326C89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811E23-08E7-4A60-A31F-03F39B6A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EEA203-8C2F-4221-83CD-AA0AEAAE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2C7968-7F98-41BE-8D85-1B0FBEDA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41F05D-2CB9-4BD9-9100-A2BCC999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0C83FE-74C4-4B0D-A11E-87016864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59A9CF-05D2-42F1-94B8-87431EDF7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7C244B-E5EF-4B89-94B5-A558F5BBA2A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44DAC6-77FB-47FC-A85D-D419E6F4859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C20EED-E6FD-45DE-AD56-A133BA6A50B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EE47A8-A569-4F60-A37C-C75039C8E5B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6D18E5-F259-4217-9BBE-EAF7AC2E86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38C08D-3983-4A14-9188-3121C172B08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C5144E-7CC3-4DDA-9E76-2BB56655EEA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ED2089-87DA-4D1F-9E99-375BBF56BD4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527E91-1B64-43E0-A7B1-118E81EC0A2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E2E34A-3C94-4B14-95D8-AE19F5CCB74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5A490C-7B89-4EA9-9DC3-9CCF94E7525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604125-EC05-46A6-A0F4-CB2076DDD1A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7695F-870D-4042-AA3F-EAEF808C7EC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9F1B5-037C-467D-B503-5D5309985EC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FA030-E2E2-47A8-AE10-A3A3DEB93A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39D6A7-26C5-4E94-B228-E4B37D811C4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5B37AB-8B94-4D63-9E0D-BD8A93EF3CA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40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92E3C8-FCE3-4757-8BF9-7FDDDF47B36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8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F753E9-1336-492F-8A1D-FE6A6C595BA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4648320"/>
            <a:ext cx="3174840" cy="17017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C0514B-D9D8-4F51-AC35-0F4D82EDFC1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4648320"/>
            <a:ext cx="3174840" cy="170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9DDFA5-6C8B-485D-8714-A919E668A0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EB623F-2648-4D80-B89E-806BD6FA65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173939-0981-4632-BE34-5E812E20366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52BF74-C379-41A7-BA0D-5BCF01CE82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9B54C2-B91C-4604-A8FD-278D5495D13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F9F0ED-FDA8-46FE-872F-49B3C39EAD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1A77C6-EAA7-4049-9432-D32D489F67F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318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84C27F-C837-4917-8A50-EECF61343A1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09200" y="1218960"/>
            <a:ext cx="616284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SSAC Report on Domain Name Registration Data Model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1599840" y="36576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ne of WHOIS Review Team's recommendations is for ICANN to convene a working group to determine the data mode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SSAC is meeting with community members to explain the model and answer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</a:rPr>
              <a:t>Questions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at is it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The Domain Name Registration Data (DNRD) model is a straw man registration data model for community discussion and consideration and as a basis for further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 takes into consideration existing data requirements from gTLD registrar and registry agreements, escrow agreements, and ongoing work on internationalized registration data requirements, and some ccTLD data requir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 makes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no policy asser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y it is important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re is currently no uniform data model that exists for DNRD and this unduly complicates data submission, handling, exchange, and a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standards-based, structured, and extensible data model cou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dress the variability in DNRD-DS re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mprove the user experience for internationalized registration data (Final Report of the Internationalized Registration Data Working Group and the WHOIS Review Team Draft Final Repor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Methodology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ocument the life cycle of a domain name from registration to rel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numerate data elements that are needed to support the life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Life Cycle of a typical Domain Nam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7CDBB0-1F73-449E-8260-0FDBB3AE35D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371600" y="1438200"/>
            <a:ext cx="6510240" cy="4657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Life Cycle: Domain Registra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578" name="Picture 2" descr=""/>
          <p:cNvPicPr/>
          <p:nvPr/>
        </p:nvPicPr>
        <p:blipFill>
          <a:blip r:embed="rId1"/>
          <a:stretch/>
        </p:blipFill>
        <p:spPr>
          <a:xfrm>
            <a:off x="816120" y="1469880"/>
            <a:ext cx="7367400" cy="4248360"/>
          </a:xfrm>
          <a:prstGeom prst="rect">
            <a:avLst/>
          </a:prstGeom>
          <a:ln w="0">
            <a:noFill/>
          </a:ln>
        </p:spPr>
      </p:pic>
      <p:sp>
        <p:nvSpPr>
          <p:cNvPr id="579" name="TextBox 3"/>
          <p:cNvSpPr/>
          <p:nvPr/>
        </p:nvSpPr>
        <p:spPr>
          <a:xfrm>
            <a:off x="816120" y="586728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operations include update, transfer, renew or deletion of the domain nam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at is the Data Model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numeration of Data Elements (Descriptive Mode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ta Profile: implements the data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tailed Data el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ttributes: format, minimum/maximum length, language tags, cardinality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file parameters: Character encoding, mark up language, protocol used to access the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ditional r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lationship: one data model, but could have multiple data profiles (e.g. profile for DNRD-DS, profile for escr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Recommenda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SSAC invites all ICANN SOs/ACs and in particular registry and registrar stakeholder groups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sider this data model and comment on its completeness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ment on the utility of the model in furthering the definition of a directory service for domain name registration data as outlined in SAC 033 and SAC 05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Potential Issue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ccTLD and gTLD data models are different. It will be a challenge to harmonize the two mod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4:42:05Z</dcterms:created>
  <dc:creator>Julie Hedlund</dc:creator>
  <dc:description/>
  <dc:language>en-US</dc:language>
  <cp:lastModifiedBy>HU</cp:lastModifiedBy>
  <dcterms:modified xsi:type="dcterms:W3CDTF">2012-07-17T22:13:32Z</dcterms:modified>
  <cp:revision>87</cp:revision>
  <dc:subject/>
  <dc:title>Presentation Title</dc:title>
</cp:coreProperties>
</file>