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2EE72-DBEB-4F1E-94F1-7402CE6732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5454C-0BD2-45F6-993E-18AB8C438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0ECB9F-C053-4B7C-A499-93DFD30C5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E5800-4755-4DC1-8E4A-5377FDDDD80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EE608-C740-458C-8361-F58089FC4C7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E8DB4-1D42-41E7-90B5-D9B99A7142D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FA4F4-6B57-40B2-B43A-19940A1F4C6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397D2-DE61-4B64-AB4A-94DDBD54734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D92AF-2A10-4600-A469-4C7618B4858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8E6B7-F20C-4ABC-831E-D116AB21873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564F1-8067-40D7-B5E1-953261EF0C4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79354-8964-4C1B-8520-2F95D94C8FF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4FF82C-4379-476A-A87B-732947F0F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1F7807-53B4-4384-A061-186AE71F5ED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D426C2-4512-4246-B33A-B4B169913AD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B27304-7F87-4683-81D6-F2F779FB0B2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850790-6C03-4A86-8C21-1CE72DA9277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F10D4F-CB5C-4354-B755-30B516DA23A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1BE35A-6917-4BE6-A48A-BFAD9BEFB0C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A40009-0529-4357-91F4-AC123BF4311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1F3600-2B30-4A70-8797-FC24B0A0BF7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7FF042-AF0A-4841-BCFB-B1F66269EFC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6E57DD-2588-4508-9CB2-843954C8A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B6A134-C7F9-4581-A75F-72972DB5468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9A775-C4B5-4A30-A3EF-866B3DA9AE6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EB8596-A41C-4DF3-A72C-FAEFA6D0309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9DF06D-28E0-4F67-9B37-322EA0E38A9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C814D5-A3A1-45B3-ABCF-C39CF43ADF6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1B2537-6BC4-43BE-9BBD-3402A88719B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6F6486-57A4-4D2A-93E8-FD1072AF6CE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381A67-1DF9-4968-B659-36690E34615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82A850-C028-48E0-B353-A9DA8031F27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372324-81FF-4582-BE9D-55028483B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92EA98-C175-4EA0-96D5-7057F9389E0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3348EE-E652-4CAB-B162-E5A94E9C98B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41F1CF-4008-4C7B-B250-CA79EC1AAA2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28D4F-ED4E-46B6-97CA-E6530D22CC5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656EA-A484-45E3-8035-DD3ADE71F5D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1A00C-DBA5-4BB6-8E7F-FEAEBFE0663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D3EFC-3F7E-40C0-8901-33ABA80DA34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56B14-77A0-4D44-A36E-A4410A535BC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8D7BC-B4FE-4BF5-A5BE-F2C4DBD6176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1B286-ACA8-42AF-92DB-E07D3F528D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DB071-67F6-47D0-9954-99C019C77F8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26DEA-5DB3-47AB-916B-68F3F712AA3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F118D-9738-43C3-A8C9-8C13D837F2D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77629-41DE-4EB5-AF04-ACE8365CB1E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29522-4B29-4176-AD1C-20D8948A6A4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A6B301-C89D-47AF-A740-69517142406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EC0EE0-E9AF-48A0-AB6C-6D360598647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01EE80-C974-4E50-BC7D-35050DBB4A5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2EB0A9-BE40-4A8A-89A8-9F283E1CDCE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4BC0FE-3B4D-4D90-AD7B-A7BF62E90D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C3CD46-95A1-40F3-999C-51E468F7E2F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B20BD7-3417-4FB7-AADB-CC1B8E40E0A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BC015E-2B3A-4020-ACF8-CF7016EF96D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D02BA4-E7C6-404C-8112-51866BD2E04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CE3E9C-404F-4914-9174-99B085B3FD4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3A4815-A353-47AA-B5E5-C5DD27228F3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963DDD-4FAE-413D-9E6C-04AB9B6CC1C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E967F2-2FB1-4F49-9C46-EFA4F73B8DF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A33ABB-BB2E-434A-A322-CB2E76BAA3B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6D433F-099E-4367-AE44-D9B7BAA30A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BF5F21-4234-4AAF-B628-022553748FC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DA0CC7-A57D-4B39-BBC3-1F4574613CD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8F5882-96FC-43AC-B47A-19AB4CC0D82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5F089F-9F10-48F8-86E2-19B1BC94B84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6C7555-D243-4224-A91F-DBDF2EB84FC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32DC22-D86F-4B5D-936A-BC909131625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7D9232-4B03-4C0F-A2E1-CDEFDFC5CAA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C63B82-6F22-4D0B-86E2-17BA2BD6B1A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FCEDEC-BF3C-412E-945C-77303B979E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E5F-7D38-4FBD-8B07-132A7AA6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ECBB-38D9-4506-9741-FDA07298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20CE-6567-4AF7-89A7-FCE800E5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5797-71B8-4DE9-9172-217AC08E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DCE6-F63F-4602-BD34-151D93CF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1594-D66C-414B-983E-E9A18996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F4F-7D51-4469-8224-CB2C11CC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3D8F-9E87-4C0A-8EDF-4F708404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3529-E5EC-4E1C-93E0-E1B8A1C7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BD32-C2E5-4B97-9C50-85E4EFEF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1F38-BCD0-4C33-9741-4384FF38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441-349E-434C-978B-E6935470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2580E-8F4C-4F9C-8A1B-2F813AA6AB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133B2-40DC-43D5-B9A4-6395497527A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8A819-790B-4985-9EA0-4FBF0C36959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A11C7-CAE2-4F77-B90F-AAFAF333C09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6641A-BA99-46CD-AFE1-43FC78D907D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FFE2D-C8B3-40C2-B547-8CD20E92635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852D7-B486-4BB2-A9FB-16455979EA0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A9782-E477-4A44-92F1-27C9AE71B2D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41B31-E174-4F03-BB5A-706A7CA2DAD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30F9B-A6F1-42F1-856E-D147A22FFA4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19DBF-CDD1-4F59-B776-6FF48341F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D5208-94B8-4DE1-AC07-C1406BAD334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1504BE-7BF6-4878-B4EC-837AEE0D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6AFCAD-44D1-422A-AFC7-2559B930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D6EBAA-3351-447F-9E1A-775595A6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03E4B9-38E9-43CA-BE54-6141099C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42AEA0-6B82-43E0-B019-05F72C48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576489-8A49-485C-B3E0-11AF32B1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EBE99F-91A2-464B-A0F1-C4949F66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65DA5E-3D97-44FA-BE59-76F8744B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1AC00F-5391-4E4D-9724-5D6848E5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7DF604-EBE3-4185-B485-B57042C5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7DC2D4-DF29-4CE0-A8C0-BF0AD10E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B40546-922C-4269-B2BC-5BCDCB18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09C7A5-3D8B-4F7F-8456-4443DF45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950789-6273-4497-A0DD-C697A56F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6B0880-52EE-4250-807E-64E3FDF1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3CE74F-6844-4961-8800-E98FDAE0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853DAE-C170-4950-9DFE-D9A4B1BA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7FF795-A10B-4149-8D24-FA5B5B74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76E667-2B68-4FFF-8816-4AFF64AE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ECF8AD-4EAA-48C0-ABF4-D0629F90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970870-7CC4-4F67-8A39-AE08B768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DC5B0D-F924-40B3-9C9D-CC0D4AC4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1BCA6D-BF61-4B1C-A795-81C540DF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06588F-5DD6-473B-BA1D-1F7A4384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3538EA-60BB-4374-AA17-8AB6181EE47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13FD19-9CE7-476B-95CA-18157223077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AAB508-64EF-4767-8ADA-1D7A575DD22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3CB756-0142-4E7B-A157-FC9DA08B735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E26535-C4A9-456B-B59E-31AEA739D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F55984-9FF2-4472-BB67-C15E17F21B6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E78B54-69D6-4BEE-BB66-9E3915048E0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B0CD87-7F87-42AD-A3F6-EDEB97B63BB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C0D565-49A7-4041-B8C2-A40BBB4C8A3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98C975-F4D8-42AF-B085-582A0370105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8B8C13-59F2-4F16-8F72-73849F18CA8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1687D8-4B58-4EBC-9495-CE04C074A9D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CE82D-2EF8-4AE5-B7A1-4E03CD535B3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FF10C-39C1-4DF0-A821-3289DFAA0C8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3E9BA-0086-41B7-9800-A55879EB4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9BEDA-E2E2-4EAB-902C-5460F7CFDB8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B570A-9C23-4BAA-AD77-E920E429F20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A1B9F-CB2C-427A-9A3D-176D6D8D76D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C8328-6264-4354-82B7-0BF9CA386BF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CC67F-8F1F-4660-9A8B-41B066741FD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BE49B-50CC-4A57-BA30-9030BB08DD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67B2B-FDCB-44AA-95CC-0CB02838D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0324B5-3F3E-4C6E-AB74-7F3485EAB00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312BD9-7B9A-460E-8620-DEBAB2F3E9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585D4A-DF75-4502-A7D4-76AE2A418CD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AE166-A966-4CFB-9409-784C5940F5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13C27-28BA-4D40-9815-252D2DF6B77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8467B-4E3C-4453-9C61-AFE9305D855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09200" y="1218960"/>
            <a:ext cx="616284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SSAC Report on Domain Name Registration Data Mode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599840" y="36576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ne of WHOIS Review Team's recommendations is for ICANN to convene a working group to determine the data mode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s meeting with community members to explain the model and answer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i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Domain Name Registration Data (DNRD) model is a straw man registration data model for community discussion and consideration and as a basis for further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takes into consideration existing data requirements from gTLD registrar and registry agreements, escrow agreements, and ongoing work on internationalized registration data requirements, and some ccTLD data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makes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no policy asser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y it is importan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is currently no uniform data model that exists for DNRD and this unduly complicates data submission, handling, exchange, and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standards-based, structured, and extensible data model c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ress the variability in DNRD-DS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e the user experience for internationalized registration data (Final Report of the Internationalized Registration Data Working Group and the WHOIS Review Team Draft Final Repo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cument the life cycle of a domain name from registration to rel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umerate data elements that are needed to support the lif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 of a typical Domain Nam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E235AC-712A-4A0E-BF01-E9C03033571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371600" y="1438200"/>
            <a:ext cx="651024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: Domain Registra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816120" y="1469880"/>
            <a:ext cx="7367400" cy="42483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3"/>
          <p:cNvSpPr/>
          <p:nvPr/>
        </p:nvSpPr>
        <p:spPr>
          <a:xfrm>
            <a:off x="816120" y="586728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perations include update, transfer, renew or deletion of the domain nam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the Data Model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umeration of Data Elements (Descriptive Mod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Profile: implements the data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tailed Data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: format, minimum/maximum length, language tags, cardinality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file parameters: Character encoding, mark up language, protocol used to access th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itional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ationship: one data model, but could have multiple data profiles (e.g. profile for DNRD-DS, profile for escr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Recommenda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nvites all ICANN SOs/ACs and in particular registry and registrar stakeholder group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sider this data model and comment on its completenes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ment on the utility of the model in furthering the definition of a directory service for domain name registration data as outlined in SAC 033 and SAC 0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Potential Issue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ccTLD and gTLD data models are different. It will be a challenge to harmonize the two mod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42:05Z</dcterms:created>
  <dc:creator>Julie Hedlund</dc:creator>
  <dc:description/>
  <dc:language>en-US</dc:language>
  <cp:lastModifiedBy>HU</cp:lastModifiedBy>
  <dcterms:modified xsi:type="dcterms:W3CDTF">2012-07-17T22:13:32Z</dcterms:modified>
  <cp:revision>87</cp:revision>
  <dc:subject/>
  <dc:title>Presentation Title</dc:title>
</cp:coreProperties>
</file>