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0D74A-0C7E-405D-8760-1A955AD562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D85C1-03BB-4408-8A1F-C424C76EF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64D8C-6EBB-42B3-9517-AB52A04BFE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63C8E-0817-4352-9624-900D9F54228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C8121-97A3-486A-9A7E-017145B3DF0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EBEDE-EA4B-499A-8233-258B5E7F508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62C7C-51A9-49AD-B03E-0CD53C5F9F3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37DFA-F4A3-478C-ADA4-E2D4EF2997E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42158-8492-4C06-8502-FB9794B83EE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459A3-547B-4625-841F-4E9608F11D3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8FAFD-8A57-4D7B-9CBC-3045CB19EF1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4374E-E24E-4DD8-8517-80307467F0E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04FD46-B4FA-4543-9B62-41E72D113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ACB4BD-16D7-4D60-9C5B-60BAF07310B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7EACC0-E54F-4B02-818E-9D51914DFA1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338DDB-1042-46AE-9901-61A73FC9DAD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A5F161-7392-45F7-B7FF-B62AA998C2F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252B74-BA61-4F8B-9AAA-24EBF655BC5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1323BE-7BFF-40E4-9E67-4E327DB77F8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30150D-6C64-4BE5-84FA-B444B6A620E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80FD06-0B82-47C5-94AE-14961D475E0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42FD46-ECBF-46FF-9CDD-FBF291B0451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37F0AE-FF9A-4B0C-9DF8-87929246B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BE5BDD-32C7-4263-BB1D-871F21BB116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A1127-28EB-4A3C-8FE3-0D73B9EC417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9D243E-2644-4C3F-9445-181CD95D6CE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FA8BD3-AB8B-448C-A7ED-86494D18CC7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BF190-2F88-41E0-9BD8-ED09DB244CF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997C9F-C4AF-41E7-BCBD-3F0FDDBF1EA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DBEB4-63AA-4973-9980-FCF3A33028F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0E21F0-0DEF-4E66-B76D-96D0CC87C59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7C158-ADB9-44F5-A3CA-2B9FA628AAB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952446-E2D0-43B2-AEEC-371BDCEF1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1E487-9092-4D51-BF1C-54F9E3F9FF2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54175-E1B6-4F3E-B6E5-1ACE92DB580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3507D5-F936-4D24-A7CF-B83930A6FBC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B4935-AD06-41D7-9290-420BD5E9A5D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91618-8711-48F0-9B90-23CA6025129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413A5-C3BA-4567-859C-0138669FA16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ECD87-9193-4E1D-8996-DBBBCAD9392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4DE26-B3C7-48C4-998E-7A948FE2299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A7002-8BBB-47EE-AB09-73D0B082717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22FB8-DFCC-4504-AFD2-347B8DC4E9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03461-F269-4697-9019-0E3C10E68B8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2B969-2CEF-41FB-9422-00FD8D90D85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E734F-9B40-417C-B74D-7DDEAE10FBA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92371-2619-44A6-AFC2-768EE96CD40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A72A3-ED63-4094-9020-551A32CD9F4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03EECD-5166-4140-8852-FE0D4F28CB3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ADF8CF-35CE-4F3E-BD17-C7D88467956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B2FC6F-2CBA-4331-8F7D-F68E6AD5E0F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5D9AA6-2298-4BB5-89C9-6961BDD2839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AE19DD-613C-486B-892E-3B642F103D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177A46-E246-4DDC-A06E-663FFF4CA58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F89D50-1071-4CFD-938C-6905A90BB02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54AED0-516B-4C41-8AF8-E7AC48849ED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485CBF-EB98-44D0-9AD7-34110B4490F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C326B4-5F10-4BD3-8952-159DFA94CAC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160604-1DEB-407E-853F-F28900615FD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4C0FC0-D1EB-488C-84AE-9F695C5A5F0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7C124E-24E2-4457-AD3A-71F42B08E7C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8D35B-C4CB-4933-B86D-DD55F0B771E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03B44-F80F-4C61-BC1B-3502F4E920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42348-FC0A-48EE-8C8C-35CD4084427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C320AB-50C0-443E-BEE1-D64AA98902F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6EF117-B83B-43CB-9541-92E7AC6BA5E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D20F4-A282-4E0A-869D-CA39C5CDA75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4C6ED-C290-406E-A22A-95AF2318397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3944B-B840-49AB-B29B-A63BC070E24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3F9DE5-F8D5-4C06-95C4-09EB387B314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C9DD0-D2CB-47B2-8365-23770008A97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FCA85F-4DED-4B61-A25C-F42B83F13E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584-D1B4-4A20-BAA0-DE32FFF4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942-7162-4B06-B103-A692F0CA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8EC-3D66-41FE-A587-70DE48ED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E550-91EF-4C47-8E92-80B687A7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B2B-0092-46BB-892B-4F68465C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6DF-68E1-4982-B55B-6E959908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574-ADA7-4F75-B3DC-C17973E4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191-BBB5-4D78-893B-A254D066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134-28FC-4614-BF23-6E815AE9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49B-2BAF-4EC4-B0FF-C3C789F6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F60-1402-496B-8500-88D2A4AD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AB7-8A60-4707-A76A-40F0915D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B7A53-1C3E-4E9B-92AE-C3ACD24FD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A3A23-B6B4-4120-83AD-B00CC997141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DEA16-182E-4A23-8566-55DC3EBBCF1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DC779-F563-4460-8449-C7C7161C5E1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FCE7A-6921-4A7C-BB59-9F5545E9DD0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C5E3F-1857-466B-B799-6F4BFB7EE76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3B59D-F502-4B42-95A3-77C2B29C858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30318-0309-41F2-BB17-0A24F8A9C13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E9133-1B70-4C66-8A79-172AE7189B1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16BF1-9226-488A-960C-963865EC35D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E1D4E-AC13-410D-BE5A-0276F6657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322DD-0619-4F24-828A-B17253ED9AC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6FB085-ADC4-4656-A95E-69DA23C2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F9DEFE-A112-401C-B5DD-10A4508C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5886A9-AC28-4924-A2E5-810FDDF0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97C165-058C-4A0B-8C83-4CF5D87B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1080B2-FC08-4F1E-AB0B-E67804A9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F3EEA7-FB63-43AE-9D10-BED416DC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07B763-E5BE-4DEC-8BAB-C0EAA5FD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D722AD-112F-4354-AD47-9AFDE6CE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29EB7C-6F87-4FA7-B825-173B4A11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9F5D0-91D8-4997-80B8-2CDCF622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A66190-9E44-4706-ADB2-B6E760E6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6BDF99-7DA5-4636-93E8-99CEDBAEF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F9277C-5FE1-4DC6-A0B8-5B5A7A17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3C3CC8-BF58-4B77-B57B-543D506E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88D33F-7D25-40EC-8CFF-F6224C83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162357-CA8D-4E75-A5D1-F193343D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2395AC-DB66-4A35-8ED4-92D1E455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2B2C99-9F97-47BF-AC71-85BB5FD0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39AA2E-1DCA-4604-B5BF-10C0CB7F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B8686A-EFE6-460C-9A89-00E400B9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4641C3-36DD-4AB2-83A5-F9607D6C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1A91F9-D5C8-4E90-B551-8BCC93AA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3EA24C-8F0F-4A18-8369-EA22A52A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B01207-EDD1-49F8-8246-C4BEEC56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D30892-7346-4FE7-9892-9A932A05C0F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A79453-ABC9-48C1-BD26-56961484149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E2FBF6-50CF-40D9-8F95-511896B5E97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68500C-0CBC-4C9A-8838-9100064C1C1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430EAC-E3B3-4C85-AC59-E547F17C9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4AEB47-4DAF-41A2-810A-3617A02EDDB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C10D24-FC31-488C-A7B7-4443E6EC53C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5B3A1-9B7F-41D3-A01F-C59AE514798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8A07AA-AD40-4D60-A6D6-166AF6C008F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9F2041-1D5B-4ECC-8224-8D005E23D1A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108702-0494-414E-BD1B-520E1A26A2E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17297-7DBB-4CA0-91D1-F271845DE3D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237B1-B0E5-43B7-A49D-2311342428F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21055-83F1-4B74-A1AC-AFD6DB5B5A8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880F5-4D71-410B-B61E-F31699A6F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00BE8-C637-4B5F-AE95-954CBC4D782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9C7F6-2537-4CFD-A725-0E3AEC0EFD5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58112-F36F-4727-9ECC-5B0AF6E84B8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F97DC-B48D-4CA7-8603-CB44341B20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A351C-0BE9-47B7-9A53-A1099EF02E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21A15-E402-43EC-AE72-5A633D7BEC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4AC65-3981-471A-9E19-CC1D2790C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550CA-E445-4DBD-8A0F-9A805C5A0E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5C0A5-8E17-4259-AAF9-E6BD1300F2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F9AEF-2D8A-4814-A72A-29A06DCF253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AFB25-A2D3-4B75-AAB1-952900341D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2FEE4-0B8A-483D-987D-62039F3613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4FF48-6CDF-4DBC-B4B1-73D2452BC02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09200" y="1218960"/>
            <a:ext cx="616284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SSAC Report on Domain Name Registration Data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599840" y="3657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of WHOIS Review Team's recommendations is for ICANN to convene a working group to determine the data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s meeting with community members to explain the model and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omain Name Registration Data (DNRD) model is a straw man registration data model for community discussion and consideration and as a basis for furthe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takes into consideration existing data requirements from gTLD registrar and registry agreements, escrow agreements, and ongoing work on internationalized registration data requirements, and some ccTLD data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make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 policy asser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y it is importan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is currently no uniform data model that exists for DNRD and this unduly complicates data submission, handling, exchange, and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tandards-based, structured, and extensible data model c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 the variability in DNRD-DS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user experience for internationalized registration data (Final Report of the Internationalized Registration Data Working Group and the WHOIS Review Team Draft Final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cument the life cycle of a domain name from registration to re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umerate data elements that are needed to support the lif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 of a typical Domain Nam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C6810-A7F5-42DE-84FC-05FB86B83A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371600" y="1438200"/>
            <a:ext cx="65102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: Domain Registra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816120" y="1469880"/>
            <a:ext cx="7367400" cy="4248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3"/>
          <p:cNvSpPr/>
          <p:nvPr/>
        </p:nvSpPr>
        <p:spPr>
          <a:xfrm>
            <a:off x="816120" y="586728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ions include update, transfer, renew or deletion of the domain na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Data Model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umeration of Data Elements (Descriptive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file: implements the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ailed Data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: format, minimum/maximum length, language tags, cardinalit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file parameters: Character encoding, mark up language, protocol used to access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: one data model, but could have multiple data profiles (e.g. profile for DNRD-DS, profile for esc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Recommenda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nvites all ICANN SOs/ACs and in particular registry and registrar stakeholder group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 this data model and comment on its completenes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ent on the utility of the model in furthering the definition of a directory service for domain name registration data as outlined in SAC 033 and SAC 0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Potential Issu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cTLD and gTLD data models are different. It will be a challenge to harmonize the two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2:05Z</dcterms:created>
  <dc:creator>Julie Hedlund</dc:creator>
  <dc:description/>
  <dc:language>en-US</dc:language>
  <cp:lastModifiedBy>HU</cp:lastModifiedBy>
  <dcterms:modified xsi:type="dcterms:W3CDTF">2012-07-17T22:13:32Z</dcterms:modified>
  <cp:revision>87</cp:revision>
  <dc:subject/>
  <dc:title>Presentation Title</dc:title>
</cp:coreProperties>
</file>