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0614CCC-F52E-4F97-B13F-D6D3E11B80C3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14A34B9-5AB5-4AA4-AB00-8CE6C98300C2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A2593F3-968E-4B09-9A7F-FC50CEC96CD6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9A8671D-D295-49E9-82DD-39E09E473966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D005096-6F19-4D35-A30B-5AF1F945382A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2E0706A-7D4D-41E6-94FF-ADB296E48C1E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652CA65-254D-4F53-9313-261F8F22083D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D413C01-B6AB-45FF-BB83-8A1F4D1B2ADA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B7E5115-D80B-4A80-A3B9-47611DAFA4F3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F555184-1835-4674-BD89-7192FCF44A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580200-2DE4-4501-A62B-1002D3ADAA03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71EFC13-8F51-4F4D-BFDD-09FFF303E749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B63E7ED-F770-4618-B500-01661CDD134C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F4FDD9B-205F-4C6D-A065-A7DC752C8959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C2E53B6-3C58-403B-9741-EFB3B0044975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B1B1DA5-5A84-4CDE-87C2-73D1DD1770AF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256C030-AEDD-4C9B-94A5-841CC67A25C6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D0E02A8-150B-42E0-A667-8307FDFB80C5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643095B-CFD9-45F4-A7BE-3C2B8222CE2B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9E5E50-47FD-4335-95B4-2096ACB0D4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F91D532-AA7B-4BF4-B2F8-19FA3AD492F9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7E1E4A-57CC-4FDD-B9B4-05B76FC7F3D8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4A4B83-17C7-4537-A90A-B50D70560359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2762B5-A07C-482D-B9DD-DDC2EE07F82A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3EB868-93AB-4CE9-8D71-712C7F9FB393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E74AA5-6E6D-472A-8C16-28A36016AE18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19C295-419D-4502-BE31-2549634D1F4A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FAFB70-12C7-4ADC-B8B5-154983A27095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F21D9C-B8DD-4C5E-991B-76E195091E93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0DB319-AB97-4F83-9A4D-8FCD782AAC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B84B7F-7C8A-4336-989D-CFBEEBE12809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04151E-2954-4800-A594-77BBB473FD15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B21339-FAD9-47C8-86A9-C92FA1741F0A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326AAE2-E204-45B5-9200-1B740AAC5BE5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F5496DE-2CFF-413F-9B16-A1CD131838DD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5025EF3-4800-45C0-935B-0F81F6B1778D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4A1E9AE-419F-4440-9A68-465ACF0B48BD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8461725-A4CB-44A9-8F5C-B4A582447F33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ED71AE7-1CB0-4B8B-8E80-D7D6A6CA9E9D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8F1701E-71E8-47DF-992D-C9321172DC1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A1456FD-ADD0-49AB-9155-8C9A7BDA6C63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48F4F3C-F26F-4B49-8241-5ECA48EEADCE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9E20EBD-9B37-4255-8D32-28D2BEF6DD42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04D5029-E337-4C7D-BB2A-8D0E30D15271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152588D-91DA-46D5-8E27-ED3A7FAD61ED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BBD7487-B750-411E-9C55-C4AD2AA2B3DD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FD2A0FD-7139-46B6-92E5-A720CFDBF755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5007968-1DB6-424D-8C6A-A62A9B87A48B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ED5E3C6-7119-40D1-9ACA-477A1B1F3089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713EAC6-1E2C-4777-85D4-33A97BF04DC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43DD8B5-17B1-4495-B0C5-D26489AF2C50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8D15E78-381D-46DB-B605-0BB80E1C71FD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F0AEE7E-0582-4999-A48B-A8AE6AD9AF5F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765C3E6-4F05-4AD1-9696-DC8406944F71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D8820BA-D22E-45D6-A17C-2210B98A6B3B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3743F39-7944-41BA-B425-22EAA8867843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CE290A9-9DE8-49F3-A7D1-7FCBCA159B77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4A8BA5-3662-473C-828C-3C6C774C3D4E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1B84DC-D314-4553-A767-B66884E9F187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BA454C-E316-4284-82BA-6B7800D9940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C37692-09D4-4B98-8552-F3921412DB26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570F1C-42F1-4837-ADA4-38B8B561CA39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778AD3-596D-4B81-8C77-29A8CB022461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E248AC-937B-4923-8017-89E46A9B5D7A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060630-B887-4F2A-84B0-97AC8B8F8582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40E8E7-6F1D-4193-B73B-647A9E46C0A7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1E74F0-1C04-4381-B3EB-A25F97BCE3E8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346941-27F6-451F-B601-0B05ABD75ABF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54BCC3-7E4B-471A-B18B-D2D471E1068D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1177B02-2883-489C-A51F-650C8094477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FCE44B5-08E6-4BF8-B67F-D254ADDC8C97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D6DFF2A-EA6D-4216-A54E-FAE511C57957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2DDB181-ED45-45DC-9452-CEC9035A7BF0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3D3DE81-6F85-4FDF-A14B-6263E05C38D9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0BD58C1-989A-4A11-AA28-52D11EA274B2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8B22278-5C39-42E1-B5D1-A0F6DD0B917A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A568048-DCE3-4410-A7BE-D357CC2435B7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4996FC4-1515-49D6-AE8D-1D8B44E19D9E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57970D5-85F8-4081-A2E6-5E061C8003E7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7C7FA91-C20F-41A6-9EEE-DA5CE8DD478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842454A-180C-4D15-BA9B-AE80DAD911A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87F22-95F3-43F0-9CA2-4F519302B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77A74-53D5-4581-AC45-480112AD8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42D84-AA55-4CD3-A538-B1B5CA385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41355-41AE-4FC4-90D5-D76D8FF93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8E409-3394-412F-B51D-81974965D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DF44C-851E-4CF0-835D-DB6FABC89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A90C5-8AFD-41EF-BA8B-A6BE1CE61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2161A-0FC2-4232-9D5A-27CCAC62E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3F441-CF4A-4674-8317-292074B81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1300E-858C-46C4-842D-938B7983F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54830-AA4B-4CCD-B58A-6F1FDBD2B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4C319-E6B1-48B8-9EE6-8DFBB57BB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EE1710-33E5-4D31-A2AD-0DF9AA64165E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77FFD3-03D8-41A6-AA26-06A61709BA3E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6F3631-E8F4-4B00-8BD6-C0B3B1FC8556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CA625E-5F8E-44C3-899D-4DA2E32095A4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2920D0-8195-4236-A101-3354047D33E9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98CE2C-91F5-4070-9711-02177DB2F945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82CEB2-903E-4E95-A117-6C50A4FD93CC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AD7C62-73D7-45D6-92EF-1AF994965C16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7ED83C-305D-4096-8A25-CE782D0518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B70D01-E750-4F39-806D-77F3D2900FEE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83189D-6486-4022-AB8A-2F17857DEE9E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EB40D8-2EFA-47B9-A511-1262DCB8BC9B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F64818-B288-4F1F-8327-0BF46501C5FF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21AE26-5D2D-4860-8924-DBBC80C3E83E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DD51F1-9F88-4FCD-945A-0F48698463E4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4D7CBB-C27F-4659-818E-7F07E00E138E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FE0144-ACF0-4E4E-9570-90E7B9CDCBB1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D1F085-1910-479B-A6E6-9A4AEF927F26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2CF1EC-FCBE-4D80-BFE8-2EF7F6F02D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64F5D0-BB11-476B-A458-272B26C01A61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9FA8D4-F105-4471-9CDA-855BE06CB895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6F4A95-EB37-4D29-8A07-E6D8D4C4A6D0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643485-9417-4CC0-B87C-CFD38F062520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37B56A-3173-49F2-9B30-BF203D3C94FA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93FBF89-3ADC-4255-AB59-6F6541391967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17DD2C6-AB57-49A8-BC27-2C80217780EF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B1A6DB5-9C69-4F68-A163-7BB7B15388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" descr=""/>
          <p:cNvPicPr/>
          <p:nvPr/>
        </p:nvPicPr>
        <p:blipFill>
          <a:blip r:embed="rId2"/>
          <a:stretch/>
        </p:blipFill>
        <p:spPr>
          <a:xfrm>
            <a:off x="-31680" y="-31680"/>
            <a:ext cx="9207360" cy="6921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351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Num" idx="8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68FCCE-D455-49A3-BEEF-DA3C1796740A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392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Num" idx="9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576308-2E4E-4800-A23C-C3CC8B77FEB4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433" name="PlaceHolder 1"/>
          <p:cNvSpPr>
            <a:spLocks noGrp="1"/>
          </p:cNvSpPr>
          <p:nvPr>
            <p:ph type="sldNum" idx="10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D179FB-A1D8-4A4F-8E5E-4BA438F00956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0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473" name="TextBox 4"/>
          <p:cNvSpPr/>
          <p:nvPr/>
        </p:nvSpPr>
        <p:spPr>
          <a:xfrm>
            <a:off x="3048120" y="4495680"/>
            <a:ext cx="553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Keep body copy short. Avoid reading the text to your aud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Box 5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Num" idx="11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8D8487-FA95-41A4-882B-689089DEA072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2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513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514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515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Num" idx="12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499022-7A84-46D0-B56A-23CE4228305E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3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3" descr="41-Singapore-logo-140x288.png"/>
          <p:cNvPicPr/>
          <p:nvPr/>
        </p:nvPicPr>
        <p:blipFill>
          <a:blip r:embed="rId3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555" name="PlaceHolder 1"/>
          <p:cNvSpPr>
            <a:spLocks noGrp="1"/>
          </p:cNvSpPr>
          <p:nvPr>
            <p:ph type="sldNum" idx="13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4B8374-F8A4-4A49-AA83-338C7D48402C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3" descr="41-Singapore-logo-140x288.png"/>
          <p:cNvPicPr/>
          <p:nvPr/>
        </p:nvPicPr>
        <p:blipFill>
          <a:blip r:embed="rId3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4F78643-0E28-4D56-B1BF-F979DEEAE5D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2E5D56-B5D2-47A6-A8DA-126520196E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93" name="PlaceHolder 1"/>
          <p:cNvSpPr>
            <a:spLocks noGrp="1"/>
          </p:cNvSpPr>
          <p:nvPr>
            <p:ph type="sldNum" idx="4"/>
          </p:nvPr>
        </p:nvSpPr>
        <p:spPr>
          <a:xfrm>
            <a:off x="69004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BA8CB0-1C22-4D30-AE44-375681AAD1B9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sldNum" idx="5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9C22BDD-95BF-4444-B514-D63DC02F257F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271" name="PlaceHolder 1"/>
          <p:cNvSpPr>
            <a:spLocks noGrp="1"/>
          </p:cNvSpPr>
          <p:nvPr>
            <p:ph type="dt" idx="6"/>
          </p:nvPr>
        </p:nvSpPr>
        <p:spPr>
          <a:xfrm>
            <a:off x="2743200" y="6356520"/>
            <a:ext cx="3657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ctober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311" name="PlaceHolder 1"/>
          <p:cNvSpPr>
            <a:spLocks noGrp="1"/>
          </p:cNvSpPr>
          <p:nvPr>
            <p:ph type="sldNum" idx="7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0C105F-8F00-4A6E-873A-BB67E85BAE0C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Security &amp; Stability Advisory Committe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 type="subTitle"/>
          </p:nvPr>
        </p:nvSpPr>
        <p:spPr>
          <a:xfrm>
            <a:off x="1371600" y="3352680"/>
            <a:ext cx="64008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libri"/>
              </a:rPr>
              <a:t>Jim Galv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libri"/>
              </a:rPr>
              <a:t>Vice-Chai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7f7f7f"/>
                </a:solidFill>
                <a:latin typeface="Calibri"/>
              </a:rPr>
              <a:t>Introduction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95" name=""/>
          <p:cNvSpPr txBox="1"/>
          <p:nvPr/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urity an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abilit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visor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mmittee (SSAC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med in 2001-2002, currently 36 memb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vides guidance to ICANN Board, SO’s and AC’s, staff and general commun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uidance areas are related to ICANN’s missions DNS, addressing, IDN, registration services, WHOIS, etc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E331F31-0475-40B0-8E49-6B14291ED15D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731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7f7f7f"/>
                </a:solidFill>
                <a:latin typeface="Trebuchet MS"/>
                <a:ea typeface="Trebuchet MS"/>
              </a:rPr>
              <a:t>Main Points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98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3FD8FDD-BDF6-4E79-B58E-3200BD69AB0D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761760" y="1314360"/>
            <a:ext cx="7543800" cy="523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 SAC051  - SSAC's recent publication on WHOIS structure and terminology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 Internationaliz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. Registration Data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. IETF Restful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6T19:03:27Z</dcterms:created>
  <dc:creator>Julie Hedlund</dc:creator>
  <dc:description/>
  <dc:language>en-US</dc:language>
  <cp:lastModifiedBy>HU</cp:lastModifiedBy>
  <dcterms:modified xsi:type="dcterms:W3CDTF">2012-01-30T20:22:34Z</dcterms:modified>
  <cp:revision>24</cp:revision>
  <dc:subject/>
  <dc:title>Presentation Title</dc:title>
</cp:coreProperties>
</file>