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3C7D5-C0DD-4816-8752-C9D2A7B2F2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2EDAE3-44F2-489C-947E-EE6A42A949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EA9E79-5B40-44AF-8FCC-A6E874A4604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442599-CC6B-445D-8550-CC532B93C72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65445-07AC-45BD-AB1C-88CA3C193CB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C7FDAE-E157-41A1-A395-D05CCE8532A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5F6A67-B38E-48A6-8732-8380DEFE10E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A37752-D9C1-460D-ADF8-0AEA5A66FC5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A18C6-F87C-4433-ADC2-CB9848FFD20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319B8-E270-420D-8F5F-452B22C10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54B1E-67A0-41FB-B3F1-7C665AEF858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ACD75-9E14-41C4-9F54-B675824DE0D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3CDE6-09FD-43E9-B40B-0E5B0618041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D80C0-4E61-4ED9-8F76-216E97B6060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7BB56-A1B8-4D4C-AC78-6208D6B2282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21E81-587D-42BC-802A-5F92A83D2C9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C2441-A84E-4A2A-B35D-CAC519B8296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F7986-6B8C-4E15-B3EC-20F8857C1D7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E39DF-7942-45D3-B37C-D1218315A19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A29F5-C04F-4B72-AA11-98CBEDBC9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DB69D-89FB-4A0A-94D1-2EC486304CA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343A-573C-432F-9424-B96591C8D74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4129-93FA-4212-A7ED-C67E99DB7A6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EF71E-4FE8-4248-8427-41186E40032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73E0-3CF9-4177-9E66-05511E93A3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A1982-C062-42DD-99CD-8547A3C0099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EA15-14B3-4D79-9035-DD81B31F9EC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7CB6B-1F47-4B50-88CC-CF83FC7D5E8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73C2-E7C8-4316-9EB5-28553C99A41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4C725-4ACE-4A34-8997-8A271E5EE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51F78-BB64-4EDB-8DCC-7FA15DF434B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08F7-1B3C-4F44-8FDB-4ECCF4208E9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FA42-8041-4546-AF21-F6F3A47499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9807D-B335-4F4F-A396-6044EE9D815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576BA-6961-48C4-906F-48FC3F3518E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2AE5E-13C0-4E8D-844A-30E68909EE6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95E85-B554-4A5E-A8FE-8484AB67FF8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95DDA-42F8-4D01-9D1F-BF3A8585219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A7645-3C2A-44C9-A339-33BE354E572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854C2-B0D4-4660-8205-689F24ABAF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67F38-BAC0-45A0-8763-05660B51A53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919236-3F24-4265-9AAF-1E1788E6D72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16E102-AAC4-42B0-9037-15E12118C0B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BEA54-2655-4CB6-817B-F7E45D2A92B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634B39-FD4E-4629-9EC2-11C1FDC4B29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AB52B-A21F-4EDE-89CA-0800E2663EE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B4705-3544-4BF5-96C0-8B5CF3ACFC1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B14AB-7282-48D1-A695-FFF8F730658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895E3-5A70-46E1-ABEA-6328253F559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AAF96-D6D5-4A07-AEBF-C6277207FF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B777B-B26D-4BA3-9F27-781DB79745E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5457D-1DE7-41B6-AA51-EBB7B8E644F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1379B-8D2F-4F58-9613-C38D09CCEC4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3072A-3C61-498D-8597-9A52817A5DB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FE32B-0ADB-4F88-8BDD-978E99953E6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AE7C0-4D03-4EBD-B833-36A8C17E394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DC58C-7A93-474A-9CA1-FB891756D2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FF6-9E8A-4C4F-9E61-4D494A9C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A0F-62B8-4EB3-A558-A46FCD72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C33-0F3A-4880-93D0-B47F11B0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5D7-D66D-4CA2-BCD4-026BC787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6EE-5C47-47D1-89AC-188471E1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CD1-3228-4B4C-B19F-FF507FD3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879-0542-4312-9100-F8EA89C3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310-B862-48A5-9D05-7B4A8B1F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F35-9712-46E5-84D3-5919760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5CD-3B63-4452-BD6E-EB30E79C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AE5-65A0-4A02-AC1B-C824C0B1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F4F-418C-4FD8-B2E1-F9F0A708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24144-2EF5-45FC-A19A-A8786CE5168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89BE2-A0B8-4A91-A4AD-44BB20A144C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C0AA2-08C7-4365-8FAB-B5891D18950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00482-723B-4E50-84EF-EBC44FDFEC1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D82A5-61FF-4F92-8EAA-A4E368722B6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D40EB-E20F-42C6-A58E-3BBEAE95571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72F53-5F1D-41D7-93B2-410B88AAC48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F5352-E726-4D32-BE19-F300D860B4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1BD06-7D78-4E81-B9CE-7D85199EB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CFF0D-F95B-4101-AB8D-377DE8EF1CE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311DF-FD49-4EF3-A3EE-4BBD0F32E11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942D9-1AD2-49EF-A979-4969C5023CC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BD0AA-E799-400C-AD2F-3A36F65BCF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C0FA7-AF95-4A6D-8E3C-A172E5DD0FC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E2B32-700A-4AC8-9528-5EDE23CDBC8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13417-E940-4E51-8CFE-DE782A7555C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2044B-052E-4653-A504-3A5FCED55C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21AA7-85B3-4FB7-BE2B-C73FF7FDFB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53712-6ADB-4AA1-B838-62AA190B1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996C4-BD2A-44AF-AC5A-1C8B7A81149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99583-3556-4FE1-8E27-1D008B7D45E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9B0F2-1CB4-4E58-9D92-B161F3C118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35FA2-3622-4681-8CDC-0850843338C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802D1-797F-4790-9337-4576D908349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D5F6-400E-481B-92B0-F8107B9D417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CB42-20F7-4CB1-80D7-821324DA188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89C0-B719-41FB-A7F2-61E4B804939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69E9-6559-4DB4-9432-AB014BAF781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5051-290E-4CE3-8647-0F4A0E63E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5AC2-EC26-4F76-956B-6821265CAAA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3B92-2BAD-4D58-8CF7-0B88B763AA7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722B-C7FE-42C1-8BA8-DF70052EA3D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7F48-5FFA-488F-9E53-3499A54505B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E37F-B869-43A8-A5B6-2A887892AB0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1A63-6D68-427B-BC2E-86965C866D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4ACA-839C-4496-99F3-36F364647B4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F62F6F-1A30-4713-8FF1-92CFED1FE3F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301C65-E47C-43A3-9012-131AFFF7C19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A9186-9C95-4409-935E-075F6CCF2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6600" y="-52560"/>
            <a:ext cx="9207360" cy="6921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90C68-378E-4FAE-8304-81CFE87FD0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1E40E-0B8A-4424-8308-BB6FD6E1BD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09436-D1DA-4340-B288-C271AF5CA5A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1EBC5-1532-40AD-B248-2988C335E9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2C7FF-F505-459C-8A27-32FAE7BAFA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7F84B-C553-4BF6-9797-259A88964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CA040-0779-4A2B-975A-0621218439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03435-0BE0-4BE9-AF1B-DF00A2E079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560C7-29E0-475B-9C92-175D060A1A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EE637-98E3-4FB8-9976-0F3DDE84F29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EAEFB-7396-4F7B-8002-1747B14058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9EE7F-959A-4A46-B48A-95A3CB34A5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BDFEC-EF25-4517-9F0D-5E09FF6482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268F2-5739-41D6-84D0-6F215FFE99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86F87-F38D-4784-B5D6-1B17944D4E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05587-CC79-48A8-B71E-40E60C0CCD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Matt Ashtiani</cp:lastModifiedBy>
  <dcterms:modified xsi:type="dcterms:W3CDTF">2012-09-14T07:21:55Z</dcterms:modified>
  <cp:revision>28</cp:revision>
  <dc:subject/>
  <dc:title>ICANN 45 Toronto</dc:title>
</cp:coreProperties>
</file>