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D327D-CD7A-437C-9479-139175038D4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549712-BDA0-4353-85E4-B03C186B780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2A7879-92D7-4408-89B7-4214E097C7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CFB152-9514-44B2-BB91-416241A2404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204204-9843-4396-AE98-830E77111F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5ABD73-B9D4-48A7-95C6-EAA2024B3EC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D12D21-75FD-4550-9A4C-59E819597A1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65FE2-6CDE-4916-82EF-981158119B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D42B61-CD9E-403D-8508-86004C9CD3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5D9B6-90AB-49E0-8252-4FFECE547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8F25B-3ACA-4194-A4F6-289CF7FB8D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868BD-5DEC-4D05-AB19-639118CD3A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14982-E25A-4DAD-95CA-AFA3099ADAA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3C36A-DAA8-4FB4-BA0B-5B86565566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0C235-C7AE-44E3-B06B-E4637CAC63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3F623-BB9B-4100-8FCC-000B121204D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3DC36-9546-44F3-9695-8A802AABA3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013F8-ECFA-4FC2-B3E9-53B27663A54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62396-11FC-448F-BC64-3DBFA2F468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4BE1E-A11C-4124-8A19-3F0051FBAB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15098-DF7F-4C53-84FD-B7BB9B26C46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1A36-FF28-4DCF-AFCD-B8E32F61FD6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349C-9905-4672-8EFD-04BC5D9C210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42BD-0F8A-45F0-B927-1B400CCD2D5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FABC-34B7-4989-BD2D-C7831227B36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119C-26E0-4796-963F-923FA1DAF8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75591-13EA-4611-9949-162E04062D1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9D19-55A1-47A4-9F11-9115974B048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0E8F-3549-477E-83EC-CD6C885EC60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1378-7565-4861-B3DD-D6FFE9C5F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D07F-3D81-4396-A511-59D1621F2C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6E449-6A74-41BC-AA17-65654BBB6D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0117-7D92-4434-BA57-A088D0F35F0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26815B-D7A2-4C34-84C3-759429B0A66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894A9-CA84-4DFD-93EE-67E2B6E7D20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C99E2-D215-48B4-A3AC-CABFE7789B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E5EA4-3B2D-443E-9304-086B74A976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22CDD-6650-4DE8-85EC-43644884C32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F0DF8-0E1F-4DAD-8C5A-C7D79BC73AE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2CA72-78EA-4EAF-8102-B2ADA9701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0FA31-5FBE-4F06-9BBE-65DFFE10299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16CCD4-24C3-45BA-A62E-A2DFBF77030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0B816-E8E8-4CB0-B018-18BA0C4722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E8E51-12C3-4C53-9E73-A04E73D3ECA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41CB5-13F0-444F-A8C5-D81B2C26217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7CCDB-D4CF-464E-9B60-A9C9794EB3B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3297D-587F-4DBC-9275-B2F1BDE9583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09DE5A-B4F7-44E6-87E8-25F96AD1CF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AFFBE-D3C3-49A6-8E12-C2E0BF18F70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BFCA4-71B9-4483-B317-048AACB93B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23F05-AFDB-434F-A6AC-100997D5310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D89DCA-D68A-40DB-A408-1F2E3D6FCA3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E4EDB-FF66-4ACA-B3A4-01BB1BE6C66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FF5BE-6549-47D1-B19D-C6CF86E20C0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569931-4E1D-44CC-93D8-7FBDFDBAF71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A282A7-9787-4E8C-B68B-865339E69C8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CD874-9544-426A-8F9E-8539A39B1C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B9F-CB44-423E-A856-00E91F9F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D17-02F7-4BA8-9054-01B887E2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07B0-D8BA-43DA-8494-A82B7F9A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8BB2-8AE8-4D29-AA24-98C05AE7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FC9-BCE2-485E-AB33-CE426CD5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F48-221E-4E87-B308-9B889A5A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25E-4809-4023-A93A-02328832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2CA-E5F7-4196-BC03-3FC4CB29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78A-F1EF-4247-B7C5-61CA48A5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3E0-7BD8-4DA2-B4EE-A6C67D29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45B-D9E9-4A1E-9B71-38C7257B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2F1-C028-484F-9695-2AE70E80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35DAB-A78A-48BE-9B6B-E1968F309F7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1DA74-4749-4A28-9078-A32CBB17084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9D489-8652-4689-BA99-C1393EC133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123B2-E0C0-42F8-921E-3AED2A49529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E7F5A-AAF1-46D6-BCD0-2179B5EC555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8A443-4843-4853-9C28-316AA5CC1E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6379F-88D2-4814-8D9B-97100E9923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EBD3C-D995-47C0-8369-5C03416F12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4104-3537-4DA3-9071-D55EB8BE9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B41CF-3EAB-4E74-A5AB-287A2EB4BCD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858B-D622-4696-BD7A-0DFDCEE5743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C6322-0FCA-49BD-9E49-9D94FD5E63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82747-F3D7-4FE7-A5EB-4A00B22CD7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AC32D-49DA-4F49-8D37-293542F256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60AE-8265-417B-BAE5-D40F8C8891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6931E-6AC3-4DDC-B3EA-E15E25744C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F3193-7AB3-4A27-8B90-F28F835F1D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70A0-FFF6-4FDF-91CE-FE107DE591C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9A9C8-2313-4FED-825D-F7662B11B7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901B5-C091-4CE1-9437-0927B0CFFF9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E12CF-89B1-4772-959F-521D799F72E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46F9-B427-43D3-B069-675E60CAE3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7179E-F5E1-4854-889A-0D0A99138B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12D0C-D731-4619-8975-E84ABF6E2C9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B63D-F64D-46E4-8A5D-DF5255BAA5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12A0-0A9D-4A43-94E3-ECE1974072B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F08C-0218-49BC-A599-E0A8419DFB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D276-DEC9-4109-A7DA-EE8F77F5E2C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BC4-75DF-4D58-BFC0-DAEDF47A8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AE1C-776B-4233-835C-CC5732B7600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3335-DC2B-4424-BADA-5584025D50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9AA8-A211-4A1B-B591-02DA2DA4DE4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A67D-8AC3-4D4B-A152-503BC3A8E6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2337-30A9-4ED5-B89A-BA7FDABE54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C089-AADF-4B24-A21D-5DCA34B6BF8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13E-86FE-40D8-88A5-D1E1A9C69FC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CB63DD-9FCD-4593-9E15-7C48B7EFD75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0976B4-F802-424F-B2B8-3BC8BE5E6E7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1CF26-C985-49AE-8ED6-3857DAFC7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6600" y="-52560"/>
            <a:ext cx="9207360" cy="692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ICANN45-TORONTO-RibbonLogo-PPT4.jp2"/>
          <p:cNvPicPr/>
          <p:nvPr/>
        </p:nvPicPr>
        <p:blipFill>
          <a:blip r:embed="rId3"/>
          <a:stretch/>
        </p:blipFill>
        <p:spPr>
          <a:xfrm>
            <a:off x="109440" y="5257800"/>
            <a:ext cx="1548000" cy="9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40F6A-D1A3-4651-8BB5-B0C76E266E5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A7C0E-9BA0-4F64-A8CD-793A7565AC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3B8701-F54D-4EFA-88FE-C84875652E3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75E27-5379-40B1-8CC3-BBEE2D4866D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ICANN45-TORONTO-RibbonLogo-PPT2.jp2"/>
          <p:cNvPicPr/>
          <p:nvPr/>
        </p:nvPicPr>
        <p:blipFill>
          <a:blip r:embed="rId3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C9BD8-D1CB-441C-9E02-122BCEEC68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F19C1-44E4-49F4-BD0D-D90106DA6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" descr="ICANN45-TORONTO-RibbonLogo-PPT4.jp2"/>
          <p:cNvPicPr/>
          <p:nvPr/>
        </p:nvPicPr>
        <p:blipFill>
          <a:blip r:embed="rId5"/>
          <a:stretch/>
        </p:blipFill>
        <p:spPr>
          <a:xfrm>
            <a:off x="457200" y="5641920"/>
            <a:ext cx="1216080" cy="755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BFA33-2F76-4F02-937D-6DB83BA56C2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9E94D-F5C5-44C7-9D86-97C3E93564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2C19E4-9017-48E1-9F12-99981CC8F1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5" descr="ICANN45-TORONTO-RibbonLogo-PPT2.jp2"/>
          <p:cNvPicPr/>
          <p:nvPr/>
        </p:nvPicPr>
        <p:blipFill>
          <a:blip r:embed="rId4"/>
          <a:stretch/>
        </p:blipFill>
        <p:spPr>
          <a:xfrm>
            <a:off x="609480" y="5638680"/>
            <a:ext cx="1225800" cy="7621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3321F-84C3-42FF-8FC7-8019DD282E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C7959-C188-45B2-8CF8-59773722FA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DD985-5DA5-45EC-8268-2D9A7D818D7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9617A-7B73-4D93-A590-D76C6C03BE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A676A-6E57-4A85-9F72-74A4508968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F38D8-449C-49AC-ADB3-7B4F7C3DFB4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B03F7-A18C-491E-A26A-EABDF89A1B9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9-14T07:21:55Z</dcterms:modified>
  <cp:revision>28</cp:revision>
  <dc:subject/>
  <dc:title>ICANN 45 Toronto</dc:title>
</cp:coreProperties>
</file>