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6A0179-5CC6-468D-A8BE-1F2ADDA5A03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0B426E-49A9-4E9F-BD37-22D976046C2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B280BA-DDC2-4B62-9B1E-8CE48813FD1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429BD8-0CB8-4495-8AF1-1C5859A7409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5E8F81-34B9-4128-A800-14622AABAB5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198DB0-DFB1-4E84-8AD2-DB432466131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1463A6-9B30-4B0A-89A7-E26E7925291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ECDF4A-AFFD-4015-BF14-8B76090EEC8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44F34D-082E-4C1A-9352-EA161BF6FBA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C5C7F3-E810-4454-99F5-02DD939D55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144A9A-F123-4E3B-A58C-BAC4996FFCC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ED4A22-AF43-40E7-A9C0-32C6714376A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0CF9C0-3321-4451-972F-C9E1FE6CF56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F558EE-AF36-48DD-A527-5423CC14843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09B157-14BA-43C3-A39B-9C9DE2CD9E2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88FD6C-FDF5-40F7-AED3-E3AA17191D7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644BF7-F34C-4E43-B4D2-F51B801925D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825F24-9322-42E9-A0AA-8FED2730542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66FBB6-C42A-41FA-8378-2C8E909ABAD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66AE62-DC67-4A43-9B12-604322A2E9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830C3B-B804-47B0-A527-774A2951A0A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8FB4D-5FB4-4265-B4F1-08052007B81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3AB94-0909-4B2C-B2EB-2E9A2E6EE44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6F219-DA48-4C0D-8068-B802BE839E2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6BC4C-1881-41BC-B764-E37E48F0F61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4CEAD-7FA3-4AB9-9052-5C9A7D58E16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0ED61-3A3C-49DD-A675-11115473131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674F8-C474-4AC7-B527-4FC62ADDB6D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E1A41-BA88-4204-B8ED-5B81433CEDA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2D779-43F2-4F3A-8631-73E241CF10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9DF3B-28D7-44F4-AF67-A3E4DFDE4F7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CFABE-F3EB-43A6-AE68-1E8683F3823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DEB61-DBD1-4C5B-9257-BA3FCE559F4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A5E4AA-800B-426F-A6B7-EB643DAE5A0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DA07E3-6EE5-4700-9C37-E9A0F4B53E6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8E413D-0610-4378-9C9E-FB57254593B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F6C1F7-82CC-494F-A6AE-E7BDF365F2F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F85492-5895-41A3-AFF0-44D443205AB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D8991E-97B4-4F19-B83C-8468E221032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E0E59F-A960-4AE6-89E5-46B385C0BB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B608AA-D238-4D3B-A8C1-14C22F08213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95BF4E-0762-4FD4-A18C-36D3BB83A38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260B9F-6D3A-4543-B578-3E5B08FB3B0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D259BA-E5D7-4F6E-96DC-A0CA244306B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BC56AC-A0FB-41CB-BA53-5D587F0A7CF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6E814D-7581-49CD-BDF4-90DCF23D5B1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384EA4-A9B1-4961-85F3-0E1AFB1A2E2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5A3186-D127-488C-B73F-145746030CB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C8C712-7940-4FD5-97DC-674700C90A5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9A58A1-5940-4AEF-9BDF-FB95A106E9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7F96D4-FB2F-4B5E-9307-5F57E2DF6B6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0BE1E6-AC29-4D7D-B9EE-3C2B6BA2B28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83B3AB-DB13-4907-8981-60BF4A7E021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054C7E-87EB-444A-8E03-9994D921CB5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46A94F-9A39-4C2D-B5F8-1BF218AD63B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E13F23-6AEF-4051-9681-9F6C0E392AC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10E6BC-441C-4BD9-BF33-372B7CAF6A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C474-24E2-4E5E-82D5-A2E026576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FF8E-DCCE-4040-8BB5-76377D1D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E08B-33CA-4B5F-91E7-6ECF77FE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8FEF-2240-4A25-8DFF-0D44C099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48E2-E144-4FC1-B290-A5A78C19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6D6A-8D56-4D6D-89C7-F590DFEC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92A9-A3C4-4F53-BB0B-1793C3DF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BBC7-252D-4B41-94CB-8AE3F576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0F69-2D6F-4825-A479-C597116A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8D34-E739-4976-A9A5-39590B99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87B2-96DA-4BBD-8A08-C28B882B3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BC6D-07C4-43B9-887D-4FB5ED507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AC2C3F-6404-4129-90BE-8375FD704D8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6D0B6D-9A00-4212-94A3-74D96CB4611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DF2E50-67C3-48BA-8015-FE44945AC65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B3B41A-8806-420A-AAD4-342CEC18637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6A2A02-F231-4EEF-B1A6-2FBFD2908C7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42B8A-2BC1-4ECE-B7FF-AA72913D3BE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68C85-391B-4467-9731-F1F751847DE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08B626-E2A1-4F14-99C1-B0539AE8FCC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DE212-7D2B-429E-9E76-9ACB7ADD29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ABCB3-A4E9-4572-A227-E4BAC65AFA8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05950-9CA8-4E30-920B-0781B58D2A1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33FA4-7146-4D87-9AA4-F07C6C9B457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23F06-A9CB-440A-8CB9-517E57C9851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20846-E98C-47EE-8EE7-BB29A1B2DB8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B72B8-74C8-418C-B882-4F750AA2CF5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BA860-F939-4A3A-A0D3-B35CDC9832A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CCA81-7A6C-49B2-B690-3D8D6E8C314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67B3D-06A7-4105-A910-B5DDE42EDAA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7C036-3147-49A8-95AA-76FE74A9BE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046855-C110-469D-8D28-9CD68D761F8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59C1D-2012-4B4E-9238-CCEBF650588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C2D8D4-FE3C-4C9D-84EE-BDD68316127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14DBC-5AFF-4C2F-B65C-5B0A596ABA6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4F970-6920-46A3-A954-33C874160BE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76DC-EF99-4DCC-9C40-62525742729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1CBF-14B4-42C5-A19B-B759F6E6BFC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E3377-B7BE-4372-9E77-0E60E7AF624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5721-80A5-4E8D-B59B-3468FF86B62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D359-B016-4170-9070-8B31BBBF36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A6860-C4BB-4026-8E40-FA6D046B958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698FB-392A-42D3-920D-35578162066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FDBFE-F693-4501-AB48-B42BB3982B6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BD18-BF4C-41DC-A36D-3B1F5CCF42F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09E7-C1D6-4B62-9AE1-EF8C8DA412D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7A9B-5178-4E49-B0E8-9A8E34444BB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9D69-B8F0-469B-91D3-FDC9138E254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775534-11D6-4F20-B3A1-3D57C269371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A95590-EED8-41CA-B77B-11AEFE882E2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76D230-74CA-4BA0-B06D-663918B2B6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6600" y="-52560"/>
            <a:ext cx="9207360" cy="6921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5" descr="ICANN45-TORONTO-RibbonLogo-PPT4.jp2"/>
          <p:cNvPicPr/>
          <p:nvPr/>
        </p:nvPicPr>
        <p:blipFill>
          <a:blip r:embed="rId3"/>
          <a:stretch/>
        </p:blipFill>
        <p:spPr>
          <a:xfrm>
            <a:off x="109440" y="5257800"/>
            <a:ext cx="1548000" cy="96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0FA248-E94B-4D28-896A-6D662F6317B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404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81D0F4-B642-44A2-8341-B2C6826D0EA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446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7E2514-7588-4782-B541-EF4F7FB5A44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3" descr="ICANN45-TORONTO-RibbonLogo-PPT2.jp2"/>
          <p:cNvPicPr/>
          <p:nvPr/>
        </p:nvPicPr>
        <p:blipFill>
          <a:blip r:embed="rId3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984FA8-E859-47FC-952C-79A314BA8E3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" descr="ICANN45-TORONTO-RibbonLogo-PPT4.jp2"/>
          <p:cNvPicPr/>
          <p:nvPr/>
        </p:nvPicPr>
        <p:blipFill>
          <a:blip r:embed="rId5"/>
          <a:stretch/>
        </p:blipFill>
        <p:spPr>
          <a:xfrm>
            <a:off x="457200" y="5641920"/>
            <a:ext cx="1216080" cy="75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ICANN45-TORONTO-RibbonLogo-PPT2.jp2"/>
          <p:cNvPicPr/>
          <p:nvPr/>
        </p:nvPicPr>
        <p:blipFill>
          <a:blip r:embed="rId3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7DABDD-833B-43FA-85B7-C61766E99B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ABBD34-A373-4582-99B1-B9FC439802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" descr="ICANN45-TORONTO-RibbonLogo-PPT4.jp2"/>
          <p:cNvPicPr/>
          <p:nvPr/>
        </p:nvPicPr>
        <p:blipFill>
          <a:blip r:embed="rId5"/>
          <a:stretch/>
        </p:blipFill>
        <p:spPr>
          <a:xfrm>
            <a:off x="457200" y="5641920"/>
            <a:ext cx="1216080" cy="7556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4E0B01-A658-43D5-9191-43394504DA3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7CC1FD-7F4C-470B-82B2-EF2224894E9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F73FEC-3440-4A38-BC62-9F4F164E5F1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323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66E0B6-1633-47C5-B3DA-9BD8753BBA4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4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ansition Slid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2666520" y="3429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FB9942-910C-4B0B-9D72-9F6706E954E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ansition Slid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2666520" y="3429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053075-3352-4024-81ED-FB10B844C0D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ansition Slid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2666520" y="3429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96A696-EEAF-4EA3-A1A9-82B9C22F659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ansition Slid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2666520" y="3429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9A1B5D-AEA5-4AD5-A86A-7FF15F44491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ansition Slid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2666520" y="3429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BF6FAD-3015-407A-833D-3CEB99B1089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  <a:ea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Question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61959D-1113-4FA4-8A39-98F9D347A16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21:45:59Z</dcterms:created>
  <dc:creator>Lynn Lipinski</dc:creator>
  <dc:description/>
  <cp:keywords/>
  <dc:language>en-US</dc:language>
  <cp:lastModifiedBy>Matt Ashtiani</cp:lastModifiedBy>
  <dcterms:modified xsi:type="dcterms:W3CDTF">2012-09-14T07:21:55Z</dcterms:modified>
  <cp:revision>28</cp:revision>
  <dc:subject/>
  <dc:title>ICANN 45 Toronto</dc:title>
</cp:coreProperties>
</file>