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168FC6-103C-430A-A486-209CB917981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E76C7F-064E-40CD-8B28-D5B9ED12914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3E12EC-0B90-4E6D-97DB-4E3080B3358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B78E3E-FD81-4823-A9CB-67DDB033CD7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7CAE96-796F-4A38-8F4A-01FBB1E21E1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F70389-74A4-41F2-881B-E7D235F0541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30C672-CBBB-4AB3-81C1-DE0D7B76975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AD615F-B2AF-4467-95A5-F8396537344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56DE39-8F15-4C34-B54F-325E1B7CD36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5842B-475B-4908-8595-415864697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E3CFA-B7A5-442F-B956-1FAF3591CE7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F9988-CCE1-4976-B430-1977684362A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06FBC-8E31-4346-B96F-4170FDD933C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87CD7-111D-4628-A0F9-C3648322DE3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49D2A-C72B-430B-ACEA-F486F86B255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D1D33-A104-4CEF-807B-A62D0D07643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43443-0B0D-4A39-812C-2937EFF61B4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0ED3F8-E08F-447E-9ACC-FAEB782C6D7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0433E-69A9-40E3-A622-B9A36DB8487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5982F-FDFA-49F6-889E-0E4EAEACE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77DE2-5E35-439C-B4DC-B11EF1E3D27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ECDC3-76B5-43A6-B085-77AC36A3581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13815-44E3-4577-BA32-C5685F8E65D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57BC3-4902-429A-97A8-9397EE34F73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3C80C-DAF3-4316-9281-0A30379D995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86961-A238-44B6-88BA-B5B7563E528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D594E-C4BC-484F-AEE2-AD0A18DF4E9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A5710-47AF-47F6-AFBF-B092160E996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CC50-C058-4C63-BFB3-C04D49FF113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0BE07-B667-45E7-A680-315F12637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8D23B-A0B4-4EF8-B20D-0B4DB6457F1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6D96E-2F2A-4D74-A28F-E47104FB2E0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AD81C-12F8-4BD8-8A4F-187829295FC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8979EE-7549-4CDA-908E-33495AD7552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1A1CDC-9083-4FB8-8724-156032BB700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AE67AD-0379-4919-920E-76206277F63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F5380D-2B33-4CF5-A430-D50311E35AE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9A9D6E-8D3A-48E3-BB20-1E5FE6328C9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5B2264-26B8-470B-81C1-BED1A2FD438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39FCD8-3915-418A-8549-E0C08172C5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306A48-6FC1-4324-8071-BF46D03A8C5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A67C61-743E-4B76-9FAE-B030F78CD42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7460B9-EF96-4C87-8C3C-C1EFEB67B65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2A7FBE-F6C0-46A8-A595-BFCE8D77789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C05712-18A0-4035-9742-E51A64925FE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38FDAC-9815-4D2F-9210-659D3EF76A7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E64B50-6F49-48DA-A1D5-E8EA471E1BE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B9A236-D3EE-41EF-814A-A15154B2B62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23D8F4-B313-4108-96FB-0157CC5A2B8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8D0198-1245-427D-A68C-C974F8EA03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203121-749D-4D8F-AA7E-CE5873D4CF4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B14608-4173-4E25-9F87-DCDDCF2F166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856E64-9765-414C-AC15-6A62B7ADD5B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261AB9-D097-47C1-BF4F-86E7A252469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A9D142-B75B-48A2-AD90-B59AB5D03E2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BB0134-F8DF-4F3C-9895-2634634C136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3FE9A-AA3B-4533-898D-724654FE82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D9E-A272-4AD7-9E12-1A0F02B9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10B-4700-40CA-8741-C27657D1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588-F129-4987-B6A3-0A4638B2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8EC-DC88-41F6-A400-7BB7D388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69D-EF17-4967-998D-6350067C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C493-44E8-4310-B73E-763B9F86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5F6B-4680-41A2-BE22-E7E97E7F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FC25-7C6F-4B85-8999-349B9AA5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0D1C-CDA0-485F-8FE9-954E57F7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D7C7-1424-45D0-9DAC-FB935B85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64E-7499-45AA-826A-564EEBDBB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6AD-0EF6-4DAE-9C60-AA587DF5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4D6DC-645E-4F9A-B9E0-FA9069D315C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2CC55-4CF4-4444-8B67-076897C4C71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CB5AD-CBE9-4E08-87B6-CD5F30048B1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250A8-8C64-4338-B34B-9BA6ED5F24B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66A5A-FCFA-4E10-918A-CD0B180C01F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0A890-06E3-4624-92D8-80926ED588A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0B675-842B-496D-B44C-EF77692F820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D1941-0111-41F8-BBCB-8036B177490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992AD-3CD8-40A6-A1DD-9E63392B5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E9296-1CCD-4489-8861-54C530412D7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9E0B3-8A8B-47D7-B444-CBEF5A17C8D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F19CB-0697-4100-A585-6332E4D4659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0ACDA-D299-47A0-B713-A5BF1A38BCC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E3462-2D6E-428D-967E-1526B316E4C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EBBEB-5098-4148-97E5-35032F824AF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F9249-71F0-4123-AE2E-A7E6747221E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1172A-C09D-4304-8161-22BDC9459FD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CF1FD-E0BE-42D6-AE7B-9699C85A3FE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B0391-CBAC-4A1E-93CB-D3263ABA9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BEA6E-70C5-4745-84B8-2125119AE13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B8071-8E5D-4DAA-B02D-9EF4693C070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A5365-5299-4199-B505-541635AA956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7BF52-9472-4194-A2C7-A63D07CE159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B627C-478A-49E5-A2C3-D8702E013BD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D030-EE4B-4AF7-A1C3-2ADF8BF7236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6412-AFE7-49FD-8FE3-655088FADCA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C7AE-1F8E-4B2B-85E3-F2FFD29D21A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C552-5452-4256-8624-0F5C889D36D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B685-3A51-47C4-BBB9-BA0554256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ED49-A2E9-42B8-94D2-91CC0ECB7E4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D179-FB77-4190-9A53-6F606D0097D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1E8D-529B-49A1-94D0-59A88803F4E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B28E-E269-4543-9627-109A1AFD632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2E50-3C6A-4B4B-BE93-2B14B1CD12A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CD9F-137C-4E7D-B3EE-16286386E98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D4C0-609A-414E-9882-AE30F847527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E4BC58-36EF-4B3D-8001-47F4BF3EB74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B33C8F-49E6-4ADA-B85B-E13C2CC47F4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A0DBA5-88C0-4920-8150-DD4A2CD30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6600" y="-52560"/>
            <a:ext cx="9207360" cy="6921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ICANN45-TORONTO-RibbonLogo-PPT4.jp2"/>
          <p:cNvPicPr/>
          <p:nvPr/>
        </p:nvPicPr>
        <p:blipFill>
          <a:blip r:embed="rId3"/>
          <a:stretch/>
        </p:blipFill>
        <p:spPr>
          <a:xfrm>
            <a:off x="109440" y="5257800"/>
            <a:ext cx="1548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AD2D4-E074-4B14-B5B9-C05C3C44970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FE1B9-8DE5-4E80-90AE-46AFFECD60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46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B7E27-7AF5-4FCE-96C9-583827584C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C5166-B560-41F9-80F9-4F130E841F6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F761F-321D-4922-9BB9-798368B6DB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56E77-CDD7-40AD-93EE-D171F1C3C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76785-1AF5-4E2E-833E-5BBADF6126C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25AA2-1831-4FA3-ABFE-E0DAE6BD2EB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AE114-359B-4ECB-AAD8-CE0460564AE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5EB47-61C1-4CE3-8DE6-1B553C74928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ECDC5-27E6-4F8E-B257-B93FB400F55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FBD0A-C617-4BCC-B9EC-6A449D02711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878616-6E1D-4CA8-9469-1DACE684533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0242A-144D-48BD-ACBB-07F25D09C75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17EA7-A9B2-4476-ACAB-D45A676B151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D9410-B006-4684-A79C-0FB710063FA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21:45:59Z</dcterms:created>
  <dc:creator>Lynn Lipinski</dc:creator>
  <dc:description/>
  <cp:keywords/>
  <dc:language>en-US</dc:language>
  <cp:lastModifiedBy>Matt Ashtiani</cp:lastModifiedBy>
  <dcterms:modified xsi:type="dcterms:W3CDTF">2012-09-14T07:21:55Z</dcterms:modified>
  <cp:revision>28</cp:revision>
  <dc:subject/>
  <dc:title>ICANN 45 Toronto</dc:title>
</cp:coreProperties>
</file>