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6BF77-3CBF-47FE-B2DA-41AD42919A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CE13D8-8622-47F6-A62C-6E3EF55F73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DA82C-6B7E-4BFA-AF42-4AAC9E9C10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BA5D3-2949-451C-BCF8-FCD813D2D92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403EF-A855-4574-A783-F8E2322AF0C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5FC22-FF0E-47F2-9430-1156989ADC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383BC-1E9A-4803-B0A3-CAC513EA8A5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23A54-8A21-467B-B568-BB5B64F69D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FDB26-D7C5-485B-A3FC-C4A045FA020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A5EA5-5506-4065-92E4-B28CED8BC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7929C-C0D5-4BC8-BD0E-3F98A350AA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E0F36-2619-455D-8A3C-A1611BA090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520D7-8804-466A-A0C9-84BCB07035C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EB61C-B069-4C25-90E2-1C0EDF0E574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9F46E-CFB0-4B3F-825B-20D8D330A95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C0286-6D1A-4F9A-886E-D0CCA118E53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6B846-FE3D-4317-A870-FEB90D0FD0A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86D91-80C6-42BE-A90E-7B9CC962F69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58213-8B76-4508-8525-1D757D663F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CF278-9A68-4D67-A731-B1850B15E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E8F53-DF57-4AAD-825C-1B102CA242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99BD-58D9-4299-BD5E-5A0C00734C3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6984-D9FA-4A4C-B823-C185D592A6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0362-AE1C-44A1-9870-55F3074C9A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0CF9-6DD6-46EE-8CDC-5F86548A7C2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CC66-4F0C-47DE-9969-A2031BBBB73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1283-24B0-4230-B971-1D2B019A8A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3EA2-E7D4-4710-9DF2-155ADB3512F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F13F-995D-4FA7-B0A0-2108BED409C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E430-BBAC-4741-A580-25E65FEEF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AAD4-4174-4A82-9250-1AE24E3FAA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2EE3-22B4-4E9D-9C11-F1B069DB19E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2188-E650-4A56-85B1-3F71BC1874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7F275-BB3D-4328-B2E0-913EFC8BFB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B62EFE-0A49-49EC-8D8B-6C916505FB7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11C73-F225-4094-BCEF-AD5795E8985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F3638-0F4C-4F47-BB9C-C41DB1959B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B74EC-C6EA-43F5-A5C4-26FDCCFEFAD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E585F-748D-4B95-B625-121A9ABF94F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1118D-4DC5-4A74-B346-89ADE8F72B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218CA-4964-47BF-BF1C-BC9050715DD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3A13F-6151-4BA9-A6C1-BA991F02461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7546A-63C3-4EE9-8729-55F608FC095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8D8F8-7251-4E2A-9795-03207EC0A11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130B3-4E4F-4353-AB10-5A8C91D983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EED52-3843-4BBF-B5E7-6BF4E213DD8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795D3-947C-4083-8C27-014C6CB721E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09AEE-3C61-4874-966E-D303A0C038E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F3CA7-3831-4594-AEC8-940C5185B63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43ADB-A4CF-4898-B28B-C94CA76E99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E47CB-80DF-44E4-8C0E-4BFFF48E25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5A729-58F4-4563-8BAD-DD445FF779C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108E3-935D-46E0-B792-1ADC6BEF9EE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BA38B-B2D6-492B-A5FD-457F43BF462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10A07-9088-4D30-B4A9-7CF2E64E1AF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2E3C6-218C-4771-A842-49C51D6593B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9BB0F-28AA-4E24-886E-3769DD4A8C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E2B-74B5-49DF-8A30-55EE8C3A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EAD-04B6-4A30-85AC-37C4FF2D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A8E-2372-4C60-82B1-87297E8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F9A-9C9D-4D5F-BCD8-9C388A18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543-BE7D-442E-A2C5-2B58493C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810-C166-44AE-8809-6B0CA55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2A8-4750-44CE-A610-2AF36BC2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BF7-E2FE-49E1-8B5D-722B79F0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B43-7C27-437E-B67A-284B2967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EA3-8314-47C8-B0F0-54A502FA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3BB-D1E2-478F-81D8-EC1AD72E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E25-26F0-4B8B-9098-8B9FE9BB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CB093-877C-4396-958D-CE65F22C538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481A4-6744-4759-9292-0AA5DDDC61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CF39B-3D49-4600-9B01-D701FC0650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AA107-3A98-46CA-9575-340ABF800B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4CE9C-77B5-4355-B221-C90B688592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47247-97FE-46EB-B0A5-B754E39749E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B3794-6262-4D4B-9BC0-E9B294AC0BF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C142D-BDE1-4410-A288-BC5D67D64E7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0C990-250F-4FEA-8465-156F5FE7F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555AA-5116-4202-B7F1-5CC044B9C0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89169-3480-4EBA-808D-71B99D5EF59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80B94-BBC5-4A1B-A6E3-3EA223076F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B7A73-F5E7-4D16-AFAD-AF1015E233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59367-81A5-44B9-A477-6F373757403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6CD34-1CA3-4629-9AED-EAC31DFAC6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D498F-91CB-46FB-93DF-9415D3C8449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AADAD-0C07-46A1-BAFB-74C6B9CDE4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5CBA4-D402-4A00-B597-E42370CEDA5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70586-B176-42D7-AC94-D51022280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55B23-CD59-4807-9739-1B85D79707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49EA8-45B1-40FA-928A-7CB4F4089D1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1229D-8703-4AA2-A705-7DBFFF1547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691A0-C040-47A0-A73D-D0F4E2FA156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1E467-A3BF-4EF3-A57F-75F37002390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55ED-08F8-4262-B215-0F770A5F215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A00D-7C83-4FCC-80FB-F99CEC78B0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9B4D-8824-47B9-A9D6-628153B6803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66B9-EE65-46CE-B99C-55127F39FBF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3DED-F3B7-42EC-AA87-3B4462782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F358-B7EE-4367-A2BD-870DD8CB1E0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62AB-A50F-43FF-B5D5-A971EFB3435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A427-A794-44CE-AFF5-030C59B81B7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5276-6652-4454-A0B2-1218CDCE605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743E-0530-49D1-9254-12851547362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880E-ED65-46E5-B82A-21469EF9849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0E36-D635-4C08-B390-BF5821B561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7E52E-7874-4EFD-B824-E224B16BE5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72D41-1F48-47B6-8EDA-94707234C0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3D0F1B-BBEA-48A9-A946-2DB7FAEFD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6600" y="-52560"/>
            <a:ext cx="9207360" cy="692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A961E-22E8-4D06-9EAD-A4B24A127B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A1635-EF32-4E07-9ABC-BF9996DB85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908A0-2B3B-4900-BAAA-CC61652071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D5FB2-C811-4C39-9145-E85976DB69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21617-A40A-4379-8BA9-BEED92BBC6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3349F-C22F-4FE7-B3C8-940E2CF01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E00E9-A2B1-463D-9E9E-D88DE1E225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CADFF-6A8F-41DF-A18B-BCC876EA90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0FDBC-D553-4157-806C-E95723B46B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A7BD1-5A0F-4E98-AEE2-3E43E3B176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91CC1-0DBF-49ED-BC23-5536F0E5E7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DEE5A-3865-460B-84E0-7ADEA5A67D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B7F31-7BB0-4734-B0FD-9462503ECA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A8F57-7468-4F4C-BC03-995120082A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F95CD-D4F4-409F-8285-A328FCD1D4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56F6D-9569-4197-B51A-D2AB2BBF6C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9-14T07:21:55Z</dcterms:modified>
  <cp:revision>28</cp:revision>
  <dc:subject/>
  <dc:title>ICANN 45 Toronto</dc:title>
</cp:coreProperties>
</file>