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5F139-A6B5-460A-8DCD-260A5ACFA2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0AC9C-DA0D-45CA-AB56-2160E0C159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95FA84-AAD2-4927-9DA3-5E76117ED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B225A3-5897-4A90-AFC8-28D916339A7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B73B8F-A3F8-4A5F-A79E-63822DED688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D1D26C-F47D-4FDD-BE0E-8BFD81AA7B0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0F1242-6F87-4BF1-A6B6-AB859E2C139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22F021-BD2F-4AAB-818A-2D0713CD0B7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DF1931-FE6E-41E3-86C1-3E6D530A842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F99E9F-5C8D-460E-9842-C303D7D1596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F4D100-B70E-4610-8F05-8895EFC053B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1BDA3A-4D93-4AC8-9B66-B4FC69A4C06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0E387-23A2-4D76-A293-73C4EB69F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CF1A83-C54B-4DC5-A596-9BAED58659D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4A8667-F516-464B-8350-B7796617634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D42B0F-A01C-4327-9B31-7453BC33607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C796B-A6AE-437B-A003-D277BAFF90A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3B0B9-3301-4602-8DCB-A01208CC89F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BEF6F-DCE6-4521-A546-DF3DCC6336C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E8787-D809-4168-80EE-D4434AD09C0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6510F-DE99-4E3D-AD7C-8593D47E542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40DA9-514F-4F83-81FC-5D4C24E6847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22043-4A21-4534-9864-7B56EC307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C6FD3-405C-4CE3-979C-6FBACCE574D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7B053-68FD-4778-910B-15B49AC557E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AED0D-C270-4EAE-9AB9-2BCAC07DD24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3CDB1-3172-4E92-A762-DD078CA076F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F8240-0363-4C91-8498-32C12981A4C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0BD75-E910-4BDE-ACEC-8485988EE59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F4897-0026-4B0B-B417-E67AEBBE308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3A9D8-DA22-499E-93E2-AF3057D2902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13C0B-66E3-4859-8A77-E15DFA37AB3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FD9DA-0784-4FFE-A9C4-BC4B39D3B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A3657-076F-4587-A0D2-0DDF83DFE40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60F5F-0ECA-4222-84B8-987252BE099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DA4C6-3F65-4A63-8E12-85446AF59B2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55B5B5-6A2D-48A9-B163-95ACAF4FE95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074AD2-C373-40FC-857A-821836F7250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95CBD4-6341-4957-B2E4-66CC82577A5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611A79-7A97-4FBB-A8F2-AC7591842A7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4A19A5-EBDC-436C-9EFF-D1CDC8B65B8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E0AF20-C2C4-4BD2-834C-D2465226ECC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77F17F-E58E-49AC-832D-2D1C0A8335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9E72FD-9449-4B7E-B938-599F11AB0BC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CD02D6-0666-4BED-9F84-E84ED9F22D5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177070-FEDF-4274-994E-672EFBC61C4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03B763-DFF1-457B-A478-0CEF1FBEB25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88E336-BA53-4168-8047-BA1403F0457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442E83-238C-4AFA-BED6-E61EFF777EB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597620-FC54-4EB5-B65E-962EDBAA1F0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39130C-8575-4AAB-915D-A8D77BC6E0B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C49772-729C-498A-BF02-1E47CF5408F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A2E533-788A-4849-A5BB-3AC09CE409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6EED8B-8193-40C4-9F27-B3C7B94A655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E5EACF-70A6-4D45-8D15-908CE154A71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DE1C1F-7D1A-4188-B0B2-54A5D8DA8F2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3B19F7-4BC5-4ED6-9665-2AFF7D4891B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EFFCD0-67A3-4802-9025-98D88A3B9D7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CD7738-375C-4D6D-9279-2A58BC108BC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58F4BC-271F-4001-8D3A-7D7B3475DD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653-44E1-40EA-8B54-D18D04BD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909-AFB1-4A3F-91F5-9E18AEE6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68A-D5A7-4062-96C6-0CC730E9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66C4-468B-48F9-B627-50711E0A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C0B3-C265-42B9-823B-4872B4F6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EBE-6AEB-4C11-96D6-8F2ED0E2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4C4-516F-4FEE-A099-8FE8D02A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D78-6410-45EB-8052-A11ACCA9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3E0-AB89-4715-8EA7-83F8A33A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26D-8A42-405C-AD63-C915891C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817B-33AD-403A-99E4-EFD0B7D1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CD3-D9C4-4D6F-A781-19EAECC2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ABDD1-6E4F-4E15-B83E-7F49D66B976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826DA-5785-4D2A-9DF9-1D1B4AA02B0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B17C7-C647-413D-8F09-728B7325868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C10D7-10C1-4EC9-89C2-03E6BFF9657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440F3-F688-4893-B6EA-20F40F915BD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E6B58-5DDD-4384-A8C6-D76C12B6A14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53E1A-3E39-48CE-B6AC-69D79704798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EBD1A-C1F5-4376-8F04-CF5C4836861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361E1-963F-4D08-AF92-A3BF4A1C1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A8A07-CFC1-4D5E-998C-816180BD21E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A742C-6768-453B-B89F-34CA6272DA8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98347-F0BA-40CF-B5D0-D6FD010EB75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634D7-36FA-4544-B031-D45CF610ACC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E65B2-EC16-4A28-AFB2-44D67E3260B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32D25-775D-4C1A-9F6B-E8B60B0E389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C60EF-F05E-4F0B-8DD5-991068B4D0C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3C1D6-9E6C-4B6A-BB02-0884C682F56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9E9FA-9362-4506-AF79-6ED5C963EF8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3A422-97BF-4A48-BCB6-D28A4DB7D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F67DE-A114-421C-9947-0E40CD67906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7FEB1-F4F1-41F6-849C-92EDE8B6603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4FBD8-F8EE-42A9-815C-6DA3B0DA0AE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0EBB7-5B1E-4DB5-800F-6B6B6677155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E8C81-B163-41ED-B4BA-2B35D67D1A5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588E-6BEE-4F67-879E-779E6D56B30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3960-DADF-4D19-9005-7029967F9C4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7E14-178B-4E26-BB2E-32C6C7F654B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509C-7795-4B1C-8345-A794E1EB045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3284-9B7D-4D37-8AAB-F6C93BA86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001B-EDFB-4888-8619-CA5EF7FC00B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22C7-E20E-406B-ABA4-0C8F95EA97B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9DA3-4E27-4451-865C-8A831BDAF44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35F5-ACA4-4FB9-B69F-C30247BA5C9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7961-BC71-42F4-9F8D-DCA296946E8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4DC4-2896-43E1-91CF-ACD53696B04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7D93-CBD5-487D-A30B-51103C56691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E53F0F-B049-4DE6-B3B3-F642CBED8BF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BDBBE3-6C09-412E-9F08-2401CD2DBCB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E60A13-531F-438C-8A1B-254899B7D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Prague44-logo-final-reverse-11M12-FINAL-nobackground_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9016F-1C30-4EAD-8400-C3AB88A3E5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4B22E-CB83-49FC-BA0B-CBF2B14129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44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56796-65A3-4720-9483-621E6E87B6C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F4A91-AD72-4DF1-99B2-DE4AF93884E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E198E-DA39-4BFF-9DF4-7C28D7BDC9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7D9BB-C6C7-40D2-BF76-B6AB00CCF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ECB54-28D8-4497-9F75-B17BAD79CE7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9ED94-C181-402F-BFD0-34AA07E6F3A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E9CBC-059F-4BE9-B14C-705501296FC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2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64321-E2F7-46F7-9AA7-9AB871867C4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nso.icann.org/issues/intl-org-names-prelim-issue-report-04jun12-en.pdf" TargetMode="External"/><Relationship Id="rId2" Type="http://schemas.openxmlformats.org/officeDocument/2006/relationships/hyperlink" Target="http://www.icann.org/en/news/public-comment/prelim-protection-io-names-04jun12-en.htm" TargetMode="External"/><Relationship Id="rId3" Type="http://schemas.openxmlformats.org/officeDocument/2006/relationships/hyperlink" Target="http://gnso.icann.org/mailing-lists/archives/council/docCkHGfCJ5QB.doc" TargetMode="External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tection of Int’l Organization Names in new gTLDs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Calibri"/>
              </a:rPr>
              <a:t>ALAC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rian P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Further Informa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048120" y="1447560"/>
            <a:ext cx="5790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Preliminary Issue Report –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ea typeface="ヒラギノ角ゴ ProN W3"/>
                <a:hlinkClick r:id="rId1"/>
              </a:rPr>
              <a:t>http://gnso.icann.org/issues/intl-org-names-prelim-issue-report-04jun12-en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Preliminary Issue Report Publi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Comment Forum -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ea typeface="ヒラギノ角ゴ ProN W3"/>
                <a:hlinkClick r:id="rId2"/>
              </a:rPr>
              <a:t>http://www.icann.org/en/news/public-comment/prelim-protection-io-names-04jun12-en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Defensive Registrations Briefing Pap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ea typeface="ヒラギノ角ゴ ProN W3"/>
                <a:hlinkClick r:id="rId3"/>
              </a:rPr>
              <a:t>http://gnso.icann.org/mailing-lists/archives/council/docCkHGfCJ5QB.do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B2F98-515D-49AC-BD93-D23EF635245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EA72E-383A-47B9-8673-FC2833A51BD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d Cross/IOC Names Update Since Costa Rica Me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26 March, GNSO Council approved the IOC/RC DT's recommendations to protect the Red Cross/IOC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10 April, ICANN Board’s New GTLD Committee declined to adopt the GNSO recommendations at this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Board stated that although the substantive “recommendations of the GNSO are well taken,” it had concerns about timin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E3FB7E-A137-4BAB-BB9B-EB503C8E52D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d Cross/IOC Names Update Since Costa Rica Me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11 March letter, ICANN Board requested the GAC/GNSO to provide policy advice on whether to protect IGO names at the top and second levels of new gT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NSO has deferred any action on the Board request until the GAC first provides its policy advice to the Boar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NSO Council requested an Issue Report on special protections for international organization names and acronyms at the top and second level for all new gT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s the Red Cross, IOC and IG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AC7EB-CCA0-4814-BCF2-BF3929CD1D4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d Cross/IOC Names – </a:t>
            </a:r>
            <a:br>
              <a:rPr sz="4000"/>
            </a:b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Current Stat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emporary moratorium for Red Cross and IOC names at the top level for new gTLDs will expire after the initial 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currently no special protections provided for the Red Cross/IOC names at the second level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liminary Issue Report published and public comment forum opened on 4 Ju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NSO Council sent a letter to the GAC on 7 June informing that DT is continuing its work in evaluating the GAC proposal and possible recommendation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CA30F-2850-44FE-A26A-F8967B4BF38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047760" y="1447560"/>
            <a:ext cx="5987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ine the type of organizations that should be evaluated in any related PDP for any such protection at the top and second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be how the PDP could be structured to analyze whether ICANN should adopt policies to protect such organizations at the top and second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: Includes an evaluation of whether to protect the names of both international government and NGOs at the top and second levels of new gT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CE51B-B12E-4F84-8ED5-0343AD278C5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047760" y="1294920"/>
            <a:ext cx="5987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rently available protections at the top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view and objection process currently underway for applied-for strin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gal rights objection may be applicable to IGOs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dependent Object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DDRP for holders of a word mark specifically protected by statute or treat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rently available protections at the 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demark Clearinghouse, Trademark Claims process and sunrise prote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DDR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form Rapid Suspension Syste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ff recently submitted Board-directed briefing paper on issues related to concerns over need fo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vel defensive registrations in view of current prote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CD157-4C1A-4FDE-A170-28C3F0ABAE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 – Suggested Issues to Explore in PDP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047760" y="1447560"/>
            <a:ext cx="5987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tion of international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ifying the entities to be considered for special prot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 of protections under international treaties/laws for Red Cross and IOC nam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inguishing between Red Cross/IOC from other international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ing an objective set of criteria to determine which international organizations would qualify for any special prote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3A4F1-D114-4B35-A20F-4D614D7B8B9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:</a:t>
            </a:r>
            <a:br>
              <a:rPr sz="4000"/>
            </a:b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Staff Recomme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7760" y="1294920"/>
            <a:ext cx="5987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NSO Council should consider whether or not to initiate a PDP as an approach to develop any additional policy advice in response to Board requests on additional prote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PDP initiat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ggest that scope be limited to: 1) IGOs and 2) international organizations that are not-for-profit and are protected by treaties and national laws in multiple jurisdi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sider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inimum required timelin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ork load issu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complete a PDP, and that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dditional resourc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y be necessary to develop recommendations relevant to types of protection at top and/or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level in a timely fash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09F4E-59E8-4D8E-8FEF-9D6766337CC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047760" y="1294920"/>
            <a:ext cx="5987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afting team working session scheduled on 27 Ju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blic Comment reply period closes 16 Jul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CANN community is encouraged to participate, and to comment on whether a PDP should be focused on additional protections for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i) only international organizations that are not-for-profit AND are afforded unique protections under international treaties or national laws in multiple jurisdictions, and/or (ii) all international governmental organiz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ce public comment period cl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ff will review and publish public comment summary re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ff to publish and submit Final Issue Report to Counc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uncil will consider whether to initiate a PD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C0FDB-1802-491E-920D-34071CC4D26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1:55:40Z</dcterms:created>
  <dc:creator>Brian Peck</dc:creator>
  <dc:description/>
  <cp:keywords/>
  <dc:language>en-US</dc:language>
  <cp:lastModifiedBy>Brian Peck</cp:lastModifiedBy>
  <cp:lastPrinted>2012-06-20T23:51:04Z</cp:lastPrinted>
  <dcterms:modified xsi:type="dcterms:W3CDTF">2012-06-25T21:11:58Z</dcterms:modified>
  <cp:revision>14</cp:revision>
  <dc:subject/>
  <dc:title>Presentation Title</dc:title>
</cp:coreProperties>
</file>