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E46C4-F969-4E73-BD8A-5D8DA08344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505C7-3759-426B-9287-AE820D63E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BA9A1-AFEB-4921-B728-1253F5CB6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211564-6681-444C-8107-BCB2EBC1BE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E657E-0BBB-4978-B931-F1E561D3ECA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C1969-03AA-4A14-B531-C906D1ADD56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E47D6-7C6A-4C6E-AB9B-FC9AC83A447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4A6D5E-4F06-4E39-B52F-324589891FC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3E058-BCCF-4987-8C00-A9BE2AE455C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683107-2D45-4F2E-9F61-74FA89B5262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DB0580-C0ED-4A66-8961-1CB0FCAAE3D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97D822-5057-4561-93D4-F55A0F30A0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475A6-F7A4-413B-A57A-B39F28C54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0582E-5FCB-49FC-B48C-58E794B9F5C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D9996-74DC-42E0-886E-B90FD69168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13A84-9D8D-4A3D-88F3-B6C6906CF2C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B056B-9431-495C-9CF5-BB172162D0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1CC99-770D-477E-8920-335A21B0419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8AFE7-F38A-4259-BDC5-950916C515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7CC7A-8477-48FD-89F0-AD6FA6A3B6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735C3-C532-483A-85F0-8E2E2516AEF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B7CE9-B069-41D0-9B91-715E52DAF2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24026-7B02-4536-A8DE-676031D25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D79E9-D718-4B21-B7A4-A93DD16EB04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1EAE-3FE0-42A3-BB36-BCFF22A0F1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085A-9C08-4E18-B413-AA9135251EA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EE04-21A1-4795-9C1C-40D372CE1E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B8E89-C7A5-492E-8FF4-8AB2106DC87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BBB1-E078-4612-ABEC-2C03A0423A9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50C55-5E2C-4B12-9B99-B9683B19473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7535-2323-48B2-81D5-606A781FF29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6173B-96CC-4188-916E-CBA395E76C6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E141-C024-4860-ABE0-A4584580F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1CF1-8638-45BB-8F33-D1961D372EE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58163-A51D-4D84-9572-098CECF80D7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D6B8-D51B-41FE-AC4B-FDF370A2940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8B3F02-315A-4FFE-B739-3CD27C273A3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666C5-A863-4BFD-993D-622DF80800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A0EB0-2880-4859-9E2B-237F77D996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79C220-AD2B-416F-B2BE-3FB3A95BB8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8667B-45B8-4661-8225-C2FEDAAC4EC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3B08A-8113-4F4A-80A7-33F13B45C7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FBDD5-A9AC-43E1-8413-5EA487DC5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E10CA-01D9-42AD-B03C-0DBDA1ABD99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20388-0254-4DCC-9F40-CF2F90D590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5904B-74F6-481A-8A8A-32927D1C7BF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2745A-64DF-4244-9FBC-B6A06AC4FAE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F58B9-20DA-445A-A11A-96619704F20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C70CC-4090-445C-8F1F-14074726A0F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C1610-2E37-40EF-B655-40E1C70C82C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9CC0B-8883-4565-A4FA-3F9D59ACFE3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13382-F462-4B94-8ED2-4806A4F2D31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D18211-DB4A-408C-A667-9D8BCA3F16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5EDDB-AC3A-4D86-9F33-BF73E9E84DC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9047B-7A66-450A-BDFB-E36909F6E17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503B1-4C15-4BBA-80BB-7E50888E2C9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F3D67-FC31-4A47-928A-760B061B7E6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FE688-4709-4495-9385-3BDFA121A98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BBD18-9D86-4D1A-94EC-6E96B406890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D6B20-F94D-49AD-A9ED-D018FF7273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3E6-590C-4FD5-B3F4-AE21510D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2A4-9569-4EDE-8F70-2371096E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8AF-64B1-4D72-82E4-4E511AFE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D71-91CB-4A84-B194-18375B5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766-1514-4940-A922-454C1269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4A8-A23C-42EC-990D-264E921C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466-E7EA-4D00-84B1-1E0D9313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498-DCAE-484C-AECB-1C5F1B8D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DA2-DDBB-4FBA-80DD-92D1CDF4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1434-0968-4F77-884E-C5F1E29B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998-3CA6-4142-A063-E3EEDA01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3EB-C6C2-4AB9-8BFD-88167A66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F829C-C461-4FCA-B129-4A0CF9CDA2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461DD-F64C-4B60-91FD-20F4C271B93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6798F-5211-47F1-B5E6-FA0773666EA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64D84-037F-4459-ABA6-2D81317F96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6D80C-6149-489E-8662-D39FC5319BF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62B66-AF38-42D1-8367-E034D71FDA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C0E01-F29B-4AC8-BDF4-E6E8FFADA7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04D09-822B-4C9A-9F66-CEA7A8DEA8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82C45-24F7-4E18-B435-D7CAE9107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E74A5-83ED-4896-A098-66DA3D3884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AB9A8-8667-4BDC-9529-5EBC1F19B6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B0CE2-BF78-4ECE-B0C5-1B62EB05F63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AC44C-2F3C-4C90-9EFE-593EBBCC5D1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EA1F3-560F-4B7E-AB86-22D15808AB7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64B2E-6562-4BD7-89A5-728D00D0F2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7643F-FE4A-4182-BF15-D9EFBFA1E5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456C8-A5C0-4B5C-AEF3-43E103409D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2D3DE-B770-4361-8A4B-4B0FDBEA83E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D5513-FB17-4970-B0A2-CF4FC2ADF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532A6-53C1-4E1F-B86E-E84ABD0ACEE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D985F-EFC5-495F-AA02-4AB0A193787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26627-DFFD-4823-AD54-2328AD5C76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53226-CB91-4248-946E-B104D0CC381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3E22C-2EC4-4566-825A-A679F63072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D7EC-AA33-4D1F-99FA-8C76B44A96A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B6FC-FE40-497C-B5A9-CE1F69B5129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C28D-01CC-413D-932D-CF637ACB44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CA8A-6F51-4E63-88A2-C80B905C4BC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C4B7-9BB0-44F7-A13C-35651A52D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9256-B311-4834-AC4A-D3AA076D75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EB3A-FAB8-4EB5-9790-D93ED622CBB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9588-2374-4BEE-B23D-C746622A93F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C6DC-B3D6-4F31-8975-4441C356C2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D59A-8558-4B15-8FBE-14AE5EBAD49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3032-2348-41D7-BBB9-B1E7205B55B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9170-E8A3-49EC-9409-FDE4339B69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96EA4-E811-4AAC-BE1E-B7FBEE507A1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8F35B-6201-4A26-8913-E4381129D4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6735F-9FE7-4749-A93A-DA6CB381A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F7C6A-081E-4C70-A2EA-412176799C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D057D-5D40-46C4-9C67-DF25E96284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A880D-8DE0-4774-AE1C-C50FEE2E48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49E2A-4424-437C-9D95-F75BF440A2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B9FFE-1596-4805-B025-4C297207C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7768D-2C6E-40CB-8C98-BC5086AEC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1441A-FAEB-4C4C-83ED-6BA4A023D3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AEFAA-A302-403E-92BE-3E1DA26C1C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B8CC3-90C5-40D2-9463-04CC734671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80C2E-13F1-47A0-9B97-CA6489FC0A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nso.icann.org/issues/intl-org-names-prelim-issue-report-04jun12-en.pdf" TargetMode="External"/><Relationship Id="rId2" Type="http://schemas.openxmlformats.org/officeDocument/2006/relationships/hyperlink" Target="http://www.icann.org/en/news/public-comment/prelim-protection-io-names-04jun12-en.htm" TargetMode="External"/><Relationship Id="rId3" Type="http://schemas.openxmlformats.org/officeDocument/2006/relationships/hyperlink" Target="http://gnso.icann.org/mailing-lists/archives/council/docCkHGfCJ5QB.doc" TargetMode="External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tection of Int’l Organization Names in new gTLDs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ALAC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rian P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Further Inform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48120" y="1447560"/>
            <a:ext cx="5790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–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1"/>
              </a:rPr>
              <a:t>http://gnso.icann.org/issues/intl-org-names-prelim-issue-report-04jun12-e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Publ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omment Forum -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2"/>
              </a:rPr>
              <a:t>http://www.icann.org/en/news/public-comment/prelim-protection-io-names-04jun12-en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efensive Registrations Briefing Pap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3"/>
              </a:rPr>
              <a:t>http://gnso.icann.org/mailing-lists/archives/council/docCkHGfCJ5QB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A5959-94AC-4FA8-AAB5-17140F2949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FFCCB-5545-4FA1-BEC1-090DBE9886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26 March, GNSO Council approved the IOC/RC DT's recommendations to protect the Red Cross/IOC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10 April, ICANN Board’s New GTLD Committee declined to adopt the GNSO recommendations at this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oard stated that although the substantive “recommendations of the GNSO are well taken,” it had concerns about tim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59C01-BC3B-4ABF-8243-2D0A07CBD5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11 March letter, ICANN Board requested the GAC/GNSO to provide policy advice on whether to protect IGO name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NSO has deferred any action on the Board request until the GAC first provides its policy advice to the Boar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requested an Issue Report on special protections for international organization names and acronyms at the top and second level for all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Red Cross, IOC and IG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194FA-D47A-4534-8CD9-487200FEF4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– 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emporary moratorium for Red Cross and IOC names at the top level for new gTLDs will expire after the initial 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currently no special protections provided for the Red Cross/IOC names at the second level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liminary Issue Report published and public comment forum opened on 4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ent a letter to the GAC on 7 June informing that DT is continuing its work in evaluating the GAC proposal and possible recommend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E0E94-73D7-4E58-B09D-2BDB7302EE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e the type of organizations that should be evaluated in any related PDP for any such protection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be how the PDP could be structured to analyze whether ICANN should adopt policies to protect such organizations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: Includes an evaluation of whether to protect the names of both international government and NGO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7881E-4C1D-4868-A274-F9DA7C0A9C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top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ew and objection process currently underway for applied-for str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gal rights objection may be applicable to IGOs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ependent Objec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DDRP for holders of a word mark specifically protected by statute or treat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mark Clearinghouse, Trademark Claims process and sunrise prote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DD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Syst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ff recently submitted Board-directed briefing paper on issues related to concerns over need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 defensive registrations in view of current prot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ECA79-2D41-4338-AD37-4C4C3E083F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– Suggested Issues to Explore in PDP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 of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fying the entities to be considered for speci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of protections under international treaties/laws for Red Cross and IOC na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inguishing between Red Cross/IOC from other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an objective set of criteria to determine which international organizations would qualify for any speci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1F1F9-2028-42C6-8C2D-29E0D77EDB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: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Staff Recomme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hould consider whether or not to initiate a PDP as an approach to develop any additional policy advice in response to Board requests on addition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PDP initiat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ggest that scope be limited to: 1) IGOs and 2) international organizations that are not-for-profit and are protected by treaties and national laws in multiple jurisdi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inimum required timel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 load issu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complete a PDP, and that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itional resourc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y be necessary to develop recommendations relevant to types of protection at top and/or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level in a timely fash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99E18-D8D9-4EC8-8722-76D3084E3A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fting team working session scheduled on 27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Comment reply period closes 16 Jul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CANN community is encouraged to participate, and to comment on whether a PDP should be focused on additional protections for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i) only international organizations that are not-for-profit AND are afforded unique protections under international treaties or national laws in multiple jurisdictions, and/or (ii) all international governmental organiz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public comment period cl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will review and publish public comment summary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to publish and submit Final Issue Report to Counc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cil will consider whether to initiate a P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A6E32-744A-496F-AD4B-353D8A1C8D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1:55:40Z</dcterms:created>
  <dc:creator>Brian Peck</dc:creator>
  <dc:description/>
  <cp:keywords/>
  <dc:language>en-US</dc:language>
  <cp:lastModifiedBy>Brian Peck</cp:lastModifiedBy>
  <cp:lastPrinted>2012-06-20T23:51:04Z</cp:lastPrinted>
  <dcterms:modified xsi:type="dcterms:W3CDTF">2012-06-25T21:11:58Z</dcterms:modified>
  <cp:revision>14</cp:revision>
  <dc:subject/>
  <dc:title>Presentation Title</dc:title>
</cp:coreProperties>
</file>