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5173A-075F-4B06-BEA6-F5157CC52D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78E66-835D-4313-ABB8-8EC0C6150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9BFB5-9B13-4C93-9D67-BF1E81CF6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98E95-E4ED-40E6-BEA5-CCAB0F03411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2F5FC-3584-40B9-8121-E1B0AB2EAC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E78BD-FB5D-4C1C-AE20-BB65AA9EC4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D0D31-0231-4164-BA9E-47C02B6956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BF379-3174-4996-9348-AA2F89CF991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5F5C0-74C0-492B-AF37-72C16CA77B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08A1E-986D-49F0-A117-BDD06B619BE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A3682-1EAB-404D-857F-7CDE21FBDE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30108-3187-466F-AEF8-2DC0796E00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72570-4BDA-4740-9197-B56BB3A54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0091B-39C0-4B24-B1CE-F8C7A7D03B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CEC4E-6DF0-4E0E-9B51-51C04143BCD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EC5A8-92D1-46C9-A747-E91C9B22A5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0867E-C9B1-447C-8EE0-47B32BA87A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61CAF-617E-4122-98AE-B303324E7F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4B6CC-616D-44D6-A47E-E208575CDE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86996-F647-48AF-99AC-0BA5A79924F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C6A46-8865-4740-A756-0C4CC83A38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C96BA-E9CC-4D4C-8189-C5CA7F2C6C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A4DD6-0916-4C74-9B8C-5AD91A54D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D8823-79AC-40C8-BACB-278252AFB9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0604-A95C-491A-9711-B4FF70CA3B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24DC-30B3-4EDD-962C-B78204A8EF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CAD5-C14B-4233-B1AF-25C236B335C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BE1A-9358-46D6-A967-5D589A920C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1C97-6C19-456D-A0D2-48E8AA7E02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CFB1-4F40-4F73-A325-C6254269C6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4A5A-ECB3-4AEC-BBDD-6F236D59BB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80ED-7C4D-417C-A0F5-7CF0E04110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D78C-AE7F-476B-90A6-2C10ACB59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1A26-7214-4F73-B489-7AB10CC223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C857-BC88-4834-84FE-FB284B92BE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F5BB-9ED6-4E61-A014-B5E793F9D3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D6D9E-247E-487E-86E6-1BB09B40B6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DAC42-59EB-4909-8032-5768B78EB1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80044-6917-40FA-95D7-055A093A83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D6C10-BD9E-415B-B572-2DEEC3DA56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ADBE2-00B7-4428-9CDE-305410297F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BA346-F5C8-4EF9-BBB0-0DDFD90A024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527B8-DB89-49B6-A4A8-DA8050B01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12471-E0F5-49A5-80E1-900996DFEF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B3327-7451-417B-A75C-871A6F2095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ACDB1-D122-4461-A29F-FB87CA6910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AD638-6E34-4174-885C-2B83A537FD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DFF52-DB9F-4B09-8B91-A8381BA625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79DEF-16C4-43BC-BA0F-6988EC058E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DDAE0-4C0F-455C-BE31-B3B6FC91D5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CC470-1A57-43F1-B2C5-0EF4AF7CFFD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0CD05-DD1C-46D5-9EC1-CE93D4E8A3F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4E507-2499-47C4-B900-64285B7EB2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B941E-FA41-46B0-B4F6-3A7EDF6676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6CD95-9A01-440C-8A06-8F1DC974AF2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C1961-265E-4864-B288-2E6F9B9AB4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3581D-DE94-405E-9130-809F06F654C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F6E50-9F2B-4BF0-9B28-589926BA91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34B3A-1940-47E9-B943-A76406DEDA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52671-BA0B-47CD-9292-F06CA36AC7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380-FAE2-4FD3-AEB6-2C5307DC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5F5-E090-438F-B6D0-46D89A7B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824-3EC1-47FD-8D22-6777718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4B9-CAB8-4F21-8A7D-5FE783A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89C-B3CF-4815-B3B4-EC08DC29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8A2-1274-402B-BA88-33A0073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B54-65AD-4AAD-ADD9-A583B2C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DDB-5862-48AA-944C-E57DA41D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A9A-2701-4970-96BD-705FBCF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CB3-CBB1-4EFB-BA09-6F90C19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CD6-C965-40E5-B022-011821CC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452-BB4B-4C00-BB23-E3A00048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24068-1D3D-4A33-8175-9C1BD3B143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D5DE8-BB92-484C-9180-ED6491B30C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83AE-0486-4832-8621-876393B125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513A8-6A1C-465D-8DC3-D2244EC45D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FA949-F18B-4E59-A319-2DC5F103A8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D0133-27DF-48DA-8CAD-7D765CB6F7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4941B-B031-4287-8F54-2EE9901284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78D39-761D-47F8-B5EA-14D9EF2507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F2DB7-3C0C-4C3B-9C7F-3C9B5DAE2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AA49E-496F-4A1F-8748-FAEAC303FD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2ECCB-327E-4B31-9181-6971D1B38E6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59306-2F7B-411C-9B49-E8CE61A735E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91003-D977-4C46-B041-DE0FFEF805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7B65B-2680-4919-AD5B-06A4D74CC7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FF9BC-71E2-4A90-B4B0-E5C3088C83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D1438-9F12-4036-891A-F6A6537987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5064F-486B-41BF-BC89-65053081AC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5A400-2015-434E-971B-4A80EB975D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3F1BA-4574-4BF7-826E-24637794D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B39C1-CF47-4064-BAFA-DE4394906C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F51A7-9A07-4FFE-880D-4ED1A4B0AA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EF682-18EC-4FDA-9B9C-21D0898688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82AD6-AB95-40EE-8394-51EEE24760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AB87C-2C3F-4F1C-8BF9-E18B93B0FF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472-0DE1-405B-8E34-98F69B98AC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31C8-0172-4FFF-970F-9A4C6FC88F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0339-4A29-4A01-9A94-93EBA4DFCF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E279-FB59-4E41-978C-87AAE45A1C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CF19-3D8E-4C24-8BC8-94E467469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70A7-0983-4689-BED8-D82B119330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267F-2086-4893-9489-A316236632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B5F4-FF90-4D1F-A8F2-6346BB929B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0B14-2B4A-42CE-AE3F-0577ED7106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05D4-8BE7-4022-8147-C9BB113133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558-E661-464B-8A39-8D18F6AA5A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42E-1A53-4A80-A22A-F48D265285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6C9E8-510B-4E9B-90BA-1226AE3ED1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45285-F289-4F0C-A940-2E6A4AB941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B7FC1-02BA-4BBC-BF2F-7EB4EF542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DB4C2-8640-4545-A5DB-705869CDE8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7C6C7-4BD7-4FD1-A11B-64FB5AB4BA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45B32-2E79-4E2C-AB2A-2939B7D90B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02ABD-2B55-4A83-B0C8-6025CF82A0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4CB9B-53C2-465E-85A8-E3B600801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8F0A1-58A3-4E7C-AB47-E7E2FB8C6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3CCE8-0FA0-48AF-877D-1698DE0EEA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D0D9F-2A12-4D7A-BE20-A0DFC901EB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C0E84-8AF3-4FDA-9CCC-F7652B7E52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5BC8A-77B8-4EEA-AAB3-1D7BD69037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nso.icann.org/issues/intl-org-names-prelim-issue-report-04jun12-en.pdf" TargetMode="External"/><Relationship Id="rId2" Type="http://schemas.openxmlformats.org/officeDocument/2006/relationships/hyperlink" Target="http://www.icann.org/en/news/public-comment/prelim-protection-io-names-04jun12-en.htm" TargetMode="External"/><Relationship Id="rId3" Type="http://schemas.openxmlformats.org/officeDocument/2006/relationships/hyperlink" Target="http://gnso.icann.org/mailing-lists/archives/council/docCkHGfCJ5QB.doc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ion of Int’l Organization Names in new gTLD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ALAC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P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Further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8120" y="1447560"/>
            <a:ext cx="5790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1"/>
              </a:rPr>
              <a:t>http://gnso.icann.org/issues/intl-org-names-prelim-issue-report-04jun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Publ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ment Forum -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2"/>
              </a:rPr>
              <a:t>http://www.icann.org/en/news/public-comment/prelim-protection-io-names-04jun12-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efensive Registrations Briefing Pa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3"/>
              </a:rPr>
              <a:t>http://gnso.icann.org/mailing-lists/archives/council/docCkHGfCJ5QB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DF4CF-88F0-4AF7-9297-9EB9552D6C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A240C-177C-4A53-891A-DA21685A60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26 March, GNSO Council approved the IOC/RC DT's recommendations to protect the Red Cross/IOC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10 April, ICANN Board’s New GTLD Committee declined to adopt the GNSO recommendations at this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oard stated that although the substantive “recommendations of the GNSO are well taken,” it had concerns about tim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59FC1-8F70-4D81-BDD4-92EDA4009C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1 March letter, ICANN Board requested the GAC/GNSO to provide policy advice on whether to protect IGO name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NSO has deferred any action on the Board request until the GAC first provides its policy advice to the Boa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requested an Issue Report on special protections for international organization names and acronyms at the top and second level for all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Red Cross, IOC and I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C8179-383C-479F-8807-59893FB3DF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–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emporary moratorium for Red Cross and IOC names at the top level for new gTLDs will expire after the initial 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urrently no special protections provided for the Red Cross/IOC names at the second leve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Issue Report published and public comment forum opened on 4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ent a letter to the GAC on 7 June informing that DT is continuing its work in evaluating the GAC proposal and possible recommend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E383C-F847-46C6-AFE7-59408F6A76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 the type of organizations that should be evaluated in any related PDP for any such protection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be how the PDP could be structured to analyze whether ICANN should adopt policies to protect such organizations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: Includes an evaluation of whether to protect the names of both international government and NGO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CB873-4FC1-4981-ABCB-C5C20D7424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top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and objection process currently underway for applied-for str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l rights objection may be applicable to IGOs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pendent Obj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DDRP for holders of a word mark specifically protected by statute or trea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mark Clearinghouse, Trademark Claims process and sunrise prot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D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Syst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ff recently submitted Board-directed briefing paper on issues related to concerns over need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 defensive registrations in view of current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73647-FAD9-43AC-9131-01C5C51EC8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– Suggested Issues to Explore in PD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 of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entities to be considered for speci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protections under international treaties/laws for Red Cross and IOC na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ing between Red Cross/IOC from other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an objective set of criteria to determine which international organizations would qualify for any speci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AF4C0-1626-405C-9348-BD37F36595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: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Staff Recomme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hould consider whether or not to initiate a PDP as an approach to develop any additional policy advice in response to Board requests on addition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PDP initia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ggest that scope be limited to: 1) IGOs and 2) international organizations that are not-for-profit and are protected by treaties and national laws in multiple jurisdi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nimum required timel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 load issu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complete a PDP, and that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itional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be necessary to develop recommendations relevant to types of protection at top and/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level in a timely fash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8A832-ADEA-4D1B-8633-6052090074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ing team working session scheduled on 27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mment reply period closes 16 Ju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CANN community is encouraged to participate, and to comment on whether a PDP should be focused on additional protections fo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) only international organizations that are not-for-profit AND are afforded unique protections under international treaties or national laws in multiple jurisdictions, and/or (ii) all international governmental 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public comment period cl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will review and publish public comment summary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to publish and submit Final Issue Report to Counc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cil will consider whether to initiate a P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75C55-F4E5-454B-8CE0-0C4BF103BA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1:55:40Z</dcterms:created>
  <dc:creator>Brian Peck</dc:creator>
  <dc:description/>
  <cp:keywords/>
  <dc:language>en-US</dc:language>
  <cp:lastModifiedBy>Brian Peck</cp:lastModifiedBy>
  <cp:lastPrinted>2012-06-20T23:51:04Z</cp:lastPrinted>
  <dcterms:modified xsi:type="dcterms:W3CDTF">2012-06-25T21:11:58Z</dcterms:modified>
  <cp:revision>14</cp:revision>
  <dc:subject/>
  <dc:title>Presentation Title</dc:title>
</cp:coreProperties>
</file>