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A9267-A1A3-4F54-AEDB-622B9F194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0DA8B-0CDE-423E-8A73-C86875F70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EA7AE-AEA8-4CC9-929A-09F4BB9257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991784-B87A-473B-8B6D-1CA856F4A93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F5AD1-DEDA-4DC7-8A31-692247DEBF1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92FE9-67AF-449B-9249-2228AAAEBAD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090A53-699D-4A14-8B35-86D7D80CBC5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48D0BD-EC5E-40D7-BFF4-114756D28AF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6AF210-FCAF-4C99-80D1-69852623928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37410-ACFD-4C11-920E-E89AEA35D84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DDB89-0C4A-444C-9207-20730598728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FDCED-F900-4719-B79E-828468D0FEA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B64689-4D71-4357-BF7A-1404E0EADF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B33E6-F865-4618-BBB8-FB8425F094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80485C-1397-4DA2-8632-9C56B394274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E943A-496F-46D4-968B-E451FCC6623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BF28A-989B-417E-B762-C7B1E4D528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795AB-32A9-4599-A914-E0889D955B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FA909-FDE2-4329-B870-28E1B687B2E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7BBF1-9B5B-4CBD-B63D-BAA97944FD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693B6-91D7-4A14-B9E3-083B87E404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B4E7-80DA-4810-B362-80BAE43B118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149CAB-58E7-4708-B670-C8C4D4B7C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4FA52-AFD7-419B-B7C9-3FA207B2F3F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DFE5-7746-45FE-9A08-DB261C73407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4D2E9-6646-4CCB-90DB-54D54D82D2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D60B-ABF2-4AD1-AD22-736E8F516B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52AB3-5899-47F8-9698-92CF5CEE81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FCB8-FF81-4D2F-9937-A65A59193D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C92AF-F2AC-4F84-823F-EE46A3398EA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E55C-B8C5-4A08-90BA-946BA17398C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4104B-9F4B-4F8C-973B-4FA48F0E7FE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7C40F-C73F-4A82-850F-15763E6CA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85300-0F59-4EBD-8A1C-3F89701AE9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DBA7B-43CD-48D7-A9B4-ED44BAA41F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F6E67-EDAB-4595-A2A8-15D3D46923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3DE310-A9C5-460C-AB63-0DABBD8B28C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F4CA1-EFC2-419E-AFFE-170D09D0B7F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CC893-9B95-4230-9398-772E2F23839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92FAFB-5548-4414-B7FE-F4A130BD6D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03EE6A-E237-428F-A001-A978EB857FE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E6F20-69AA-454C-A53F-D972F85EFF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D338D-A30B-4DE6-86DD-336F40FB1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78224-1760-4690-AD17-FF8C301707A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FBA1D4-0EC1-49F8-ADD1-3F8C1C6839A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28E5D8-41FF-44B9-9118-D410D24A525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8A8AF2-B327-4009-B060-4A0750360C6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E8724-D123-4F02-9402-886313CA6A4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A424FA-67F9-4FDC-843F-2E0EBC93642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D5405-0A05-4B19-A83C-CEA11605E34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ACC8B-A814-4278-9568-A9D251B5C72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309479-3FED-4317-9CBE-D81BC7AF57A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749C2-CEF4-477E-9D62-924320BD4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732A26-7E60-4E2B-8E62-7A49A628123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C6CD8-0F7F-48FC-A0C5-26B5B07CCB6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A5DF7-AA38-4B59-A7C2-01C04AC996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C0330B-A672-4C20-8EFB-AD0AD9E2578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D5ABF0-7E7B-439C-866E-CBFFC0C6988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D02ED-81E7-4A28-B5BA-F467617E83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7C39B8-27AC-4F30-94D6-A9501EADF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A5A-A35A-4CBB-9C44-3AA91E17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8FD-2A9F-484D-815F-F252D138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39C-87F6-4416-B08F-C555A820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28E6-A63D-4AC6-BC68-9F4BCCF5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828-9448-4051-904D-2D5B20C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62F-D5D1-4444-8E2F-CCBCDC43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40E-191A-400F-B9B9-55D8704B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E81-56D0-45D5-8E9D-3E3553C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AAF-5DCA-4338-9C87-6B067A15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CE3C-EFFA-4993-A117-2FA9CE5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F5D-E476-4998-8459-124E7ADC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F9E-E9B0-4C8C-8A3C-8F2C7050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857C-4F77-49C2-98F7-DD05EEA237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064FF-2409-49D4-ADA3-4CA51D0D187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4CA4D-A239-4794-8DA3-8B6406209DF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D9689-09FD-40CF-A8A2-4DC7297277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4B870-DF9A-4DBC-8367-916D072F17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333FC-CE82-479F-87C1-16616913D0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73799-249F-4762-BF67-EF46D6398EA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DBFEA-19CE-4436-8DE9-A4B4558B2C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92685-6CCF-4C3C-BF50-A850F5C33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A0DEF-6EEA-4CD5-9B52-B87511A117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6B161-1A86-4906-B2EE-FDF7D9850C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5F391-C3E9-4BF0-9B57-3F11BD3E0DE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FBE06-9D72-43ED-83A7-C8841F00F4A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FD24B-CF2D-4977-97AC-22E1C6FBD3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018AA-A4AA-4DE5-AAAE-EFD65D1D792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04A08-D97B-4E46-B6A2-F683CFDA90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8CFAC-0401-4657-8371-05CDF02479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EBF82-519B-4467-804A-193DDBA7E36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DAD13-4B12-48BD-B9D8-FEAA567CD9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0BDB4-769A-429B-9218-33672359CA6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45D4E-7A2C-41C2-B9D2-A351C36C479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EE03-6CDC-4B96-930B-08F733EE28A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4B1CA-3FB6-44ED-8D2C-9A70DE5F3A3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55EC-4238-4957-9EAE-6FB2F10840A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E0E0-B6CC-4867-98C7-D2A84377C3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C9BA-59AE-40F3-8C3D-65B5480B4FA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83CD-9420-4C48-9F6B-8BE23329D28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4F2-3108-4CB3-99AC-012A5A6EE7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873C-6817-4626-B0C8-5B18CE4CD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DEBA-4D6E-4580-A3DA-7D09EE0D74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DF22-9231-4C57-8449-8FD25055CC4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0C17-BD36-4E3F-8469-3F3767F7D6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3DCB-7338-4A95-9EA8-66CB9CDA9DC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A67-E6A1-4B96-8C01-FF4AB4239A4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E912-4FEA-4E13-A9E9-327CF7720AF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FEAD-5475-44A8-98D0-F58A5AF7807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8C232C-4FAD-4157-9D58-F34320A2A4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058F4-B98A-4C6A-87E5-D2D51DB740F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A3967-F77B-4E03-84A3-009ED713D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5E862-512B-4D22-A153-58323B48C8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2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E336E7-E92F-4DCA-BA11-080153913FF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EC9DF-EE83-42B0-BA10-42668D1E1DD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51A08-7B27-4E69-B3F3-907A25130AC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29BC5-6420-4D5F-9866-232B6E1D6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EB4FE-D5F7-4B38-893A-E6EB671B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966800-44AF-442B-A633-AAB28FC2F73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D70C47-4F46-4C54-B46A-1DEB08E3D6D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03267-719D-4454-8857-D681966222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1EEE2-A483-46B5-8052-37353196FB4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nso.icann.org/issues/intl-org-names-prelim-issue-report-04jun12-en.pdf" TargetMode="External"/><Relationship Id="rId2" Type="http://schemas.openxmlformats.org/officeDocument/2006/relationships/hyperlink" Target="http://www.icann.org/en/news/public-comment/prelim-protection-io-names-04jun12-en.htm" TargetMode="External"/><Relationship Id="rId3" Type="http://schemas.openxmlformats.org/officeDocument/2006/relationships/hyperlink" Target="http://gnso.icann.org/mailing-lists/archives/council/docCkHGfCJ5QB.doc" TargetMode="External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tection of Int’l Organization Names in new gTLDs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Calibri"/>
              </a:rPr>
              <a:t>ALAC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rian P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Further Informa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048120" y="1447560"/>
            <a:ext cx="579096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–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1"/>
              </a:rPr>
              <a:t>http://gnso.icann.org/issues/intl-org-names-prelim-issue-report-04jun12-en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Preliminary Issue Report Publi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Comment Forum -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2"/>
              </a:rPr>
              <a:t>http://www.icann.org/en/news/public-comment/prelim-protection-io-names-04jun12-en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ヒラギノ角ゴ ProN W3"/>
              </a:rPr>
              <a:t>Defensive Registrations Briefing Pap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rebuchet MS"/>
                <a:ea typeface="ヒラギノ角ゴ ProN W3"/>
                <a:hlinkClick r:id="rId3"/>
              </a:rPr>
              <a:t>http://gnso.icann.org/mailing-lists/archives/council/docCkHGfCJ5QB.do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FC081-57F2-43A1-8AE5-9B234BE7A42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EDD23-D0E4-4950-BC9F-5A371A7BAF4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26 March, GNSO Council approved the IOC/RC DT's recommendations to protect the Red Cross/IOC na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10 April, ICANN Board’s New GTLD Committee declined to adopt the GNSO recommendations at this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Board stated that although the substantive “recommendations of the GNSO are well taken,” it had concerns about timin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6389B3-4832-4B26-9B49-35B091614BB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Update Since Costa Rica Mee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11 March letter, ICANN Board requested the GAC/GNSO to provide policy advice on whether to protect IGO name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NSO has deferred any action on the Board request until the GAC first provides its policy advice to the Boar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requested an Issue Report on special protections for international organization names and acronyms at the top and second level for all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s the Red Cross, IOC and IG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12449-CC6B-415B-A9AA-33183F183AB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Red Cross/IOC Names –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Current Sta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81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emporary moratorium for Red Cross and IOC names at the top level for new gTLDs will expire after the initial 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currently no special protections provided for the Red Cross/IOC names at the second leve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Issue Report published and public comment forum opened on 4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ent a letter to the GAC on 7 June informing that DT is continuing its work in evaluating the GAC proposal and possible recommendation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7DA97-A037-4EFA-9ABE-026287DF3B1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ine the type of organizations that should be evaluated in any related PDP for any such protection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be how the PDP could be structured to analyze whether ICANN should adopt policies to protect such organizations at the top and 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: Includes an evaluation of whether to protect the names of both international government and NGOs at the top and second levels of new gT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FA351-0CF5-4E6C-BE78-A1A3867BAFA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top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ew and objection process currently underway for applied-for str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gal rights objection may be applicable to IGOs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dependent Object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DDRP for holders of a word mark specifically protected by statute or treat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rrently available protections at the 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ademark Clearinghouse, Trademark Claims process and sunrise prote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DDR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form Rapid Suspension Syst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ff recently submitted Board-directed briefing paper on issues related to concerns over need fo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vel defensive registrations in view of current prot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24697-D306-4AE1-8FB1-43833C2243F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 – Suggested Issues to Explore in PDP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7760" y="1447560"/>
            <a:ext cx="59878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 of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ntifying the entities to be considered for special 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protections under international treaties/laws for Red Cross and IOC na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inguishing between Red Cross/IOC from other international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an objective set of criteria to determine which international organizations would qualify for any speci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C7CFA-E7DF-43FC-980D-77AC0FE0952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Preliminary Issue Report: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Staff Recomme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NSO Council should consider whether or not to initiate a PDP as an approach to develop any additional policy advice in response to Board requests on additional prot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PDP initiate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ggest that scope be limited to: 1) IGOs and 2) international organizations that are not-for-profit and are protected by treaties and national laws in multiple jurisdi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sid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inimum required timel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work load issu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complete a PDP, and that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dditional resourc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y be necessary to develop recommendations relevant to types of protection at top and/or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level in a timely fash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AD905-AC7A-468E-821F-43E73434A5C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7f7f7f"/>
                </a:solidFill>
                <a:latin typeface="Trebuchet MS"/>
                <a:ea typeface="Trebuchet MS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047760" y="1294920"/>
            <a:ext cx="59878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afting team working session scheduled on 27 Ju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mment reply period closes 16 Jul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CANN community is encouraged to participate, and to comment on whether a PDP should be focused on additional protections fo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i) only international organizations that are not-for-profit AND are afforded unique protections under international treaties or national laws in multiple jurisdictions, and/or (ii) all international governmental organiz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spcAft>
                <a:spcPts val="1199"/>
              </a:spcAft>
              <a:buClr>
                <a:srgbClr val="a6a6a6"/>
              </a:buClr>
              <a:buSzPct val="123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ce public comment period cl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will review and publish public comment summary re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ff to publish and submit Final Issue Report to Counc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buClr>
                <a:srgbClr val="a6a6a6"/>
              </a:buClr>
              <a:buSzPct val="123000"/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uncil will consider whether to initiate a P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2A3521-FA98-4AB1-B0ED-7522DF8785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1:55:40Z</dcterms:created>
  <dc:creator>Brian Peck</dc:creator>
  <dc:description/>
  <cp:keywords/>
  <dc:language>en-US</dc:language>
  <cp:lastModifiedBy>Brian Peck</cp:lastModifiedBy>
  <cp:lastPrinted>2012-06-20T23:51:04Z</cp:lastPrinted>
  <dcterms:modified xsi:type="dcterms:W3CDTF">2012-06-25T21:11:58Z</dcterms:modified>
  <cp:revision>14</cp:revision>
  <dc:subject/>
  <dc:title>Presentation Title</dc:title>
</cp:coreProperties>
</file>