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6069C-D603-4D05-9D16-B5CCF2B37E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620D9-C403-4F79-8592-C5B7C5632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29587-C111-4DDF-829E-121035C35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0AE9F9-E91E-4565-8B97-C4E0E71168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001EAA-5DB3-4F86-BA18-0B909230A9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AD0CB-33FE-4924-9DDF-AEFADF87B9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17EFC-4CDE-432E-8D70-FB9E8A4F004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F1600-25D5-46A7-94E1-D981DE78F58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6A6DA-4E19-4D59-8D0B-69F90A01D8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3C5A5-5635-418B-8594-8D1A55AAE2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3A155-D96C-4C75-A728-23C3C4A234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11669-D28E-4A30-B310-5AA7F28470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21855-6BA4-4710-834F-90A9C5A0F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ED01C-93BF-4BDD-B763-4F4258EA353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F931A-AAC3-40B2-B548-2EE0D446F5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09B66-CFE1-4A12-803E-2C70310659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7A668-1D92-45CD-8847-17FE80F767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679A0-2D6B-4CDC-8EE1-7E8F310009B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BEA1E-8024-4852-B06F-AC1143C12F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93F45-237A-44E5-BEC0-554227B54BD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41F2C-27FF-43A4-BFD7-A1219E1D1B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A61C5-3C70-4DDC-A9F1-526BCEF067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57624-46A1-4F4D-83F1-0112D5E8F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28A55-6215-4C5C-9FD3-0241D888B3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81D5-B0A4-4C77-98C7-08A0644344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95D0-6810-4C02-A191-DAFA967276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8618-3A16-4710-BEFF-21929991291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E1221-206A-4B52-ABE6-AAC84CDB8C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E592-8FCE-48CE-9813-8E911BA60C5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FAA8-A863-4D18-BA38-A44D009D75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FD40-D702-4FAA-BBA7-FD5093238A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28AA2-4E1A-4DF7-BAC3-1F5F934142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D229-793A-489A-98F0-D9B45E654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1FBD-9C1E-46D9-9929-B88E6A82C5F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E49E-A660-4886-8E68-AA5591E816B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9B4B-8DC0-4336-ADA5-D0B8D8E4AE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31551-59A4-41B1-93B8-C6C64977B2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1016E4-840C-4FFD-B32E-7E817B26EED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F57B9-D97D-46F8-AFE5-D7122726582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593DF-A70D-4E83-BC59-F745FDCFBF6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75697-162E-44C0-83D7-B6C2AAC7C51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C2B9E7-E331-4515-A74D-5727A3E50E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BA7AD-CCB8-403C-B764-25C55DEA7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2064D-E67E-4467-BD5D-AAFA9A0A20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9B628-6645-4617-A035-96DB40C3DF2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8B813-265C-4C19-9678-190B0130DF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73416F-24F2-4888-88FA-27674C237B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4ED2D-6BE8-4120-B780-BB152D4E7D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178D9-8BF7-4F2D-AC1E-A5A7AE7B45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C8E45-CBB2-49AB-879A-DF6D1D24C7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AAD5F-A7D9-469B-A97D-859F0E9AA1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44BFA-4DAE-44F9-8B25-38B8C6009F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FA1B6-18BC-4BC7-8040-B8BD5A5475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12152-C9E5-49A6-A854-2264491767A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ABE436-79C3-464D-88B1-5615A94FAFD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7A1CA-43DB-44C7-8137-D57C55FDCE7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31EE6-B347-42D3-9893-26EA76E51BF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EBB4E-D21A-48FB-BBE8-FA7C9AC1B62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190ED-503F-45D3-AEDF-3838BE3F73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200F6-9DD5-421E-8562-668E746CE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792-D6B8-44DC-8BDD-3D956BB9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B8E-4912-4347-B0E2-CAB65550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E85-F644-40DA-9A26-AE41DFA1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DDC-1B63-4161-A150-3B885BC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9F2-3920-4D3D-921A-E411A11D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D26-A168-4C05-A747-27E0F903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800-154B-4552-A7D0-41B0EF04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598-07E9-46E3-97E3-AF28AB3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79D-4CE6-441E-A40A-85EE3E55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16B-2777-4A36-8155-76810F4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09F-9207-4364-8BD7-124202B8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615-D800-4FAE-BF13-671ACE13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CF821-C048-42BB-A9F6-FA56D246F5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4B83C-A1C9-48EF-B0DB-4A67945646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84530-33CF-4063-BC53-09B1487554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B84D6-0493-437F-AF06-9AA227C134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B61E0-FA90-488F-A3D5-6D9E37830C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C86A8-EA39-45DB-B6B1-75057CCE8E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41F3-DF18-4A6C-92C1-5CEA3DAA2EE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E42BB-E716-44D9-BF45-3038D2DC51B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78D3A-B8D9-4381-8992-D4C95A856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DE01-9747-429A-BEA7-6CFE9E7910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733B-AFCB-4566-A0D2-C4B3A8FF85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5A5A4-45AA-4E3E-95C0-6ECFEB9592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CCD4-BC08-4F05-A270-9DD5C66D7A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BB2A-B7BE-4C5A-AF9F-12D29CF4B6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440DD-3990-4D82-938F-03AC50ECC57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90939-6F5B-4479-A9D0-55D1DD24D6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4CF0-9693-4706-90D1-4116DC148F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94219-8148-4822-9FCC-DD1B617BA4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FD7A1-3D75-4024-8D0F-A31310C00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D70E5-DB37-4A4E-8FDA-830EAE2284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D4340-567E-411D-BDBB-A4C73F4EB3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2D72D-9EF0-4035-82F6-44EBDA4880B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D9FEE-2338-4816-B9B2-A7DF3690AF0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BB482-6026-48D9-B0D9-74D54E7F7B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31B2-89C6-4624-8872-8D001265ACE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656-524F-4EA0-AA5C-EDAD683B2E4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ED4-1FC8-4760-A3DB-618A7E2DB04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8824-A775-4A67-9196-6A0D3BBD34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3E68-3E0A-4E24-9D63-E57747930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B29B-3E7D-497A-B8B6-318EA83FEA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86FF-3151-46D1-9823-94585FD1768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C1CA-E5CE-4ED9-8345-7C429135ED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4306-AAB0-45CD-BF55-2C97B182EA9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74F1-EA72-4A67-9595-D17DEA98FD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B61C-48A8-4FF5-8005-8F6350F74E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2A3C-4DA8-4B84-8B53-2FFC39DABB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7AA15-DCC3-42AA-99F9-DD1882B789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B9876-B886-459B-8BDE-42E21C458FE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99D92-7BBD-4626-917E-D3500E909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0D849-6228-4C9D-A312-A0E040CEF88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997E0-D33E-4093-AE8B-ED229453E0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212F8-8506-429F-ABC2-B21E1F087A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42610-DA03-43A7-9F5A-B988DAECD6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D433E-D7D6-4031-B709-209D34CD7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E0246-E0CA-47A6-A2F9-36576141D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FFDBB-077D-414F-ABEB-20A23514F2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1468E-B71F-4DA7-8141-9DCFBA469E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C85FA-2264-4431-A409-F4B03CF51E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C1B0C-D265-446A-A73E-703E699B4B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nso.icann.org/issues/intl-org-names-prelim-issue-report-04jun12-en.pdf" TargetMode="External"/><Relationship Id="rId2" Type="http://schemas.openxmlformats.org/officeDocument/2006/relationships/hyperlink" Target="http://www.icann.org/en/news/public-comment/prelim-protection-io-names-04jun12-en.htm" TargetMode="External"/><Relationship Id="rId3" Type="http://schemas.openxmlformats.org/officeDocument/2006/relationships/hyperlink" Target="http://gnso.icann.org/mailing-lists/archives/council/docCkHGfCJ5QB.doc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ion of Int’l Organization Names in new gTLD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ALAC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P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Further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8120" y="1447560"/>
            <a:ext cx="5790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1"/>
              </a:rPr>
              <a:t>http://gnso.icann.org/issues/intl-org-names-prelim-issue-report-04jun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Publ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ment Forum -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2"/>
              </a:rPr>
              <a:t>http://www.icann.org/en/news/public-comment/prelim-protection-io-names-04jun12-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efensive Registrations Briefing Pa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3"/>
              </a:rPr>
              <a:t>http://gnso.icann.org/mailing-lists/archives/council/docCkHGfCJ5QB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55484-0F98-4994-874E-D87ABE88E0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BDC31-CE7D-4C7F-9B3B-1D880CD0F6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26 March, GNSO Council approved the IOC/RC DT's recommendations to protect the Red Cross/IOC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10 April, ICANN Board’s New GTLD Committee declined to adopt the GNSO recommendations at this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oard stated that although the substantive “recommendations of the GNSO are well taken,” it had concerns about tim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6FD1D-0136-42B4-91C0-A368D59377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1 March letter, ICANN Board requested the GAC/GNSO to provide policy advice on whether to protect IGO name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NSO has deferred any action on the Board request until the GAC first provides its policy advice to the Boa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requested an Issue Report on special protections for international organization names and acronyms at the top and second level for all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Red Cross, IOC and I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46E63-B9BF-4EA1-852A-F7855DF0A0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–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emporary moratorium for Red Cross and IOC names at the top level for new gTLDs will expire after the initial 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urrently no special protections provided for the Red Cross/IOC names at the second leve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Issue Report published and public comment forum opened on 4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ent a letter to the GAC on 7 June informing that DT is continuing its work in evaluating the GAC proposal and possible recommend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339B3-472F-4135-9149-E87DDC2CB2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 the type of organizations that should be evaluated in any related PDP for any such protection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be how the PDP could be structured to analyze whether ICANN should adopt policies to protect such organizations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: Includes an evaluation of whether to protect the names of both international government and NGO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285B9-B6F5-4C6A-9F26-16094550B7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top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and objection process currently underway for applied-for str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l rights objection may be applicable to IGOs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pendent Obj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DDRP for holders of a word mark specifically protected by statute or trea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mark Clearinghouse, Trademark Claims process and sunrise prot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D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Syst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ff recently submitted Board-directed briefing paper on issues related to concerns over need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 defensive registrations in view of current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AC824-1975-44DE-93EE-84456427BD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– Suggested Issues to Explore in PD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 of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entities to be considered for speci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protections under international treaties/laws for Red Cross and IOC na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ing between Red Cross/IOC from other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an objective set of criteria to determine which international organizations would qualify for any speci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8BCD4-6733-4D91-BEC8-A19D3C020B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: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Staff Recomme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hould consider whether or not to initiate a PDP as an approach to develop any additional policy advice in response to Board requests on addition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PDP initia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ggest that scope be limited to: 1) IGOs and 2) international organizations that are not-for-profit and are protected by treaties and national laws in multiple jurisdi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nimum required timel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 load issu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complete a PDP, and that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itional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be necessary to develop recommendations relevant to types of protection at top and/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level in a timely fash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678FD-DE98-481B-9773-502347FED6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ing team working session scheduled on 27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mment reply period closes 16 Ju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CANN community is encouraged to participate, and to comment on whether a PDP should be focused on additional protections fo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) only international organizations that are not-for-profit AND are afforded unique protections under international treaties or national laws in multiple jurisdictions, and/or (ii) all international governmental 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public comment period cl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will review and publish public comment summary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to publish and submit Final Issue Report to Counc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cil will consider whether to initiate a P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0A19D-71BF-4805-BA4F-FB53C54D9A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1:55:40Z</dcterms:created>
  <dc:creator>Brian Peck</dc:creator>
  <dc:description/>
  <cp:keywords/>
  <dc:language>en-US</dc:language>
  <cp:lastModifiedBy>Brian Peck</cp:lastModifiedBy>
  <cp:lastPrinted>2012-06-20T23:51:04Z</cp:lastPrinted>
  <dcterms:modified xsi:type="dcterms:W3CDTF">2012-06-25T21:11:58Z</dcterms:modified>
  <cp:revision>14</cp:revision>
  <dc:subject/>
  <dc:title>Presentation Title</dc:title>
</cp:coreProperties>
</file>