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FA65F-C278-42F2-B5B5-F01863838EAD}" type="datetime">
              <a:rPr b="0" lang="en-US" sz="1200" spc="-1" strike="noStrike">
                <a:solidFill>
                  <a:srgbClr val="000000"/>
                </a:solidFill>
                <a:latin typeface="Trebuchet MS"/>
              </a:rPr>
              <a:t>07/29/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19496-8160-4CD0-AC07-0F0A47CE3B24}"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B75B8-28F7-4682-98C5-F8B1DF3CE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1258D-4436-4939-AC1F-0B63C27A7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24D6D-3B8E-4D22-AFB8-DE57354BC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A3637-A8EE-4CC7-BF03-4E4E00175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A508D-780B-437E-B9BD-B8DDDD4A5C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95723-FEFA-4348-9CE5-026D53978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DF3E5-41F2-42E5-8B79-4DB08A220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AD2DA-448B-4955-93FC-A9A55CE92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A9EC27C-DB5F-4397-B858-5E9844F586B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CD0A3A6C-189D-40D9-8246-9FE2BE01297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830E306E-6C6E-4295-903C-553BAB2355A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2F74F0A-4918-4B70-900E-D33C285F362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A20DB37-A2C7-4B05-9821-A64FB945D3E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EF22FF2-0C8E-4CB3-AF0E-5787DA323E5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24FC367-03F1-4EFA-9789-88544EC2383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02C890A1-3576-4C8F-AC72-63F4CF1D046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3010BA0-45DA-4308-A6D3-85BB81AAF03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915CE1C-A288-4FE8-8C91-4784D8287F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2A63425-5BEC-4D59-9BDF-FC5209D769B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46C0391-098F-4715-A1EE-E62A448FA0A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456EDB0-617A-4F16-BB6A-6786375C1D7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2A97990-A07E-444B-93BC-386985CD444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645789ED-9AC3-4099-8F3E-9B96658A71C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AC19BBA-2499-45D6-AC42-D10A1218F1F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0C54C73-460C-42E7-83C9-0FD3139EEB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E1FAAE6-3B46-4C9C-B266-F4D5FBE97F0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A6D5349-C99F-46C5-B74A-24873A9D0D8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0CAD50CD-D7C7-4AB5-B907-23914406BE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3F11F2E9-2D66-42EB-864F-7C547656FE1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29C38E9-4950-4A32-B4C1-A663E4E8DA2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704474F-0104-4962-AFD1-304D943753D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FB9AC82-E5D3-45C6-8598-5B838BA8382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486B3BE-A722-4870-BF13-9499291B8D2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5ADCE4E6-52A4-4228-9CBB-207E0C39D3A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3351A2E4-8C00-47C8-89C2-E7AB111C556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236C75C-67D4-4DBF-9FBA-33935C6D286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CB3C98B-5D47-4731-949C-88283302436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3E80C95-E55A-4182-891C-B6F88CEC93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A7D79E40-CE0E-4F16-A0B2-D83638430B1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016216A-7BAF-436F-9929-30C92DAC910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EB491D0-CADD-4A82-BC7E-6882747D98B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BC74C00-46A2-4417-B7AD-580776B3609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B83DEC4-A634-464C-A45D-1E200A9A87A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1B45BF1-A098-4531-99B9-94E9CE77C1E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62EBF6D-F20D-4CA2-A838-8B5F78F143B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A93CB4BF-E171-4E06-92C2-1E26D3C7F7F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771FE579-7E32-49B2-B349-3B683526BB0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3FE4913-33D1-465D-ADE8-5C61BF6AEC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C2ECAC6-9C88-4862-AE55-7C8C24A585C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4DA74CF-F299-4CA0-92D4-CE3EF57A4DE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43764A3-CCCD-47DA-A610-93EA75F43B7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0D3A140E-B860-40C0-A072-37DF1439427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6DD1AD98-505F-4E66-87FE-A8FF37FD50B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1586E94-6513-4D31-8240-261CE6FD4CB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51020ED-DF9E-4041-A5BF-6B4F9082931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FD1A403-8ED1-4C35-A918-DE7AB1D3D5F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C16F17-61B7-4110-BAE2-6E5B2296462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F60E178-10C3-42E3-96FB-FDE852E2FFD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33299EC-551B-4C86-8C6D-D1DD99FDCA3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A7966C-909B-4B9B-B39D-64519CAA71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0E8E2C-554B-476D-A8D8-CB926C6084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8D3A9B-4A90-44B0-BC76-9BD4DB272A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D656272-1088-4F32-84B4-32936E144ED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8D22FAA-D68D-4103-880D-A485D144229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58D45D1-7456-41E6-82D6-7E1A764FFA1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46281DC-C328-40B9-A06B-838FF1FAC98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792ACEC-4F47-4E98-804F-210745A2891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989926B-95B2-49D6-8373-A3FCCC0AE8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05B4808-F56F-4581-AF16-660864AE14C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A210FB4C-EEBE-4248-814E-E4188E837C8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77DBD837-B83B-4673-AA46-E1FB36B5977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63FF06C-72FC-487A-94E3-5BEC0215B8A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038E47A-E14C-4579-846C-0C367734FB0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0A56118-322B-42FB-A476-43C8A9FAE45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E6ADEC4-037F-4CDF-925D-CFC4AF36F87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BD8D74CE-CCDC-448D-8AFE-E0FB38B6582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0E1755B7-FFDF-40D0-8C2B-4DFA42B5276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2493E3F-6CDC-4E52-840E-BEC172922A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B87E3AB-B2F4-4921-A275-2F4650E6810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EEA096B-545D-4DB9-BC5C-DE96AED36CB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3597DD2-B9FD-406C-AB9E-13BC490CD14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E36E403C-44A0-4CEC-887B-144754FA626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4900758E-0ACB-4A1D-B63E-CCEC2667E96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5E6C1A6-E144-4FA7-99B8-B92B8F17830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860A950-1527-4A4C-96A3-7BEF1ED0E92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A5D6E0D-64B4-4945-8765-D685E2EB286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5DB0AA6-6992-43F1-8F83-0117F4AA673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105E9A5-BA45-4563-BFFA-D64CB9C436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B72D8650-D2A9-4BDE-911B-7B2405C5E83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219DB75-1489-4AAA-953A-CA01832162A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0AAA22A-5760-4FD4-AF1B-BD8FCBDB702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01B894E-CABF-4D66-8360-766069377FB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5F1E369-1853-4164-8E9B-6BA4CF25A66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C39F125-A3D1-4E1E-B4B7-B6AFA43C72D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707DD69-0F85-48DE-B8A4-000C067A3C5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001B794-5C54-441A-9300-825D2B1A2E1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17838A4-5759-4519-9A31-D171E859F0F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6F01531-751C-46D0-94C4-4A08CE06B8E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9D66175-7AB2-4B57-AB73-A194A8BBA62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2AA0550-791B-4C1C-8A44-C4983209F35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E0A69BB-7C0C-4415-926A-20E2AEEFADF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CEE2581-CA36-443A-8514-D0D7A957AFA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2E3E869-041C-452E-A3DC-A20A5A72A91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6DBE033-9D3D-457B-B659-6E21870C7BC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45B55AD-6BFF-42CF-8C1D-618D2DDC40C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CA469F06-F200-48C5-AF78-90199865328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B57EAF7F-50D6-4561-BF93-66A031D2270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90F23DC-32EE-4A38-8721-478552E999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E0C1E68-EE4F-4CF9-B98D-4218E7B992F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868ADF9-7A7C-47CF-AC47-AA8037F5F7B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4ADB6DA-2659-455A-87B8-AF97F60908D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9E4A9B97-E30D-4E97-96E3-1E1E1847744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9D795779-92C9-46C6-9E4C-DF3523E100A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C026F5B-8DC2-4277-918B-0229986D687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566DE4-4C9E-4AA9-A838-12170183E98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E72FBA6-082F-40F3-A128-89A732648B2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81A1098-8A55-43E6-9D20-72A7A812E09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1421E72-5F09-4CE2-85DE-20888705D08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08D296A-404A-4528-91AA-4DC122FA2DE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5705764-9D01-4638-A820-50225568335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792888-BB09-4677-8AD0-A66FD91F4B1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1993520-B325-433D-AA75-5FBD524EDB7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15DD82E-72AC-4B13-9541-409131E878D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7BF410B-04D3-4536-8981-C483E5260C0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B23DAF3-BCDA-48A3-967C-DF490A1DEB9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0A468CC-F9ED-499F-A6C5-2CB6EAA0336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087B731-B175-418C-A138-6D491E18E73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84258E8-BF25-4FED-920E-BFC78BE586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5F96A0D-701B-4EE9-A689-2B923EFA030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3280F81C-8FD9-4AB7-ADED-3D7B8DEC264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AFD04A1B-E306-4A8E-BD52-53B7860BB61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CDAD0C0-20D4-45AC-B676-B8C36B2192D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12E929E-498D-4EA4-AAFE-61C59B0D7F9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E4282A1-1412-4224-803D-E71E0A2B615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306BEDDD-10FB-4756-A9BF-410ACC536EB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FBDE4C46-EE53-4EDE-82BA-FFACB34BE2E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EC82595E-3D05-4664-AB4D-63D9CB98B7D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0360BF9-7606-4BEF-AA71-1A3A2BF8D7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49775BD-475E-4532-8488-14E349C892A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A3BF4B9A-558D-4246-9005-81B9DE72617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DC4EC42-F199-4690-9421-FD20E2FF41D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8AD8D368-72B7-4BAF-BDDA-17BE89BB249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157BB758-9D1E-4A18-9478-D618A443B95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62C0CCC-5A51-432F-8206-863AFC1962E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5CE9F04-5FCE-4E9F-8D2D-C34FCBB9746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FC98061-18D8-4B09-A0D4-5EF560BC961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9F4563F-7318-491A-92B2-ABEAFD1766F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DEEE6DDC-5268-43B0-AF82-0C0AC1F196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7019A1F7-C6AA-4029-9036-D5E0D3B825C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E6ECFB4-318B-47CB-A84D-EB497743385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9C0C4B2-4675-44B4-889B-8DEB280C464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5046FA5-071C-4CBC-90DD-C9056CDAD1C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7F9C9D9-EB3A-4236-B66C-7047511F94C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31DA519C-992C-46D5-AF18-52CF1418A1D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2947344E-D47A-485F-A5B1-055F9403AD3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3221856-F138-4C13-AA1E-C2DAC8E2868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5D14BE9-B6B8-4DE3-BB5B-B1E7B32C54A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98D5EF5-E0DE-42FC-B36B-01AACF6959D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BD75FDC-3807-4F7D-B6F4-72F87574772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D3A6A03-86F1-45A6-AC6F-187B5342E66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8E1AD2A9-8CDD-4EFA-A9B0-130D46664F3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F7374-0165-413F-BB30-33C5B4730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858D3-BB91-428F-9E0B-D626DC8EE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7A89F-1F66-4D8A-80FE-3CDD64213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50002-9369-44A5-BD5E-4F445C3D5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E3218-3B97-4E26-BDAE-A2E7CF9C4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ADFC0-B373-44E9-8AA2-2D1F69ACD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E4638-8CEE-419A-B436-7CABABA54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50EB8-D08A-478E-B021-DFF6ABB00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6CD0D-5D4A-4E26-AA2C-C24284222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21197-78FA-444F-8780-F7E4FAE8D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CB473-B140-414F-8D37-4C7838C32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EE51A-F569-43DF-9054-C87CDEA68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EBBC38-54E1-4778-AB4B-860EFF6306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26A350-48F1-41C8-A21E-2B4EF93CD11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F1FEDC4-8075-42A8-8DFF-B181F3BA946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6D85E6-C5E7-4345-B1F1-E2E868EEF71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073DBDB-552E-4C39-823C-94CA82B9195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F32DE3A-84D5-4D0C-AA80-9D26253722B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31B8F4-3973-4488-BD6D-6A72577AB35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72FF9D-C212-4D03-BCDC-ED4080F92F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A0C99F2-DE49-402B-A14A-8DFFA8EB1BF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73D4EA2-CF9A-4648-8BF8-2C8A98950C0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BF2FF35-FFAC-450C-94C6-B1B5CD3B4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9B83DDE-8277-413B-A565-0471767065D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32C4451-3C8C-4B89-9ABA-D4C9AA0B418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5908E90-1F09-4436-A670-2280DA4CECB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F6A603D-AF82-463E-A60F-DB0C59A06CB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56984D0-4E94-430C-8B59-648C17B1CF9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8BC8ED0-0285-4DAC-BD06-6F9A1B93C42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EC45497-09B3-4E03-948C-64DD74EF85A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0C7C1E0-980C-4F46-B6B9-53AA7CAD8F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0BF45D-DBEA-4DCF-8AAC-5C5A094035A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8E87BF0-5628-4EE8-9BA1-3FD53E2318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BD262E9-C7D3-4E6D-9266-4F391F87A4F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5FCF5E1-3F40-46ED-9F00-4D4ADCC435F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2A7E438-9BD4-4B41-9DC3-984ED64D5E8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1C142DA-7B60-430D-B143-5DBBADAE4B1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F60615C-3BCA-4BA6-B07A-091E799125A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1A4EA16-95C3-4F5D-8B04-61B0B0F526C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A7BD24D-DCEF-4C91-A840-287CD81E1CB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AA56B75E-A2A9-43EA-AE35-D9E86FDB5F4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41AAFDF-BFC6-410C-9639-8AC0A52682E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20B238E-474E-439A-BC0C-80359F5CB7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C33B42-ECB8-4A41-910B-32AA68E1B5A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22C56DA-BC16-4F27-8F11-8C6E97C8D0A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A4BB7D0-FD62-4F63-A8D7-BD96DDC59D0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5E702D7-E1EF-4948-AF68-E2373266495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C8FDBA6-6DEF-469B-B3F7-413A337B9DD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95113FA-2F7D-4269-BD30-4280689E57B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09E5485-D815-46D2-9CD8-6225710AFC1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AC552E5-47FC-4844-97E7-920F28E258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CAFA332-C38A-4417-A515-ABC1D3BEC24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E4FFB346-6DE3-40EA-8C56-BF95EB7280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12A38AF-B1CB-4985-8E80-A7F2D1B01A9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82847AB-66BE-4889-AD29-9C5912FC0C2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994F150-6884-4780-8AA1-962A4CA2A67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87A092D-F6E7-43BC-B944-DD25C011BC1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5EEFE4C-E6DA-493F-9F05-410A485A160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6F6309D8-4224-4180-8F22-C9524ADF511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9137501-33D6-40CC-B5A5-A65B174B23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1B7D3FB-9AA5-4216-97D7-AFD450BEFD7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9C23DB5-2D5E-470F-82A3-4E26263626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7B1FCC8-25D8-40D0-A1CB-CCE8DAABA0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FE079-748E-41BF-8B1D-230FEC125BC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90590-6A5E-4806-9837-4D4E5CFF2D1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4B844-2748-40E9-B228-A8DC831975D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158EF-9193-4D29-9D0F-E28E6E6C389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3C5A1-639E-492D-B759-674018810EF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96EEE-FC86-4814-969D-710EED3C51F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9FB811-4386-40D1-BE3E-7D12E9FA9F0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0FF44-32D7-45FF-9CB5-B5362AB8BFA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EB303-DEB2-4260-804D-DA5EE697948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608BD-8F7F-4000-9D71-3A9F14A53111}" type="datetime">
              <a:rPr b="0" lang="en-US" sz="1200" spc="-1" strike="noStrike">
                <a:solidFill>
                  <a:srgbClr val="898989"/>
                </a:solidFill>
                <a:latin typeface="Trebuchet MS"/>
              </a:rPr>
              <a:t>07/29/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FE85B-42A2-407A-BDF1-72278EFB5B0A}"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E8EFC-E515-482F-A8F7-F9EB4D6D628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0C425-1BF2-4CCC-B6D6-86640C84DAD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D3EDB-C545-40F7-90EE-F9DE3A063D3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F88C8-36FF-4885-B9C6-EC77F31034C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FF3B2-A433-4F45-9E71-FE17D9777A1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0D6A7-40CF-4F58-9149-7071FFF534CC}"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02DAC-1272-4639-A11B-B2C4EE53628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EF07D-936C-4622-8A9C-F582E432FCF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D00ED-CF52-4B27-8727-9D524876F74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3921D-0733-4823-AAC9-A296DCAFE6E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4B881-0FD2-44CB-BA86-C8A8BA5D8F07}"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2990F-965C-42E9-B68A-8C46249F88B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6CE35-F24F-4542-8E56-0210D99F468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8A4FE-4B09-4330-9EA8-B4B96CD611F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0DF9B-C5E1-4008-A080-B88C315DDD7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5735F-D23A-40DD-B36E-BBDB8274D67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132B2-807E-4B60-B737-847036BC132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871CC-1D16-48F8-839B-886C787B63B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81B63-CA71-4476-9935-0D1029FF2A9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