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180A4C-6F84-4C8E-8EE9-6F9F572887B7}" type="datetime">
              <a:rPr b="0" lang="en-US" sz="1200" spc="-1" strike="noStrike">
                <a:solidFill>
                  <a:srgbClr val="000000"/>
                </a:solidFill>
                <a:latin typeface="Trebuchet MS"/>
              </a:rPr>
              <a:t>07/31/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89EBD8-E398-4B6C-8E18-8208AD57C2AE}"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E912FE-B111-4409-BC21-5E3C41166A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90646C-0923-4599-9CF7-0ACEABDD9A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14107A-0E46-4826-9DAB-9F43804D1A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444A07-5D8C-47D8-BC33-4830047CC3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D82AE7-3410-4AE7-B478-45621DC663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FCF0F1-8AA1-4577-95AE-A5A6C6B481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974655-F2CA-411A-9AD7-E58EC9638E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4383DC-DB25-4CBE-A71B-46012549BE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72418E31-CE9C-44CF-9CE3-BD4CD2C29E0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27A0ED19-BBE2-4CEF-8D5F-1503FEB7850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F188DB96-290A-4B8D-A241-1CCECC432B7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18F773AB-20AF-467C-ACD1-A02C9687229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8C80B137-4803-4646-952C-68BF0215B01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C171FC01-D4DB-4FB0-9516-9E6959D4E66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05DC2FEE-2A51-4C57-8DE0-5D50367039E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2FD1544E-525A-4BFC-A129-5FB1F0881C6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7FB26F60-6798-4E9D-AAD5-17099C67FAA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E582170B-D10B-4A2C-9F75-69185C8A8E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BA30732D-228B-495F-8518-A8933D013C9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FB0BC4ED-03BC-409F-8D6A-5543724D0CE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D10D503B-85C0-4272-BD0E-72946377240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1401372E-C397-445F-84AF-F7580AD5423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02A4ED87-0B0A-4998-BEB9-5828E03BBB8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652EE372-209D-4B73-A6DF-EB2DBFE1FCE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3297D3D4-88D2-4834-BDCA-8062FF0AA1F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5829A1AD-41DA-4F03-BC8B-F4DF1FE3E6D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D6D88432-7FC5-4D8E-B5A9-B6599D9131F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3BBF23A9-89C4-49C5-8582-84CDBF6378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D14F29AB-A174-4C41-BAE5-1A68322396F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E80ADF82-EA90-44EA-8741-3B4EE88121C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E72410A0-4859-460C-B88C-D0089A24318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BAC91B4A-CB58-4E41-B8BE-559C8D19254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8D44506B-9B26-4E44-9B2C-45C5EAF7D76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C7D5B763-586E-47F3-A51C-285008E41E2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1235E862-7F32-4A96-99FE-861D6681C4F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1981B285-DEB1-46AA-91E8-2778480F4CD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638570BA-AA89-449A-8AC7-465A06EB957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DACABF4C-3700-4C6A-9A89-28D1B8C909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C07895EB-CA12-470C-A6C0-802DDBE23EF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7E66DB05-291C-48D0-A1B4-C599E9EB245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452FE3FB-C37F-415C-8F58-B1ECAC27F27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E2D5B204-6609-4BC9-91AC-67A36C147C4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80255295-4518-4961-875C-FB92895B0D2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4A9CFE7B-9F37-47AE-B829-DA6865462C0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5E717EE7-2ABD-4947-AB5D-D0D71329000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CB100EF9-63D6-4821-B7E4-6BFCD33286B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0065B928-D7DE-4FF2-92F1-64EBDAC25C3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4D9E3DDF-A6D4-4545-B2BC-94CC3E5450A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2852CC81-E58A-4A44-80F7-CC77E2CF58C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2821A389-306C-4512-B26B-6327DF5DDAB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4F8508A8-8372-4398-9FA2-D62511C40A2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0C0FF648-D9EB-4D5C-8EC7-EEE3C618CD8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BA38DE47-89A4-458B-8304-249FF4690462}"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746448A-5D9E-4658-AA8E-E7447CF5074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2F6D398-ACD0-4C60-9161-FB6174BFBBF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6FDC1BE-E0F8-4D75-A841-5B4510706F5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9763061-4591-4045-84F7-57DFF58D356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3A8A999-304C-4310-B397-C5961473E89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E6435CF-37C6-4EB7-9BF5-AD0C981B244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3717BF7-8953-4061-AE79-26C987F02A2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C9A88A1-873C-4580-8E80-540576E0901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D66C2A6-BF9F-47F4-89E2-35B6E731B95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50B16A5-CAB0-4BEC-8766-78FA658A012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98D377C-4844-4B83-BDF8-2898F6294E9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54B16F0-A604-4995-87BB-0C9E28FAF6A9}"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39875904-AAE3-483D-A8E3-814DA83EE685}"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5A3E9DFA-DC4A-4D08-AA66-39DB89ADFF3F}"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EE0C110A-DEF7-4162-999B-DE75730A4BB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0BB5D088-6E72-42FD-9689-505AD213B92B}"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C25DC578-40CB-4949-9A6E-BCA89EE325CB}"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DE397AEA-9C1D-49FA-802D-A49044B99CDA}"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0E1DC2CF-CC0E-402A-B6FC-3BD9E93E53AE}"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78D5EE89-06E1-4BE2-B142-FF5B4FF79DCB}"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728C5A07-A173-4A00-92A9-CEB37F4AF912}"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2E8B2F18-6B0F-4647-83F3-57AC4E3E2907}"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9154C3DD-9957-4D79-A30A-109B1D2AED35}"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B45B1E7F-4444-4E5D-9C69-FA138FAD193F}"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D45D3BB6-F10C-4F2D-B640-F5509F3CB9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561B1243-0F2A-44EF-92B3-07DBC98663A1}"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0BE992CB-B4F2-4352-9B36-ADE7AD09477C}"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1209E094-69A7-4CF4-B37B-F8990F018065}"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649FB048-F6E2-453A-A788-1386F9A5E3C2}"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55F232C9-4376-4465-9D84-0C3E0554096B}"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E94AE7A4-CC93-4FFE-88AC-AFF20AA00BDC}"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D332C0E8-2EA7-4C19-A681-623404A90496}"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F630A7E5-5E67-4351-9815-B92861C88282}"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C191EF8F-6DB1-47F8-93E9-86ACF7AC1279}"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E384CA99-BF19-473A-8122-C3752C33BD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CEFC6F4B-A2A3-4B08-BF4B-055C4E4C676A}"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DFEDEC08-DA51-4BEE-A889-9D6AC6AB409D}"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CF8FBE9-34A7-4A75-BC96-E3C695E9B4D6}"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2496959-B301-4A4A-9289-C16DA4B5450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54C0910-E299-4B17-B827-B304081F7DC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9FD45EA-3ABF-4C80-A92D-939160DBDAB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14190A0-88B4-47D8-8A9B-8E827AD574A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3C57188-D7C3-4E06-96F2-2C778DBFE03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A9B3504-C489-47EC-8E9E-16DD431DC4E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E5597BD-B327-4E9E-8DAF-1A9CB12517C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D565728-203D-4E78-AEE6-935073AB860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01502E48-FAA6-4029-898F-BCD162B4DF2A}"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402423B7-762A-49BF-AF0A-42C06420E989}"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0A95B4B0-B998-4D75-8BC8-B3E01CCD10C0}"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260CDC35-964F-4248-8482-21F2E3D3172D}"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00194ED1-C5E6-4114-A71F-B24B88265913}"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3E0F566B-85AE-4D00-959A-B9CD2F1CBCC3}"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F17F78B5-B4FD-4765-8035-08816D98FDB9}"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ABAFCBCA-5EFE-4A14-AF1E-83600ED49EE9}"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5BFA505D-FDFF-434E-9E8D-BF3E4518779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C527FE66-3C39-408F-AE48-080534897C44}"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E8871DB6-1B63-4149-97F0-B2A5951DBA12}"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031CDCBF-B679-409E-82F2-314240FCDBBA}"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7BD6A3A3-2A09-4FDC-BF5C-2280E0F78303}"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F2ACA170-F882-4736-B2B5-87FEA01BDD0B}"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68CCA19B-ABB3-4818-9DDA-863E4EA5D107}"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58EA858-7080-43A4-961E-4624F1F25AC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08704D6-B33A-45DF-9A67-A0FC31E015C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CE4B1A7-84C6-45B7-8738-1A856A3FB35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37FCD5A-F3C2-484F-B84C-705CFC27E49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59522A9-162C-4023-9F18-94B8B331C2E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1AAA5C8-D26D-483E-A62B-2DCA6E37BE3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C3D1F77-237E-4517-96AA-05B2F39E211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61F85CE-EA38-4E33-811D-9DAF48FB837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D803AAB-04C4-4946-8436-0A1EB354233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3314BCC5-0112-4DC4-A68E-BC8373471DB2}"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76AFB08-8EE9-4FBF-85F2-D01A9E03F169}"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B618DB1C-429E-4215-91A3-2FAF41C5D496}"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5429139C-91FE-4350-925F-80AAD6122773}"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2F5FB705-3788-4C58-8ACD-26D7D5DCFFD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102E4FE8-4466-4611-ABB7-B29737572190}"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E7590D51-FA19-4CA6-8155-EF4808932B5F}"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D21993E7-C7BD-4C0B-AFC1-98B7D1A070FF}"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AEE26455-E9F2-4121-8612-8781D3649DEE}"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B43CB421-B350-4FC9-A34C-49BF459EDF97}"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175BFFD3-2A93-43B9-9BA9-931C47F9D5E1}"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14569D22-A514-436F-86C0-CAC6DE74C9A7}"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D6C1F859-2C07-4C0B-A66F-2B7A6327EA0C}"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E0370F2E-EF64-4A2B-83B1-6A94F5CC06C0}"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31444665-5344-4AC1-A709-ABC4666720A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12146FAD-8108-4886-8630-C0598ABF2A45}"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A03F4147-8262-4585-B08C-FC77CCA2153B}"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8DD989A5-A366-400A-94C4-5C578FBAA71B}"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3CFB0DEB-57C7-455F-B7C1-9C1BEC79FCF5}"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B3D2105D-14FD-407E-A01C-01AA83C689E0}"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788FABBA-CDC9-4420-B38A-59B67AF8EF38}"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0F043BE6-9254-4316-BF9F-D477695C65CB}"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8EE670AF-9BC2-403A-B1F3-1AD2E941C652}"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1FE635B4-1635-4CB2-8699-27BB72245B60}"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CE61306C-C360-4D8E-8E5F-7B37215E28C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A16CDBB7-4E59-4A61-8D90-B0D057024B6D}"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3AB5664F-3777-4349-8EE9-EC0FE843C018}"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F143D06E-4FDA-4717-AA5D-DFE8794ADAC8}"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2C2F9484-3F03-4420-9833-2FDFEAB94152}"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A2BF1184-0D92-4381-991B-488C1D3D3686}"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5F120275-199D-4DC8-BFFD-0CCF1AAF2DF5}"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3E35D2BD-AC11-4B86-8D54-E44A376F50AD}"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AB9AC142-1903-412E-8DFA-F71A31564105}"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B487C6D6-04AA-4207-85A1-60C743CF7B00}"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E64A7788-8226-4313-B942-000058F5E0F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97DE3D62-92F9-4744-AF2F-C6F8E649EA0F}"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6DCAC12C-EC77-4156-9A65-0F66F53E10B9}"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EED6499A-B330-47F0-9FF2-2CC4B3C220B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3082C6-F866-405C-B982-57EBAD7B23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03A0C-5C2E-4168-9249-DF65D63A5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A60A7-F4BF-49DC-A235-55FCE83CE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2A2E3-C62A-495C-BC54-3F5BF1010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114B1-BD08-4C4E-A16F-9D203730A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7F9ED-208D-4544-B415-02D0D5AEB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8BB0B-34B5-442F-BA80-34226935B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470CC-2672-48D8-BFD0-792BA78E8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AA363-F5D6-4CA8-974D-C5EABF085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47CFA-D0D0-47A1-B72C-39A3B1494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DBD47D-9CB8-44CA-830F-B43E1D20A5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210FBC-1C68-422F-A600-90AF6B1D75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DC3900C-1B52-45C4-8AFB-C04334145B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1DF80B1-E31D-44E1-829C-8400DB18893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40A4C71-90BD-4327-BEA8-B26C180DD56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0A773C2-0AD9-4A62-844E-C484FE64F51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DA5B7546-6144-492E-A8EE-ED35F256257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0896F02A-D79B-4AE7-A33D-BDD87D5BC97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6B18875-4A75-4B2C-A6AB-350A9ED6020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5103056-7129-4768-BA68-CDD4C970E36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C50AA4E-702B-45C7-BFE0-D7CA207D2FF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479B5F7-1C63-4796-B0D5-1ABBE7416BD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3093A684-5106-4EBA-89CB-36BC0D1137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1ABC9008-AB10-4AF3-BD7E-102C7FFDD8B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6806039-BB4E-4C02-99DB-BD3F3949481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BA8B06C-B254-4B6F-96B7-4EF36FB507F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FD2CC7D-00FC-47FC-9C06-74E926117FA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77A3726-96C1-4329-B584-5F6BBF3A710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66CE7E46-4C7D-4DC7-8FEC-2C8C8E4E280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E6FD1F02-F5FF-4663-8C2C-15BDDD52698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5425CF3-C856-4D4A-8EB8-26CA5A2EB42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2F69FDE-4785-4367-B476-F6AD12F17B1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3DA7C30-67D1-44CD-8206-48579E79A0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0817EFB-2B09-4AF1-909A-C5EFDA13299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1BED9842-56CC-4491-A302-35E44E66BA2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35081E65-8C45-4F8C-930E-146B6E696FD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C60BE7B-A06C-44C8-9B8F-886AA7318A15}"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93E7034-F5D9-4751-A23A-42AAB513BFA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C6397E4-48CE-49EB-9F8A-8534192874F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D04A973-6221-497E-A2C7-DF21AE346CD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C0E1CD89-18D6-43F3-BD7E-98173C2F079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B91E1FEB-FBEB-4B89-AE67-D49E1A8315D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27D9A32-54B1-4DB5-93CE-8B8CF6A68D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F39FFC8-F703-4D6F-8DB2-4F25CEB08BBE}"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7E61FBF-F448-4C12-92FE-5169B8169D8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F117CEB-B709-4159-A0CA-6EE3D558B04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600A713C-CB3A-46DF-916D-154D560DF35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54AF2BBC-3B1E-4AC2-8329-6C68E4D2569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1C3916C-BB91-45A6-B25E-896302A40FB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0787CF10-2C5D-4BF1-8A8F-F6D72D5FBFB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9677AFFE-D7EC-473F-8E44-355D62AC8AC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47357879-0E4C-49D4-9FF6-B726E263460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47704D72-274B-4805-A79F-56A793FF2C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2A50416C-8F9F-47D3-899F-66F43BED329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CF1B0D75-6AB2-4279-9E5C-964A5CDD047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8F32562B-2F4D-4F29-B39B-EDD5F252D61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552E45B1-1FEB-4648-B735-3496A1D1257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9719E823-8077-4A64-A248-A8E621969C6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50306529-AA37-46F1-B130-8B1CC037FBE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49EB0E3C-507C-4E78-B5E5-BA24943E461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21F3146-59EC-4097-981F-0DD75F0FFEE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26E4FE40-C228-4EA3-BDC3-B73C1FAA5A4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7136C03C-3E34-4E94-8B11-5240C33137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96041F-8A13-4F6B-8D2F-182DACA84B2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E1033A-2733-40B1-8682-E9A8DD6594D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511E1C-D786-4A02-A42E-F09D1A46775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6489F6-73D5-4220-ACDB-0309C7657245}"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E301D9-D18B-41EF-95E8-F08EC4212639}"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044A75-7BCA-48DF-A2DF-411E52D16AD6}"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F98E52-2D2C-4FBF-80C1-FA8E9F60018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87AC8F-3029-4276-83DA-93806A92C21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480017-726F-411B-B1AB-FE5D31379C2E}"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2DB854-7D33-4A01-ACEC-829E7BBADB90}" type="datetime">
              <a:rPr b="0" lang="en-US" sz="1200" spc="-1" strike="noStrike">
                <a:solidFill>
                  <a:srgbClr val="898989"/>
                </a:solidFill>
                <a:latin typeface="Trebuchet MS"/>
              </a:rPr>
              <a:t>07/31/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438D04-5812-4FBE-8F6F-E5DCE06CFF43}"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9A5B53-5FB0-4364-8605-50068138D7B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E6A363-1B2E-4F57-8770-173842855A5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8E3595-8411-41CC-A323-E3EAE3D7DD8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1481EC-DA46-48A6-ADBC-8E31AE98642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C0356C-4DD3-4AB7-AC82-1D97DCB0576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5FDDF6-AFC5-44C8-A1F7-6414BCD9B308}"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C502AB-C633-4C49-B1F9-2E841F0C63C1}"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9611C8-EA67-4225-83A1-946D2079D857}"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15D32D-3A23-4553-8975-485D9E48A093}"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3E2512-086B-42BF-B7EE-BD88C8D8AE65}"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255112-72A1-4AC5-84E8-252B4F8A92CA}"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187F9C-A0F5-454C-9364-6C75680A2C9F}"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CD82F8-0E68-421A-A332-244FBC904295}"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A80EFC-2D88-4C39-9CF8-477AA5B6025F}"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07ECF1-2CC8-45B6-8CD9-85DDDAF23D48}"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BB02F5-8C48-41CC-83E5-A499AB42C1F4}"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79544A-AE2C-4979-94D1-EC6B43997523}"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A7D307-B2FD-4EE9-A8D6-E91C36FD0AC0}"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DE0783-39F8-41D5-B25F-1916EAEDE4B6}"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