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549A3A-678F-45D2-8781-D0D1ED0A5B7D}" type="datetime">
              <a:rPr b="0" lang="en-US" sz="1200" spc="-1" strike="noStrike">
                <a:solidFill>
                  <a:srgbClr val="000000"/>
                </a:solidFill>
                <a:latin typeface="Trebuchet MS"/>
              </a:rPr>
              <a:t>07/30/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8A069B-72B5-4894-A985-485CD518787A}"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9F9BA5-3355-4AC0-845C-D05A6D6B19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4DCCC4-7647-4850-8B95-DEF706FD34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68179C-BEFC-47A1-A6FC-DF9A895421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46CED5-F1C9-4131-B219-51DCF0330E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D1A767-B31C-41D2-B48B-C22853A385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AC125C-D14C-4286-8919-2F72F7A9C9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549672-FDFE-41D5-AD79-821307B0A5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685A6E-A11B-402B-9E76-AEEA353951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7096D023-4BF0-4B91-A5D1-263043D5938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1844176A-EE07-4625-A09F-90C8BAC9FA7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47984555-CB17-4006-981D-D99913962BD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4B145A8F-FFB8-496F-8900-D2BD8ECADE4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E56A1800-FB5A-42BF-9FA2-49058DB9A10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63B8B181-11C3-4939-B33F-EA44FB741F6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8CFC3008-3E94-42F7-9B14-B871A10EA70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DB99F3B7-FD49-4C3E-9082-3A53944F824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E9A01684-351D-4D9D-839C-A0A95A0CBC4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849EBB34-E9F9-40B2-89BA-73E24EC15C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63833B33-5440-4398-A953-FB739C07D16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AC9E3C50-6118-4A55-9E2E-F114C2347B4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368F3BA3-8D81-4CA3-ABDA-39E092DF64E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C1D3A668-A218-44C4-A56F-03701A584FA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397ED1C7-DB30-40CA-95D5-AF9AA785801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E086F814-F8DE-426B-8A10-794CCADB3C7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5B9940AB-C6CE-4D0F-81EB-243442419B9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7FADBD52-7852-4725-A684-8F217D82C66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3F383DC5-2496-48E9-B434-6A50D5EE6E0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D493D41E-7CED-4A03-8405-3986E7C02E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B63D29BF-A515-4E72-B67D-DF92B86FCE5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B07C084-DB42-46C5-BE6A-5E7F97C90A8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F3129DDC-45D2-4319-9F42-B5F97AF9009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1F910A5D-D064-4F66-B1C9-8BC67AED388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EDF86CC9-4DF1-42F5-A0C4-332BC2E662A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C3032DB3-0ACC-4BBE-A4D5-8BA88A63A43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3117834A-1766-4008-B170-133053BC3AF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5766F149-3F87-4ED3-B73F-B36EFCA0254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C5C25F1A-C03E-4BFB-9D29-CB853A8E225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6D4E9D4E-4957-4D00-93F9-54A5039D70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83451A33-5054-4A64-9932-1BECD03FE23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B44ABE60-1CDC-4359-93CB-DF8A3383CAA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13E7192F-5523-46D8-9650-2B29CD0CF3D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21B5DDB1-6FC7-46D6-B133-9FD9C22FE89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88105BEA-065A-4A9B-AA50-B08B927981E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CC09F879-EBF9-4486-9A88-4FE7E4E2C11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A195A6A9-AEB4-4C4B-A56F-5D33945976F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47EE48A5-8813-47B2-BB4D-4CC8A4E6757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3548E4F0-7992-4DDE-AFDD-03D16E4F1B6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B5051102-5E5F-49A2-87E3-28F7DA31B55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1CDC15DC-CBFC-4235-B8DC-BF84EED1071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A015520D-1DEF-49D1-BFFC-FA0775C59A5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F252F490-92D6-4184-894F-0A0F19D7A06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FAC4A456-B1AA-4071-B254-66E36B26C08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A9F0053D-AAD3-453F-B7EF-32C771D56F0D}"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7C72A33-98CA-427C-91F6-3B455DDA9EC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BDC869E-2803-43BC-B20A-AC73407D34E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F1B9883-67B2-40DA-B3A0-F64849C84B4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D0D0FB8-44AE-4A7D-BFC3-3050EE26E0F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FBDC43F-2826-45E2-9E11-B45822A87F6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B029D65-C9F0-43D1-A472-A223B3C985C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276E5A0-DF52-4B28-998E-049516103A9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0BF2AF2-77C0-4A7F-8E7B-71A17CAABA7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20076CE-4DC9-4AA3-96ED-457E497D1CE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A3AA9BE-6B01-49EF-9A70-C0B78EF0C10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BCB349B-9F54-4D1E-8526-AAD3FA1768E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6C0A2636-1A54-4445-9951-18AE8EC85246}"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437B1E0D-FE7F-4933-9570-6D010F661B87}"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82D2B524-8043-4EF4-97FA-295C6415F6DA}"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690864BC-5690-415C-9822-7F38A96D5CF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98726BF6-E627-4A20-9257-B4828ACB6B4D}"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C04D7C47-F20E-4566-B614-1F99CE6DC1AE}"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11F76305-3517-4CD1-93B6-DC7C20810BDA}"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96CA790F-0C72-478F-8B0D-50DBECAD8465}"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24868ED9-1281-4554-9B7C-5BF11A833F18}"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ACFAF8C8-FCD8-43FD-AB3D-3085C5614D5F}"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E798BF19-FF6A-4DEB-8C81-B10EB46CA576}"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F92E4CB5-5E81-4A32-9054-8505D6A7F492}"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9CBE5180-1364-4EA1-84D3-96A6A1770994}"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D8F82E38-FA60-4767-9ABE-617AFA91A3B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DD2C95BE-9024-41B1-8ED5-3A75D2389D00}"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6B68F928-1D4A-4E7C-AB30-4DA1E8585850}"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AE022B53-78A4-4774-8A97-20EACE7879C6}"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53BD50AE-4E8C-454A-9A9A-958A5427EE21}"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5E3F0838-2346-44A9-80B4-005712AC9D9C}"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6BAE5C2F-64EB-4F72-B859-609E87F1B6A2}"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61AECAE3-B4C7-48A9-874A-3F5166698C01}"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BA275532-567C-461B-AA8A-D6D319BAB93F}"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B55A105C-82A1-4B34-ABB5-A81CB4663812}"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EE25A05E-14B1-4BFD-8E6C-42316D3DE89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AA848DC1-38DC-4D59-89B6-6E7046CA49CC}"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C4288B1F-DE21-4FAC-AC30-D39AF883FE9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8B4F6C1-66F7-41B1-B165-2E3D81CDD4C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B5FCFF5-BF25-45F8-A413-21EAB57B14C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D8AF492-39C1-4380-9318-17458C77277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D95312A-A76A-45CE-8091-6CF3026AB08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89A5EAC-744A-477C-B16C-90F6490D579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29B1A99-D260-4BE7-9A46-289411477D6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7A43641-6809-41F7-B5A2-EA9B48866CE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C3102C7-6D89-445B-AC3D-794F04534B7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7526980-7DF7-40A0-A5E3-8538D575B01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25EF89E5-6665-4A3D-9E61-9B3EE35FEB8F}"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8AD1988E-A82A-4D41-91EC-D62533C605AF}"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D988CCEF-3BC2-468B-A633-4003F24F1526}"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90EAB16E-B501-4301-BB8D-AB26E2CC3691}"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A29B24E2-9EE0-4363-9B92-ED976B60A46A}"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0DB738D1-49FB-4B1B-AD82-D5E4B53CF15B}"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5013D042-1217-4E3D-AB05-40FE8CD8FDF2}"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97DB5E5C-8107-4872-92D8-FE107E424E0B}"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539E75F8-3FC4-4B49-AF92-692FCC9DE35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E357CD78-AF25-4D95-88E1-E120997E7187}"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F4715E42-5355-4481-8601-3C794C85A27C}"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5D03AB4F-39FB-4057-9B7B-602BEED7DBD7}"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B2BAD333-5F06-494D-977E-0C23AA7C7BE8}"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6A246A0B-C237-49D6-9046-68DDBE4CE4C1}"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382E0179-809E-4BD8-9D58-E95D1501763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466B20E-1C37-4846-BB8E-5DEDFB55BBF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73BC26F-387C-4CB9-A15E-552D2A61DAD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E37BBF2-E58D-4811-84AA-4AB3177E67F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83CAED4-D38E-436D-A587-962927893D4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F64BCC3-3FA6-4DF0-A42A-73B6B5E7504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531F5C0-3528-4873-A59B-B1BC4B5A89E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ABA8744-457A-4917-B060-AD31B92C9E1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03F699C-452F-43B0-B5FC-5B55D4B1419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2536EB2-3CED-49E9-95CE-39A0D526721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0CDBE600-6BBB-4916-B674-8572E4D9D00B}"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97E392CF-F2B5-4A9B-90F4-6A3C1E8C0D7E}"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409E46D4-1306-486C-BE8F-AE7B848FCB91}"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D13A3A0C-15E0-413A-9CB0-72EE6517FBF1}"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2DEA6C83-EC3D-4483-9294-6CD57CE0AF0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4B47CFC2-CBF9-4A5B-ADCB-B0F45040FD63}"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D267CEAD-D32F-4202-8AD1-186E841658C4}"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7776A7E5-554D-4C2F-8E61-970F24ADE8B8}"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F55C2A98-80A3-42F7-B23F-6463BE631219}"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74CD3A51-922B-4588-A148-2DD4FB1DCF24}"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965FD490-9797-428A-90DC-FF8DE9D035C6}"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D53A6E48-656B-4F78-9551-7187EFC6A3F4}"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ABB63866-0AFC-4C11-9E0A-97594F629AAF}"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7BD71904-D336-43DC-9E2F-7385C1C619D8}"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18A4CEF3-F026-4488-AC88-15346AA1B5D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3D7C6121-34C4-4206-8C23-E171E9D4CADE}"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187B1B07-D699-4CD0-9052-C8BE86A04225}"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853C3C5B-BC66-45CA-9077-7A520AEAE5E0}"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0758BCF9-75A6-4ACC-86D6-944AF30FB46B}"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325AA7DB-2F31-4E6E-A7C4-1977D8E020AF}"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41E6B3B8-12F3-459C-91D3-4B43B7ABDF23}"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6254A2B5-BF71-40B3-9A93-B499D91B6A05}"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474D3D86-1681-4831-8A2A-C667F160C2DB}"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529B664A-D2ED-440D-97E3-9B5A2D6B9599}"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BDE774AE-BC48-4A1E-B61C-74CFB2FEA7C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DE792478-5CAE-49BF-AA38-ED5900EDBFAE}"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141AB330-CC42-4D99-89F0-07D00CF2A32A}"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BDE2EF39-8D28-4C59-B2C4-3278F6F98A58}"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FEBB6C4D-94BD-402A-B818-9F0A0BA4446A}"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978699AC-FF24-432A-A7D1-38C1E8094634}"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A14D42A9-9298-4B37-A794-CC4BBA89EC0F}"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28AAFFFA-9F7B-4DEF-9EF1-B5F3B8BE9A4D}"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37A65BAD-92EC-45EA-A490-187447767992}"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1B26AE94-BE7F-460A-AD7C-1B25B616BC8D}"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D562CE5D-1A2D-44F9-A70C-FCB43640FD5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15D5088F-A979-43A7-AB0F-FB034354A868}"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1F788EB5-C37C-456C-A59E-2B14D37A5069}"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82EE180D-4A63-41C1-86FF-571FD4E445A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F1DE18-EAFB-42E6-B6CA-169C4B56B3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80AA0-8694-4078-A895-04F340E33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D51C9-1174-4D77-B161-1F06796AA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A7D9A-26AF-4DA4-93E8-75CC02978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76F77-5067-4E61-BDB7-4C9A44139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5491A-6E4B-4E14-9604-D90198E22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8BBDB-12B1-4892-B401-0452D4DFC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BFC3A-91B1-4F14-9756-3F630A954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F16AA-F786-46BF-8156-D13477401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CE522-11FE-4212-B70A-A0B190A17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7678E1-E690-4AD1-9586-C14DA6882E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C94FF7-3576-4C86-B1EA-84A4D73D12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7064A86-B992-428A-BADD-F8E5D7A9AC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990E6F2-ACAE-4ACA-B5A8-96CB5AF4915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9B5A9E5-D2C5-4A11-86AE-00606CACDB6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938E0A5-8BE2-48F4-98D1-15D5181AB98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3D4277EE-CBCF-4278-901B-34ABAA0E1EE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ACD0B470-BCF5-467D-BBDD-1564875CB44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A5D5F17-0254-4332-953F-7F042A34A72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4CF957E-08A6-46D3-8F0F-0142AEC6559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C60465F-CA35-40A2-844B-57DC876616B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BC166E0-C10A-4E39-BFFF-39967F7897F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2D308E7B-D465-44AD-9212-7D9B6B2052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C969233-3004-4B70-87A0-37884FA5661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B3CEF0B-7083-4374-8CB4-214AD3BD482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B2A43D0-7DE1-479F-90DE-69854774AC3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4786359-8F3D-4DE7-9E47-D00861FC738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2E4F5B9-2896-47EE-BB49-F91397F63E4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53F9BB95-C9D8-4C85-BF10-B6B4783AD23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022D5E20-AAC1-4324-8DD2-059BDF46DA4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0CDE743-5973-493E-81EB-469D3296596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40C2388-F696-494C-B922-5DDAE99C8C3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BFCCFFC-BE3A-4AE6-B640-4CD514B394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A85964C-4A81-416E-92D2-29BBA4D53F5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DD68E26C-ACA0-474D-9A43-643FB6931B7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511601DA-C998-49FD-92E4-C6F1CC73BC1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4ADC651-F300-4167-AE93-32C494DD194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547198F-077A-4F51-B44F-8489C6A3999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5F13CE1-F417-4BE4-A5AE-E0F9AED0005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A7EBA65-F9D9-47A0-B6E2-A1FFDCA6C65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56570DDF-ADB6-47D4-AC50-78F3F217C34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EA096EA8-5BF5-4E68-B20B-97ABB98C563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5478FB9-4FFC-44A1-BCA1-C9AAF9399C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B0AE9F5-BA56-434A-B8E0-CCC6CE0249C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7965BFF-CE2A-4FB2-917C-82D11E3A41A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3B6FF1F-86C3-4EB4-96E0-E7DDF0666DB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994F7631-1411-4F5E-9173-E5B2361A5E4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1C90678B-7ADA-48B4-824C-C61909B4091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337E0A1-FA5E-4A41-A13D-CB790D4895E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5BD7608D-8783-4792-8F54-F397908922A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233C8311-E71B-47BC-8689-31E4BEF7D1F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02D057D9-9D4E-44F4-ADC5-1E67BEECDDD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B9E6FDD9-0907-4B82-A82B-BD4750B4C9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8D8CA828-0452-4838-9943-2DC309ECB37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06DE68FE-F19B-4734-82B0-3138B8CE384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3742DE5C-0853-499D-929A-F2D1A623A31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3B144DC1-E8A9-4E7F-9243-A8F0130550E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631C93E5-408E-4193-B753-F822C596B14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547A05B1-554C-4496-910B-803A0A4B1A9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D0BDAB3B-7CCB-40B4-B061-05B9140836E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EC60281-DA65-4462-94DD-49A7030FC1B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F533FE9D-E8E5-403E-8D03-24543E21D07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21A48588-11C1-43C7-8BA6-C4899CABBE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738357-8F37-4211-B798-7AB72090367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C6A0E1-834A-4BBD-B2E9-23C74608927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613FC6-2BE2-4877-918D-6BB4C085409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B0D184-9F39-411D-952E-C25BBCB84F93}"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2752D9-7873-45AF-A0E2-633D8A507D4D}"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E883B9-CB0E-444F-AC60-FD1932C3C463}"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3321C8-A980-4E45-8010-F70199F3163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7339C4-8B32-4AE2-9977-17E673EAB84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937479-D6B2-416E-AD6D-8C915DCAD64D}"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47FB36-5041-4BA5-AECD-C9A1BF3199DF}" type="datetime">
              <a:rPr b="0" lang="en-US" sz="1200" spc="-1" strike="noStrike">
                <a:solidFill>
                  <a:srgbClr val="898989"/>
                </a:solidFill>
                <a:latin typeface="Trebuchet MS"/>
              </a:rPr>
              <a:t>07/30/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2819AC-5865-4770-8860-EC8C8A1F874E}"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4844D8-89CA-45D7-80C9-16323DA0604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B71617-2C5E-4B1E-A9E2-E6985A83014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AA6C1B-9066-4A11-96F4-815BDDF5B4F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B3D274-6D33-4092-A745-FC418AAEA84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E12CE8-F840-48A9-9DE1-7A2A11750FE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CF8360-08E2-4FB5-8258-817136BB8DF5}"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0D837B-5C2E-4F53-8DC7-900DDBEA7B8B}"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093589-1514-4600-8DB7-B2B34F1CAEF4}"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0F0629-38BA-4015-AC72-6ED847B0B573}"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B0052C-5DB6-4109-A898-0E9DB23DF62C}"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D2DC1E-C766-4A20-8EE5-2643F918F08A}"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5330D7-62CB-462F-9970-4D4B983E60D2}"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C24E50-5072-4B63-943E-E9FFADE8F7CC}"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BE4F48-8037-491E-AD2C-4DCFC00366C7}"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C4979E-B6D5-4909-B380-5933D15A1083}"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C606B4-96EE-4B27-9386-60A7D6954D9A}"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E013FF-5C4A-4CC6-827C-C768E8E5E4F6}"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EA236F-FA0B-4B12-A069-8CBE24EB743F}"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D75729-864A-4435-B972-6D0A166F344C}"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