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4CE6A3-BF46-4924-AEEF-2C2607C8A4F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542C9D-3A42-4DB1-997D-87B1DECD84F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8559B4-B9DD-4ACD-ACFE-40582391EDE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C4D884-DCE1-4B7C-A588-2C79062DA9F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BE537F-254C-4D04-A114-42B0ABE57CC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DC9E2F-C57D-4595-B12C-17D59F89627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9C1964-49E3-4F3F-8D99-15030FF1CEB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D026C3-FCF0-4932-BEEA-B65CBBD0661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585580-526B-4B73-AE3B-182B86CC601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A9BC86-F4DA-4B15-918F-706BCE5A93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EF01B7-FB26-4F12-9DC1-3D82FA322CB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B019FA-AA52-4156-B976-C4035F6EEF0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42D6D6-4168-4BE4-9452-457612F9177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B29874-F08C-4351-BCA2-91DCFE79D06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45591E-806F-4083-B765-9E34B504F47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D7BBD9-FA95-4647-9D6F-8A30803F33A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16F794-FD29-49FC-883E-12D1A7D673C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598BC3-35FC-4784-B933-5E897BC045D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1FDA04-5360-486D-82DF-DD6FF1A6D01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6A7B8D-C547-4DF6-97B1-AB8F2C94EE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A64F53-E5E2-402D-9520-85CD7E10BC1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75FE8-44B0-420A-AB55-610168C2A43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19481-97E6-4B41-A069-E6E13FB4189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95A85-44D0-48DC-B7F6-11D5E2261BD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4A697-0DC9-4172-B7AF-58F8ABA19EB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8D104-F7E1-4FB0-BADF-A4A6DBD2049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70FE4-B902-4FA0-8604-9EDC742BF3C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D9738-FD0A-48A9-8489-6C4C13C2036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DBF97-A780-4D05-83EC-97B96E85950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5D56D-2C6D-40E6-AD25-DC261E1017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14F10-735D-4189-B55C-AB2884663EA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32BEB-1D21-4C18-A3A3-7C1E92DF734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22CD4-FFFA-4CAB-B70F-368BB8D1D44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800F3B-8858-4FB1-B166-EFD05234C13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A60FF4-B407-499A-8100-DB4BE806C3D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1DF63B-DAD2-45F5-AD7C-DB1DF3113B9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931385-6F33-4E8B-8325-98EF3ADD382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CB4FA8-1158-46C4-B645-FB2C8217720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AB582A-A7E9-4D9F-ADA8-4B0547C02ED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7B5EAF-2EF4-4146-9B96-268262D969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0FB2DD-AC84-4708-8428-438D9A44D8C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673743-D914-4603-85E2-FAEDBD7E871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EF45A4-7212-4FDB-A61A-A40A2551AAA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BB6B90-D07F-45FD-8F3F-35BBB41F4FE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31CDEB-7BA7-4F31-8A6D-1C353FFDDBA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A08E70-40B3-4A82-8C0D-CE7FF224EB7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2C1D8F-EA82-46AB-B943-E3CE68C1497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EFF8DB-43FA-4CE0-9343-4399781AF36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D1244A-9785-41E7-AD32-2A9B096963F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011DAC-75B3-4E88-9D9A-76C5E85F189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A74E40-AE33-4771-83CD-0B3E3A4423F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96C253-7D7B-407E-AC6B-FF09B9C7BD9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82EA87-990B-458B-AD75-E8B36889230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AD6931-D62E-4203-96B1-80F20C35AAE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C7AADB-729B-4735-A1DB-A638AA628F8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F8B3E2-D3C6-4A5C-876E-2C93CCF120F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10C513-AE36-4D22-9041-C8B2D5B8CE0B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46755-15DB-401E-A3D3-ECC9E5BDBF57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C67A6-AC0E-4BAB-846A-374C1F11513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AFD8E-CD52-4CFD-8802-FD940DF23C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929E4-C7B1-494C-BBC7-A9882155D969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DF011-D231-4EC5-BA67-4AEBD5DE0180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09320-257B-4A11-BA94-0DDB39362A6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E486E-A9FC-409D-9E1B-E1FD6D56D05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974B1-3D7F-4B4D-BB93-956009B9BD94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97248-0377-4656-8374-331BD27E3672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5BE8E-7F39-44DB-BA14-5E0A74E8000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93196-7CFA-4CC1-B0FE-1CC61B04B9A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C6FD4-55F0-4770-AA28-B5EA45CF695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68B8-EE10-4CC0-A2D6-A24752A56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1375-B5A1-467B-B1A7-65F8C1AF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C56C-AA49-4DEA-8C36-57306D7A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7C3B-AA18-43F9-B889-08420EC4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48E8-974E-4EFC-B0C6-E8863165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8EE1-267C-460A-A5B4-6DD89D08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249B-D152-4616-A62B-0D592675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3E38-E802-4E6D-979E-BCBE95B3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85EB-E273-41BE-B4C3-755DD794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D0ED-5FF1-44AA-B6D3-C792026B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5076-819C-4AA7-A71F-FDEAAB677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1245-6877-4603-8068-2C729E937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7A936-AA8E-406D-91C5-AB7FF1B4663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DA01AA-165B-4874-B8CE-E287647516F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E0CEEF-A36F-4475-BFDB-A3AF32AD426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D03B63-090C-4BC9-851E-7FAB44E3ECF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50E61-EBD4-43DE-888A-DF5BBAC242E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129701-6160-47DE-AAAA-26AA148F319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05B4A1-2A6E-477D-8EED-6571443BBEC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6C0090-9D0C-4257-8D86-AE0A86EDFAF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B21940-9CFD-4262-A535-2D59D001DB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CBD29-CB5D-44B7-BE2D-A18C4D97447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D7F07D-B1EF-4FBF-9244-EC115F892DE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D5D9CC-AB67-4394-9D19-2D5A5F3F95B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EC0013-9F33-42AD-B2FF-A2C68B7E18F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E9167-1E1F-4CDD-B7C2-D8D6C72BAC6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E33B9-B72F-4B1B-A716-C31D31366E0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366A38-32AE-49F7-809D-5B06DC725FC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EC04D6-B604-46C4-8588-646D90410BF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42A36A-C8A2-4C0D-A624-56EF1D060DA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48D4A6-D590-468F-9C15-E88EA745AC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70638-EAAC-4377-8E1A-3BD14317A80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EFEF4-09FD-467C-9B9F-CD7AC33BF11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D99EC-7357-4FB3-A0A0-8BC95C5B6DD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792BE3-E22D-4350-A990-6F104B9646E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40DB1-FAB9-4DF3-9C8B-D2B4BEF6895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40EF-D86C-4DA7-9524-A6A2E838AE3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CACC3-A1FE-40C8-B502-9F073818729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69A4-1EBB-473C-8267-A0EADE66DD6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51BC-59B6-499A-A3D0-BAC51BAED5B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0DCB-8017-414A-93E9-D96A3C2A46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F08E-7FD7-4297-91B0-83E3E6156A2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71FE-E64D-4E5C-A88B-BC01D55F23C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69F8-F8AD-432B-92DB-8D2DA29F214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04FE4-129B-4F3B-827D-C10DA0AE6A9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AC50-DB86-4834-956E-A94DC382609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DB12-3FFD-4D0E-80B0-AE476940FA3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6BACB-5861-4887-979B-D58C6F730DD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8F6A46-7E48-454E-A4BF-160D43E2F52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26379D-784C-4D30-9A11-118C102985E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AD4B35-3782-4320-A751-08C555C8E1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CA1FB3-CB30-44AB-A0DB-03195AEA19E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2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490E12-B7E7-4FC6-AAFE-02E9034F6AA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21B4A8-8E16-490D-BF07-818FE013596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sldNum" idx="11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294B11-3365-4D19-818C-61764433402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5A1489-E577-4798-BE70-7ADAC71B154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7A92FA-6C82-4385-8E1B-FDF4B3FA7C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415CD2-A3CE-4399-BEBA-5C5FA08CED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D2FD68-92C5-4E90-9531-278B8163E86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8059DA-4844-44AC-9E5B-A7C4BBD9161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15A85A-331F-4CEC-A40C-6F56F758820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09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832A2B-90A4-4FA3-B6E7-370DB5FFFF6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cann.org/en/public-comment/idn-vip-proposed-project-plan-20feb12-en.htm" TargetMode="External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cann.org/en/minutes/resolutions-25sep10-en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community.icann.org/display/VIP/Home" TargetMode="External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DN Variant Issues Project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(VI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Project Update and Next Ste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11 April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1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4D0AFE-82BA-475F-BB77-9BAA94898BE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ntegrated Issues Report: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2752560" y="1371600"/>
            <a:ext cx="5867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the sets of issues relevant to all the studied scrip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ny sets of issues that are script specific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vide a brief analysis of the issues, including the benefits and risks of possible approaches identifie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reas where further study or work could be pursu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B95DF8-7D74-4D94-A08F-E959B940565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ubtitle 1"/>
          <p:cNvSpPr/>
          <p:nvPr/>
        </p:nvSpPr>
        <p:spPr>
          <a:xfrm>
            <a:off x="1582560" y="228600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Integrated Issue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Report out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4D9149-5F2F-4AAD-AA98-AF8F727D7C2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5"/>
          <p:cNvSpPr/>
          <p:nvPr/>
        </p:nvSpPr>
        <p:spPr>
          <a:xfrm>
            <a:off x="2797200" y="1152360"/>
            <a:ext cx="6238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xecutive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 - Over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 - Project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 – Range of variant case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4 – Establishing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5 – Treatment of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6 – Other related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7 – Discussion of potential addition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at is a 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“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variant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”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E632B5-6AFA-4A59-B2F6-2B6A1AE0AC7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5"/>
          <p:cNvSpPr/>
          <p:nvPr/>
        </p:nvSpPr>
        <p:spPr>
          <a:xfrm>
            <a:off x="2438280" y="990720"/>
            <a:ext cx="6597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No commonly-agreed defin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Used to refer to a number of different con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Report continues to use the term in a loose s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More specific terms are recommended, e.g., 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variant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 with a qualifier to give mor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Scope of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309DAD-10D1-46E5-822C-7BA1FA28FBA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5"/>
          <p:cNvSpPr/>
          <p:nvPr/>
        </p:nvSpPr>
        <p:spPr>
          <a:xfrm>
            <a:off x="2590920" y="1490760"/>
            <a:ext cx="62388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ssues discussed concern IDN variants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t the top level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i.e., IDN variant TLD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ther related issues are discussed as relev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lassification of identified variant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A63AD4-F279-4BF7-952B-73F87C60C0F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5"/>
          <p:cNvSpPr/>
          <p:nvPr/>
        </p:nvSpPr>
        <p:spPr>
          <a:xfrm>
            <a:off x="2797200" y="1295280"/>
            <a:ext cx="623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2" descr="Variants"/>
          <p:cNvPicPr/>
          <p:nvPr/>
        </p:nvPicPr>
        <p:blipFill>
          <a:blip r:embed="rId1"/>
          <a:stretch/>
        </p:blipFill>
        <p:spPr>
          <a:xfrm>
            <a:off x="914400" y="1828800"/>
            <a:ext cx="723888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ole string variants vs. code point vari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BA1B81-F250-4D5F-B40D-C2D2124583D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5"/>
          <p:cNvSpPr/>
          <p:nvPr/>
        </p:nvSpPr>
        <p:spPr>
          <a:xfrm>
            <a:off x="2666880" y="1488960"/>
            <a:ext cx="623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de point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cod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a single code point is a variant of another code point or sequence of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hole-string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whole str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their meaning to a language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A791FD-0CA8-4AF3-ACA1-381F0D7EBB5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5"/>
          <p:cNvSpPr/>
          <p:nvPr/>
        </p:nvSpPr>
        <p:spPr>
          <a:xfrm>
            <a:off x="2514600" y="1600200"/>
            <a:ext cx="6238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wo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Code Point Repertoire for the Root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Label Genera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A24D4D-5DEA-461E-A660-0CB12D3839D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TextBox 5" descr=""/>
          <p:cNvPicPr/>
          <p:nvPr/>
        </p:nvPicPr>
        <p:blipFill>
          <a:blip r:embed="rId1"/>
          <a:stretch/>
        </p:blipFill>
        <p:spPr>
          <a:xfrm>
            <a:off x="2792520" y="1219320"/>
            <a:ext cx="6248160" cy="4529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the Code Point Reperto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4CCC46-E1A5-47EE-9717-88023192B42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5"/>
          <p:cNvSpPr/>
          <p:nvPr/>
        </p:nvSpPr>
        <p:spPr>
          <a:xfrm>
            <a:off x="2797200" y="1295280"/>
            <a:ext cx="588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code points selected for inclu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for selec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future changes in the valid and/or permitted code points are to be handl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Trebuchet MS"/>
                <a:ea typeface="Trebuchet MS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33612C-568A-4506-ADFA-F96D68E05FC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90920" y="152352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) Project Overview and Goa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) Case Studies and Integrated Issues Repor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3) Next Steps:  Project Pl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) Discussion and Ques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23C38A-F5CD-4AE9-8539-20ED11592C7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5"/>
          <p:cNvSpPr/>
          <p:nvPr/>
        </p:nvSpPr>
        <p:spPr>
          <a:xfrm>
            <a:off x="2797200" y="1219320"/>
            <a:ext cx="623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bel Generation Rules (LGR) for the Code Point Repertoire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dentifying code points that are variants of one another, and the code point substitution r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blishing the status rules applicable to labels containing permitted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reating Label Generation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2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FE1FE3-AA46-4D65-9F1F-279F787C6DF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5"/>
          <p:cNvSpPr/>
          <p:nvPr/>
        </p:nvSpPr>
        <p:spPr>
          <a:xfrm>
            <a:off x="2797200" y="1295280"/>
            <a:ext cx="623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to determine code point variant ru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label states are permit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flexibility should be provided regarding use of code points with different script 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eatment of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452978-CC98-494D-B6C9-6CEADF90FB8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5"/>
          <p:cNvSpPr/>
          <p:nvPr/>
        </p:nvSpPr>
        <p:spPr>
          <a:xfrm>
            <a:off x="2590920" y="183024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ssible states identifi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ctivated, Allocated, Blocked, Delegated, Mirrored, Withh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ulting user experience and ICANN/registry/registrar operations dependent on which states are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User experience consid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187198-50AC-4F8A-82ED-26AE8624505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5"/>
          <p:cNvSpPr/>
          <p:nvPr/>
        </p:nvSpPr>
        <p:spPr>
          <a:xfrm>
            <a:off x="2743200" y="1676520"/>
            <a:ext cx="579132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any types of users consider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apabilities w/r/t the script:  full competence, limited competence, or no familiarit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User roles:  system administrator, other network operator, domain name registrant, software developer, law enforcement/security, end user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hemes in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4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B73794-CCF0-4047-B0DD-3261A7F97E4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5"/>
          <p:cNvSpPr/>
          <p:nvPr/>
        </p:nvSpPr>
        <p:spPr>
          <a:xfrm>
            <a:off x="2743200" y="1295280"/>
            <a:ext cx="5791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nsion betw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terest in creating greater functionality to address a range of potential variant c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fficulties of meeting those objectiv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isks and costs a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ed for cost-benefit analysis for each potential mechanism to balance risks, costs, and benefi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B17502-8683-42F2-A808-0F382996B1B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90476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Next Steps:  Project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otential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4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6F4774-D9E9-446F-B2D7-1E024887C0A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5"/>
          <p:cNvSpPr/>
          <p:nvPr/>
        </p:nvSpPr>
        <p:spPr>
          <a:xfrm>
            <a:off x="2743200" y="1676520"/>
            <a:ext cx="579132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ral potential projects identified in the Integrated Issues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pen for public com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public-comment/idn-vip-proposed-project-plan-20feb12-en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ment period extended to 8 April, with reply period through 29 April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1:  Label Generation Ruleset Tool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1837A3-E97E-4E7E-8605-99D7F893114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5"/>
          <p:cNvSpPr/>
          <p:nvPr/>
        </p:nvSpPr>
        <p:spPr>
          <a:xfrm>
            <a:off x="2743200" y="1676520"/>
            <a:ext cx="5791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velop the specification for a standard tool for listing the allowed code points and the label generation rules, and for the generation of the corresponding variant labels, if a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Specifies a standard format for an IDN 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Placeholder 3"/>
          <p:cNvSpPr/>
          <p:nvPr/>
        </p:nvSpPr>
        <p:spPr>
          <a:xfrm>
            <a:off x="304920" y="2514600"/>
            <a:ext cx="21333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41,880 FY12 $80,520 FY1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Already ongoing; Not dependent on having variants in the r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3:  Examining the Feasibility of Whole-String Varia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8C8FA0-DC08-434B-8079-25766342ABA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5"/>
          <p:cNvSpPr/>
          <p:nvPr/>
        </p:nvSpPr>
        <p:spPr>
          <a:xfrm>
            <a:off x="2743200" y="1676520"/>
            <a:ext cx="579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feasibility of unambiguously identifying and implementing whole-string variant TL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2133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122,512 FY12 $130,55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59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5:  Examining the Technical Feasibility of Mirror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B23D68-7327-4AD4-93AD-9F0DA093043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5"/>
          <p:cNvSpPr/>
          <p:nvPr/>
        </p:nvSpPr>
        <p:spPr>
          <a:xfrm>
            <a:off x="2590920" y="158904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technical feasibility of mirroring variants in the root. Particularly the feasibility of ensuring that mirror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beyond DNS, in applications like Web, email, FT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irroring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means a mapping of 2 or more namespa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88,890 FY12 $177,08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B37743-8AC8-4C0E-9E8D-2896DA4C81C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04760" y="236232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oject Overview and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6:  Examining the User Experience Implications of Active Variant TL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BF4C73-DB77-4FF1-896A-4FFFAD18F34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5"/>
          <p:cNvSpPr/>
          <p:nvPr/>
        </p:nvSpPr>
        <p:spPr>
          <a:xfrm>
            <a:off x="2590920" y="1654200"/>
            <a:ext cx="60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implications on user experience of variant TLDs in both mirrored and non-mirrored implement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53,930 FY12 $426,512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2:  Label Generation Ruleset Process for the Root Zo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6FFE31-E63B-40D1-B161-5D404E1617B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5"/>
          <p:cNvSpPr/>
          <p:nvPr/>
        </p:nvSpPr>
        <p:spPr>
          <a:xfrm>
            <a:off x="2743200" y="1447920"/>
            <a:ext cx="57913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2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termining the approach to developing the code point repertoire and the label generation process for the root zon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2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2.1,work is to develop the code point repertoire and the label generation process for the root z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27,42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4:  Enhancing Visual Similarity Proces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5D5479-CBAE-4EB5-A825-9BF2F55F039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5"/>
          <p:cNvSpPr/>
          <p:nvPr/>
        </p:nvSpPr>
        <p:spPr>
          <a:xfrm>
            <a:off x="2754360" y="1252440"/>
            <a:ext cx="6084720" cy="42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4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velop an enhanced visual similarity process for the root that is predictable and repeatab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4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4.1, work ranges from keeping status quo to using tools like the LGR tool to identify visual similarity using a deterministic approach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61,23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7:  Updates to ICANN</a:t>
            </a:r>
            <a:r>
              <a:rPr b="1" lang="ja-JP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’</a:t>
            </a: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s gTLD and ccTLD Progra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6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0BFA44-AAE0-461A-A9C6-432197026F2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 changes that may be needed as a result of the Label Generation Ruleset and the enhanced Visual Similarity processes in the new gTLD and ccTLD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8:  Updates to ICANN and IANA Oper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72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F2B8E0-264F-439E-87E7-27AEE24BD46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 changes that may be needed in ICANN and IANA processes and operation as a result of the Label Generation Ruleset and the enhanced Visual Similarity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IP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4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073CA5-E489-4408-A436-7F2700F2F7F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Diagram 4" descr=""/>
          <p:cNvPicPr/>
          <p:nvPr/>
        </p:nvPicPr>
        <p:blipFill>
          <a:blip r:embed="rId1"/>
          <a:stretch/>
        </p:blipFill>
        <p:spPr>
          <a:xfrm>
            <a:off x="219240" y="762120"/>
            <a:ext cx="8888400" cy="3127320"/>
          </a:xfrm>
          <a:prstGeom prst="rect">
            <a:avLst/>
          </a:prstGeom>
          <a:ln w="0">
            <a:noFill/>
          </a:ln>
        </p:spPr>
      </p:pic>
      <p:sp>
        <p:nvSpPr>
          <p:cNvPr id="677" name="Line Callout 1 5"/>
          <p:cNvSpPr/>
          <p:nvPr/>
        </p:nvSpPr>
        <p:spPr>
          <a:xfrm>
            <a:off x="262260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5"/>
          <p:cNvSpPr/>
          <p:nvPr/>
        </p:nvSpPr>
        <p:spPr>
          <a:xfrm>
            <a:off x="262260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on types and states of variants to Impl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Callout 1 7"/>
          <p:cNvSpPr/>
          <p:nvPr/>
        </p:nvSpPr>
        <p:spPr>
          <a:xfrm>
            <a:off x="567072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7"/>
          <p:cNvSpPr/>
          <p:nvPr/>
        </p:nvSpPr>
        <p:spPr>
          <a:xfrm>
            <a:off x="567072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directing staff to implement the variant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9" descr="Untitled.png"/>
          <p:cNvPicPr/>
          <p:nvPr/>
        </p:nvPicPr>
        <p:blipFill>
          <a:blip r:embed="rId1"/>
          <a:stretch/>
        </p:blipFill>
        <p:spPr>
          <a:xfrm>
            <a:off x="0" y="1384200"/>
            <a:ext cx="9144000" cy="4078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3B37FC-906B-4EF5-93E3-2CDE4146167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2590560" y="255276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iscussion and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y this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9348CA-B590-46A8-86AF-1E3167626A0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2590920" y="1676520"/>
            <a:ext cx="57150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ong-standing request from a number of IDN user commun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oard direction to develop an issues report on the su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minutes/resolutions-25sep10-en.htm#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3" descr="tagline.jpg"/>
          <p:cNvPicPr/>
          <p:nvPr/>
        </p:nvPicPr>
        <p:blipFill>
          <a:blip r:embed="rId2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D22A39-F949-48BE-A737-764B1120FC4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82844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ase Studies and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ariant Issues Project Phases 1 &amp; 2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6318CD-0ABA-484B-88D2-A66F60D7BE5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ight Arrow 4"/>
          <p:cNvSpPr/>
          <p:nvPr/>
        </p:nvSpPr>
        <p:spPr>
          <a:xfrm>
            <a:off x="3983040" y="2205000"/>
            <a:ext cx="1981080" cy="2143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tegrated Issues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ight Arrow 5"/>
          <p:cNvSpPr/>
          <p:nvPr/>
        </p:nvSpPr>
        <p:spPr>
          <a:xfrm>
            <a:off x="152280" y="227664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rab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ight Arrow 6"/>
          <p:cNvSpPr/>
          <p:nvPr/>
        </p:nvSpPr>
        <p:spPr>
          <a:xfrm>
            <a:off x="30686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ight Arrow 7"/>
          <p:cNvSpPr/>
          <p:nvPr/>
        </p:nvSpPr>
        <p:spPr>
          <a:xfrm>
            <a:off x="60404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ight Arrow 8"/>
          <p:cNvSpPr/>
          <p:nvPr/>
        </p:nvSpPr>
        <p:spPr>
          <a:xfrm>
            <a:off x="152280" y="266220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hinese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ight Arrow 9"/>
          <p:cNvSpPr/>
          <p:nvPr/>
        </p:nvSpPr>
        <p:spPr>
          <a:xfrm>
            <a:off x="152280" y="3043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yrill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ight Arrow 10"/>
          <p:cNvSpPr/>
          <p:nvPr/>
        </p:nvSpPr>
        <p:spPr>
          <a:xfrm>
            <a:off x="152280" y="346248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Devanagari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ight Arrow 11"/>
          <p:cNvSpPr/>
          <p:nvPr/>
        </p:nvSpPr>
        <p:spPr>
          <a:xfrm>
            <a:off x="152280" y="384336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Greek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ight Arrow 12"/>
          <p:cNvSpPr/>
          <p:nvPr/>
        </p:nvSpPr>
        <p:spPr>
          <a:xfrm>
            <a:off x="152280" y="4267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Latin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10" descr="idn vip report_Page_001.jpg"/>
          <p:cNvPicPr/>
          <p:nvPr/>
        </p:nvPicPr>
        <p:blipFill>
          <a:blip r:embed="rId1"/>
          <a:stretch/>
        </p:blipFill>
        <p:spPr>
          <a:xfrm>
            <a:off x="6954840" y="2230560"/>
            <a:ext cx="1905120" cy="214632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14"/>
          <p:cNvSpPr/>
          <p:nvPr/>
        </p:nvSpPr>
        <p:spPr>
          <a:xfrm>
            <a:off x="6878520" y="2243160"/>
            <a:ext cx="2057400" cy="2133720"/>
          </a:xfrm>
          <a:prstGeom prst="rect">
            <a:avLst/>
          </a:prstGeom>
          <a:noFill/>
          <a:ln w="57240">
            <a:solidFill>
              <a:srgbClr val="4f81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2957400" y="1447920"/>
            <a:ext cx="279900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in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D83422-E007-48C8-882D-5EC9F590729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: Script case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047760" y="1599840"/>
            <a:ext cx="5684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6 teams:  Arabic, Chinese, Cyrillic, Devanagari, Greek, Lat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mprised of community experts in DNS, Registry/Registrar operations, Linguistics, Security, Policy, and ID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ase Study Teams completed reports in October 20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824040" y="190512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E4E00F-B960-4575-B89E-6E95A6FF8C2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I: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1"/>
          <p:cNvSpPr/>
          <p:nvPr/>
        </p:nvSpPr>
        <p:spPr>
          <a:xfrm>
            <a:off x="2743200" y="1841400"/>
            <a:ext cx="5943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veloped with support from a Coordination Team comprised of representatives from the case study tea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ummarizes and synthesizes the issues identified by the case study te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F9506F-95F8-4985-B648-55BDBC4364E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orking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2819520" y="1371600"/>
            <a:ext cx="6019560" cy="47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CANN project team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ynthesis of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Writing and editing the re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ordination t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dvisory and reviewing r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Liaison with the 6 case study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eekly teleconference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s://community.icann.org/display/VIP/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22:25:11Z</dcterms:created>
  <dc:creator>Karen Lentz</dc:creator>
  <dc:description/>
  <dc:language>en-US</dc:language>
  <cp:lastModifiedBy>Naela Sarras</cp:lastModifiedBy>
  <dcterms:modified xsi:type="dcterms:W3CDTF">2012-04-10T19:39:36Z</dcterms:modified>
  <cp:revision>222</cp:revision>
  <dc:subject/>
  <dc:title>Presentation Title</dc:title>
</cp:coreProperties>
</file>