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E7E126-CBEC-4BA4-A273-D4811EC4013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6BF7C6-5C9F-4E9B-B945-0D22511C768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4E1C48-ECF5-43F7-B316-BD6FB8432C2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A6945B-5C86-4BE6-BEEB-AA5DB15AF94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B05E3D-9BC0-4E5C-9851-59A32C4F3AF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93139D-E5BC-4A2A-AB38-BA27DC56C7D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D5FA80-0A55-4DC4-AD65-6301D8307CA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33FDB7-7663-418C-9445-7EC250AED4E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8DDBA0-0D2A-4CB7-BC4D-7561D782EE8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109CFC-8FF7-4A35-AD64-1ED0836766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DF4273-C2D1-4F09-A2C1-5A29BD83B9B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C7D13C-3172-41D7-8A2F-9BF96485BC8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413F94-C489-4D34-9D5D-1B9135EAC68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BFE452-61C8-44D5-B974-BBB44EB262E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10760E-D5A1-4B92-A03E-39F1A7E1083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64CEE9-1A99-45AD-B0A4-636DCB4D117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F28BD3-A48E-4F1A-B243-C8A065EC2A2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BB125A-045E-4352-9C32-1A35253A9A6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394F92-12FB-479D-B7B3-0273C120B58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0D43C8-566C-453C-860D-CD8FD1C42F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7367E9-A34A-400E-8CD2-03B25AA5691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0F9A1-F93A-46EC-B02B-479982C64BF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D4626-46CB-442A-858F-05F767509E7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A2ED8-3F09-4A53-A88A-59B3E82C746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A341C-04E0-4CE8-AB6B-FD9E9A981EA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065D3-7F4B-49AC-AE10-4117EC307B8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A74B6-F75F-40D5-9BC1-F2D8750E3E7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E7E89-77DF-4A45-95EB-B7B1149CFA2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17897-7DAE-4561-B533-BC20CCF0EA9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3224E-1F4A-4533-B4CA-3CBF40E6D1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03702-D999-4714-8A50-CF8A421B233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9DFD6-D019-4924-94E1-1374B0EB952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A5F68-9239-4FF7-810B-79DB5F5471C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314896-4829-4663-A989-6DC6A1068C9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1796D5-50D8-4EB5-983E-FF4A271487E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67C634-7476-4FD1-8F6C-133B20A4269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0A3DFF-C67B-43E6-9EAC-3CF99B9489E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5F8B41-9313-41FA-AD69-074F0930722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2789FD-8C16-4D3E-B199-A9BF210AE73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363891-DC42-4545-A026-82909CD69A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760DF2-CB61-483E-B5AC-4A90BEF2CCD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AD9559-BF0B-4394-876E-8B1A6FCCD83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A9C1CC-9AAA-49E6-B478-B763B306260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D0EEA2-AD55-424E-B1AD-472167E57F6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202662-9259-4AAC-85F9-86D0E6A90C9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72BA0D-B3ED-46EF-8860-B335932A4D9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2C7C0C-2E6F-4F1A-9980-4E557737147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BF4893-09E9-43EF-A684-B07A63A57A9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32E23A-AC83-4EFE-8D9F-0A43EA43718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044F24-2782-4B1D-955E-859088FB44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B7D8F7-AEF2-497C-BD38-BADE5BE4D35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5429B4-3794-4EBD-8523-50B921AA848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9C6B5F-3675-4A4E-90BE-44841F818AA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FAD16E-8884-4BA1-8506-E60D7A13B14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0BF72E-F0C6-47A3-B4EC-A7E6925C42F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FD7B12-0A69-47F6-87BA-69E51908632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F54FBD-922E-4510-936F-44E39E74A3F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59C0C-0C72-45F5-BD3C-C8CB92404F0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51B31-635B-47A4-A370-ED516794F83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17FC5-EAD8-453C-B4A1-2843D352EC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6D0A9-97F4-4CC8-901F-FE33AAD272D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CB05D-B7E7-4875-9C87-2F6E11D9272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65A7E-AEFF-43AC-802C-4B4B96E67E9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CD662-5B65-4924-B5E3-86FDA81177F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B3E93-A093-4276-BC50-93BE99BCD791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4D346-77FB-429B-8F5F-E52E90F4E33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50DB6-8E66-4F27-86D8-675F1F09C425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34AD0-D0D0-4C4D-82CB-D58CC046F22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75833-EB33-49E6-A1E3-5877EE15B3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9FFE-D2B8-4DE2-89DF-5C49B5CEE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E477-0652-4B33-871E-34C68B66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85AF-11AB-4763-9C21-6B1631FA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B0BD-8F89-4184-8CD2-1797D5EA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9D8D-CF53-4D4B-9815-20075CC1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03B8-B023-4F9C-874C-8ABA03F2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C096-D8F6-4479-8D91-166C31F9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7FBF-8E03-4617-A81D-0D4A00A3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4C4E-9079-4B7D-83AB-CC81179A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B736-196B-4CF3-8EF3-5E9AC0AB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B081-E347-456D-91C3-D7C003A23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11DC-0D13-4558-AB20-EB1425CAF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E6742-A406-41CF-A06D-72E8422934C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112499-FEB3-49D3-8E7D-63121141C29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F38BE3-2876-4B77-A7DC-4EB3D56D607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8BAF23-92D9-4FFD-BB12-5A1B896F488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8B9F18-BC60-4545-95F0-0177A9274AC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5E4C62-4C9E-4F61-B788-0508385FB22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C69DD-1218-4C6E-A9DE-C4AB30DEE24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328DA7-6871-441B-B94E-07D236B196D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47F0F5-05B8-42BD-966F-30D21FA5BF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BF60F3-D115-4D41-86D2-7B3572DC0A2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B1E45-DF17-4395-BED1-2E8601997FA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824BD2-DC46-40B9-9243-53ACCEA0820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BC917-64AE-40ED-8C0A-7493F8E3DBC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EAA11-4952-4412-8EB2-D2FFCCC1DB0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20C290-3118-4EF8-B1DD-14D9D96CBA5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95236-3019-4F11-8A39-1C438FD6E44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8C5BF-8D22-4D66-ACD1-B074A83A3BC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7777E-71D1-4A06-B2CB-C004A145D1D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32A1BC-92B7-4880-BBB1-807A221C0A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9C950-A087-4176-B9AA-716590C4FAA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54E91-3A0C-4A02-BEC0-5082752EE67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A135B-DBCF-4EC3-A28B-1164D388282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874710-8848-48A5-9E38-39169C4D40D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645DC7-7D2B-4C19-8A34-483020CF4A5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76B1-F1CC-4E41-AF0A-DB4733264DB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3E1C-B3B0-4D76-9BAF-8EE9E938B0E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18D6-3CE6-4621-BE63-ACCD73F153A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D6E3-FE1D-4A05-AE3B-6CF789ACE17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D3E1-32CB-4762-95FB-BA49E121D9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2E70-E854-4C09-893B-C32080435BB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7442-0E10-4859-B075-E8108641192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7C5D-E08A-4471-83E5-D82734B0B6F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F40A-C816-4BC1-904B-946246A551D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A741-1476-46C9-A56C-2A3055E88FA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2452-B182-4C98-8779-68E9EE4C5E0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5FA3-6664-4766-AEDF-3C016DAC884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F1E8E6-0C18-4522-BA17-670BAD3A01A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B074A0-2A3D-43D2-8415-FDD1818BDA9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E690E6-8A16-4CD5-8FCF-C79244D5B5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D9508E-D9B7-461C-A2C1-2D63D556CA7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2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C94D05-6824-4313-84E4-43ACB828AD3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39BEC9-F733-45FA-8D33-519A8D1DCF2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sldNum" idx="11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31BF8F-B507-4687-A56E-63E9AE95C5E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D911B4-7839-4E2C-B37B-CE4A37AB408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090E5A-AF03-49F3-8EC5-8E5670CB98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87038B-CF3E-4668-AEE0-4293F14917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A59B5E-16B2-4F6D-A1B3-15A72B2D782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F68CDF-F1BA-467B-AE39-FD4335F5C17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99AC73-2174-4257-824D-98F12F210B1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09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3FC199-4DD1-4C35-9FFE-DDBDDB12D1A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cann.org/en/public-comment/idn-vip-proposed-project-plan-20feb12-en.htm" TargetMode="External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cann.org/en/minutes/resolutions-25sep10-en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community.icann.org/display/VIP/Home" TargetMode="External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DN Variant Issues Project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(VI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Project Update and Next Ste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11 April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1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5A42CD-A181-4D5C-9933-41F38EEF060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ntegrated Issues Report: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2752560" y="1371600"/>
            <a:ext cx="5867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the sets of issues relevant to all the studied scrip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ny sets of issues that are script specific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vide a brief analysis of the issues, including the benefits and risks of possible approaches identifie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reas where further study or work could be pursu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4399CF-3522-4C89-9A45-8408F148115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ubtitle 1"/>
          <p:cNvSpPr/>
          <p:nvPr/>
        </p:nvSpPr>
        <p:spPr>
          <a:xfrm>
            <a:off x="1582560" y="228600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Integrated Issue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Report out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BA233F-CB19-40C2-A0C6-4E43F584407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5"/>
          <p:cNvSpPr/>
          <p:nvPr/>
        </p:nvSpPr>
        <p:spPr>
          <a:xfrm>
            <a:off x="2797200" y="1152360"/>
            <a:ext cx="6238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xecutive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 - Over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 - Project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 – Range of variant case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4 – Establishing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5 – Treatment of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6 – Other related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7 – Discussion of potential addition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at is a 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“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variant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”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9A39C7-DEF3-4348-9150-828FF97CC23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5"/>
          <p:cNvSpPr/>
          <p:nvPr/>
        </p:nvSpPr>
        <p:spPr>
          <a:xfrm>
            <a:off x="2438280" y="990720"/>
            <a:ext cx="6597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No commonly-agreed defin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Used to refer to a number of different con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Report continues to use the term in a loose s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More specific terms are recommended, e.g., 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variant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 with a qualifier to give mor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Scope of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D7BA56-9BCD-41AF-B4B9-C728E73BA64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5"/>
          <p:cNvSpPr/>
          <p:nvPr/>
        </p:nvSpPr>
        <p:spPr>
          <a:xfrm>
            <a:off x="2590920" y="1490760"/>
            <a:ext cx="62388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ssues discussed concern IDN variants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t the top level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i.e., IDN variant TLD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ther related issues are discussed as relev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lassification of identified variant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7FF3DB-3DC8-45E2-A3F8-C2BC7843E62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5"/>
          <p:cNvSpPr/>
          <p:nvPr/>
        </p:nvSpPr>
        <p:spPr>
          <a:xfrm>
            <a:off x="2797200" y="1295280"/>
            <a:ext cx="623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2" descr="Variants"/>
          <p:cNvPicPr/>
          <p:nvPr/>
        </p:nvPicPr>
        <p:blipFill>
          <a:blip r:embed="rId1"/>
          <a:stretch/>
        </p:blipFill>
        <p:spPr>
          <a:xfrm>
            <a:off x="914400" y="1828800"/>
            <a:ext cx="723888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ole string variants vs. code point vari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95A9A4-FE3A-4FA8-A8BA-1E4F446385B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5"/>
          <p:cNvSpPr/>
          <p:nvPr/>
        </p:nvSpPr>
        <p:spPr>
          <a:xfrm>
            <a:off x="2666880" y="1488960"/>
            <a:ext cx="623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de point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cod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a single code point is a variant of another code point or sequence of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hole-string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whole str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their meaning to a language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247735-E0EF-4EC6-8B27-4D1DA81A8E7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5"/>
          <p:cNvSpPr/>
          <p:nvPr/>
        </p:nvSpPr>
        <p:spPr>
          <a:xfrm>
            <a:off x="2514600" y="1600200"/>
            <a:ext cx="6238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wo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Code Point Repertoire for the Root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Label Genera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0BCE7B-6AC0-4ABE-B0D8-FEF5515FA16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TextBox 5" descr=""/>
          <p:cNvPicPr/>
          <p:nvPr/>
        </p:nvPicPr>
        <p:blipFill>
          <a:blip r:embed="rId1"/>
          <a:stretch/>
        </p:blipFill>
        <p:spPr>
          <a:xfrm>
            <a:off x="2792520" y="1219320"/>
            <a:ext cx="6248160" cy="4529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the Code Point Reperto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237AE8-74C5-4C9B-8E5B-BE719216C78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5"/>
          <p:cNvSpPr/>
          <p:nvPr/>
        </p:nvSpPr>
        <p:spPr>
          <a:xfrm>
            <a:off x="2797200" y="1295280"/>
            <a:ext cx="588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code points selected for inclu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for selec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future changes in the valid and/or permitted code points are to be handl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Trebuchet MS"/>
                <a:ea typeface="Trebuchet MS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4CDCA8-0EB3-413D-A1DF-58BEF771ECB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90920" y="152352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) Project Overview and Goa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) Case Studies and Integrated Issues Repor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3) Next Steps:  Project Pl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) Discussion and Ques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B731B9-0425-4B3E-A88E-51067B42BAD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5"/>
          <p:cNvSpPr/>
          <p:nvPr/>
        </p:nvSpPr>
        <p:spPr>
          <a:xfrm>
            <a:off x="2797200" y="1219320"/>
            <a:ext cx="623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bel Generation Rules (LGR) for the Code Point Repertoire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dentifying code points that are variants of one another, and the code point substitution r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blishing the status rules applicable to labels containing permitted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reating Label Generation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2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698B0E-94B4-4E0A-8668-1AD3003C909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5"/>
          <p:cNvSpPr/>
          <p:nvPr/>
        </p:nvSpPr>
        <p:spPr>
          <a:xfrm>
            <a:off x="2797200" y="1295280"/>
            <a:ext cx="623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to determine code point variant ru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label states are permit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flexibility should be provided regarding use of code points with different script 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eatment of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839BEC-9C70-471D-B01A-E1265D35002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5"/>
          <p:cNvSpPr/>
          <p:nvPr/>
        </p:nvSpPr>
        <p:spPr>
          <a:xfrm>
            <a:off x="2590920" y="183024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ssible states identifi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ctivated, Allocated, Blocked, Delegated, Mirrored, Withh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ulting user experience and ICANN/registry/registrar operations dependent on which states are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User experience consid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C95F60-D43F-48F4-BF52-97FF63A6CFE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5"/>
          <p:cNvSpPr/>
          <p:nvPr/>
        </p:nvSpPr>
        <p:spPr>
          <a:xfrm>
            <a:off x="2743200" y="1676520"/>
            <a:ext cx="579132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any types of users consider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apabilities w/r/t the script:  full competence, limited competence, or no familiarit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User roles:  system administrator, other network operator, domain name registrant, software developer, law enforcement/security, end user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hemes in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4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3168DA-611D-4CCF-8263-40B7C13C631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5"/>
          <p:cNvSpPr/>
          <p:nvPr/>
        </p:nvSpPr>
        <p:spPr>
          <a:xfrm>
            <a:off x="2743200" y="1295280"/>
            <a:ext cx="5791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nsion betw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terest in creating greater functionality to address a range of potential variant c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fficulties of meeting those objectiv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isks and costs a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ed for cost-benefit analysis for each potential mechanism to balance risks, costs, and benefi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3AAE61-87BB-4F2E-BA4D-5B217ED7529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90476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Next Steps:  Project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otential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4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E54425-52D0-4C59-BDBA-6BACE18D624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5"/>
          <p:cNvSpPr/>
          <p:nvPr/>
        </p:nvSpPr>
        <p:spPr>
          <a:xfrm>
            <a:off x="2743200" y="1676520"/>
            <a:ext cx="579132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ral potential projects identified in the Integrated Issues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pen for public com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public-comment/idn-vip-proposed-project-plan-20feb12-en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ment period extended to 8 April, with reply period through 29 April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1:  Label Generation Ruleset Tool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290CD8-8CC6-4243-9073-D274A833CB1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5"/>
          <p:cNvSpPr/>
          <p:nvPr/>
        </p:nvSpPr>
        <p:spPr>
          <a:xfrm>
            <a:off x="2743200" y="1676520"/>
            <a:ext cx="5791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velop the specification for a standard tool for listing the allowed code points and the label generation rules, and for the generation of the corresponding variant labels, if a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Specifies a standard format for an IDN 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Placeholder 3"/>
          <p:cNvSpPr/>
          <p:nvPr/>
        </p:nvSpPr>
        <p:spPr>
          <a:xfrm>
            <a:off x="304920" y="2514600"/>
            <a:ext cx="21333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41,880 FY12 $80,520 FY1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Already ongoing; Not dependent on having variants in the r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3:  Examining the Feasibility of Whole-String Varia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1098FE-F655-4BA1-999D-79A67849232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5"/>
          <p:cNvSpPr/>
          <p:nvPr/>
        </p:nvSpPr>
        <p:spPr>
          <a:xfrm>
            <a:off x="2743200" y="1676520"/>
            <a:ext cx="579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feasibility of unambiguously identifying and implementing whole-string variant TL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2133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122,512 FY12 $130,55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59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5:  Examining the Technical Feasibility of Mirror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E74046-7189-40DB-A355-CD3361D280A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5"/>
          <p:cNvSpPr/>
          <p:nvPr/>
        </p:nvSpPr>
        <p:spPr>
          <a:xfrm>
            <a:off x="2590920" y="158904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technical feasibility of mirroring variants in the root. Particularly the feasibility of ensuring that mirror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beyond DNS, in applications like Web, email, FT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irroring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means a mapping of 2 or more namespa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88,890 FY12 $177,08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EB4861-D630-412F-A0BC-2AE36C1058D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04760" y="236232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oject Overview and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6:  Examining the User Experience Implications of Active Variant TL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DBEE4A-A12F-4F8B-AD57-88E835E57C1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5"/>
          <p:cNvSpPr/>
          <p:nvPr/>
        </p:nvSpPr>
        <p:spPr>
          <a:xfrm>
            <a:off x="2590920" y="1654200"/>
            <a:ext cx="60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implications on user experience of variant TLDs in both mirrored and non-mirrored implement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53,930 FY12 $426,512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2:  Label Generation Ruleset Process for the Root Zo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8B8F6B-BE9E-4428-952E-B45EF4B465A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5"/>
          <p:cNvSpPr/>
          <p:nvPr/>
        </p:nvSpPr>
        <p:spPr>
          <a:xfrm>
            <a:off x="2743200" y="1447920"/>
            <a:ext cx="57913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2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termining the approach to developing the code point repertoire and the label generation process for the root zon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2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2.1,work is to develop the code point repertoire and the label generation process for the root z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27,42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4:  Enhancing Visual Similarity Proces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E0C4B4-CAB8-4C24-9AE6-5B70419000C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5"/>
          <p:cNvSpPr/>
          <p:nvPr/>
        </p:nvSpPr>
        <p:spPr>
          <a:xfrm>
            <a:off x="2754360" y="1252440"/>
            <a:ext cx="6084720" cy="42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4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velop an enhanced visual similarity process for the root that is predictable and repeatab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4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4.1, work ranges from keeping status quo to using tools like the LGR tool to identify visual similarity using a deterministic approach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61,23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7:  Updates to ICANN</a:t>
            </a:r>
            <a:r>
              <a:rPr b="1" lang="ja-JP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’</a:t>
            </a: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s gTLD and ccTLD Progra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6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3DE728-178A-45F3-9C9B-8CE43511685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 changes that may be needed as a result of the Label Generation Ruleset and the enhanced Visual Similarity processes in the new gTLD and ccTLD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8:  Updates to ICANN and IANA Oper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72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F9E313-0D53-418C-98B2-10DE2CB93D5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 changes that may be needed in ICANN and IANA processes and operation as a result of the Label Generation Ruleset and the enhanced Visual Similarity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IP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4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A6BC5F-B998-4C7C-847B-E10A19C8848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Diagram 4" descr=""/>
          <p:cNvPicPr/>
          <p:nvPr/>
        </p:nvPicPr>
        <p:blipFill>
          <a:blip r:embed="rId1"/>
          <a:stretch/>
        </p:blipFill>
        <p:spPr>
          <a:xfrm>
            <a:off x="219240" y="762120"/>
            <a:ext cx="8888400" cy="3127320"/>
          </a:xfrm>
          <a:prstGeom prst="rect">
            <a:avLst/>
          </a:prstGeom>
          <a:ln w="0">
            <a:noFill/>
          </a:ln>
        </p:spPr>
      </p:pic>
      <p:sp>
        <p:nvSpPr>
          <p:cNvPr id="677" name="Line Callout 1 5"/>
          <p:cNvSpPr/>
          <p:nvPr/>
        </p:nvSpPr>
        <p:spPr>
          <a:xfrm>
            <a:off x="262260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5"/>
          <p:cNvSpPr/>
          <p:nvPr/>
        </p:nvSpPr>
        <p:spPr>
          <a:xfrm>
            <a:off x="262260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on types and states of variants to Impl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Callout 1 7"/>
          <p:cNvSpPr/>
          <p:nvPr/>
        </p:nvSpPr>
        <p:spPr>
          <a:xfrm>
            <a:off x="567072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7"/>
          <p:cNvSpPr/>
          <p:nvPr/>
        </p:nvSpPr>
        <p:spPr>
          <a:xfrm>
            <a:off x="567072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directing staff to implement the variant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9" descr="Untitled.png"/>
          <p:cNvPicPr/>
          <p:nvPr/>
        </p:nvPicPr>
        <p:blipFill>
          <a:blip r:embed="rId1"/>
          <a:stretch/>
        </p:blipFill>
        <p:spPr>
          <a:xfrm>
            <a:off x="0" y="1384200"/>
            <a:ext cx="9144000" cy="4078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761C3A-DB15-4C32-BC06-14DA7533881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2590560" y="255276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iscussion and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y this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E57326-83FC-4AB2-92A0-89EB04DBF55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2590920" y="1676520"/>
            <a:ext cx="57150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ong-standing request from a number of IDN user commun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oard direction to develop an issues report on the su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minutes/resolutions-25sep10-en.htm#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3" descr="tagline.jpg"/>
          <p:cNvPicPr/>
          <p:nvPr/>
        </p:nvPicPr>
        <p:blipFill>
          <a:blip r:embed="rId2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BCA040-EB1D-4476-839B-92E2606C5CB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82844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ase Studies and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ariant Issues Project Phases 1 &amp; 2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650F4F-93AF-4223-9A7C-D8A9A2F7668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ight Arrow 4"/>
          <p:cNvSpPr/>
          <p:nvPr/>
        </p:nvSpPr>
        <p:spPr>
          <a:xfrm>
            <a:off x="3983040" y="2205000"/>
            <a:ext cx="1981080" cy="2143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tegrated Issues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ight Arrow 5"/>
          <p:cNvSpPr/>
          <p:nvPr/>
        </p:nvSpPr>
        <p:spPr>
          <a:xfrm>
            <a:off x="152280" y="227664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rab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ight Arrow 6"/>
          <p:cNvSpPr/>
          <p:nvPr/>
        </p:nvSpPr>
        <p:spPr>
          <a:xfrm>
            <a:off x="30686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ight Arrow 7"/>
          <p:cNvSpPr/>
          <p:nvPr/>
        </p:nvSpPr>
        <p:spPr>
          <a:xfrm>
            <a:off x="60404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ight Arrow 8"/>
          <p:cNvSpPr/>
          <p:nvPr/>
        </p:nvSpPr>
        <p:spPr>
          <a:xfrm>
            <a:off x="152280" y="266220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hinese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ight Arrow 9"/>
          <p:cNvSpPr/>
          <p:nvPr/>
        </p:nvSpPr>
        <p:spPr>
          <a:xfrm>
            <a:off x="152280" y="3043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yrill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ight Arrow 10"/>
          <p:cNvSpPr/>
          <p:nvPr/>
        </p:nvSpPr>
        <p:spPr>
          <a:xfrm>
            <a:off x="152280" y="346248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Devanagari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ight Arrow 11"/>
          <p:cNvSpPr/>
          <p:nvPr/>
        </p:nvSpPr>
        <p:spPr>
          <a:xfrm>
            <a:off x="152280" y="384336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Greek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ight Arrow 12"/>
          <p:cNvSpPr/>
          <p:nvPr/>
        </p:nvSpPr>
        <p:spPr>
          <a:xfrm>
            <a:off x="152280" y="4267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Latin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10" descr="idn vip report_Page_001.jpg"/>
          <p:cNvPicPr/>
          <p:nvPr/>
        </p:nvPicPr>
        <p:blipFill>
          <a:blip r:embed="rId1"/>
          <a:stretch/>
        </p:blipFill>
        <p:spPr>
          <a:xfrm>
            <a:off x="6954840" y="2230560"/>
            <a:ext cx="1905120" cy="214632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14"/>
          <p:cNvSpPr/>
          <p:nvPr/>
        </p:nvSpPr>
        <p:spPr>
          <a:xfrm>
            <a:off x="6878520" y="2243160"/>
            <a:ext cx="2057400" cy="2133720"/>
          </a:xfrm>
          <a:prstGeom prst="rect">
            <a:avLst/>
          </a:prstGeom>
          <a:noFill/>
          <a:ln w="57240">
            <a:solidFill>
              <a:srgbClr val="4f81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2957400" y="1447920"/>
            <a:ext cx="279900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in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D631DF-B0C6-4955-A450-E4E65754952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: Script case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047760" y="1599840"/>
            <a:ext cx="5684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6 teams:  Arabic, Chinese, Cyrillic, Devanagari, Greek, Lat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mprised of community experts in DNS, Registry/Registrar operations, Linguistics, Security, Policy, and ID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ase Study Teams completed reports in October 20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824040" y="190512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3A0B45-30FA-4D4A-A701-D1388637C58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I: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1"/>
          <p:cNvSpPr/>
          <p:nvPr/>
        </p:nvSpPr>
        <p:spPr>
          <a:xfrm>
            <a:off x="2743200" y="1841400"/>
            <a:ext cx="5943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veloped with support from a Coordination Team comprised of representatives from the case study tea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ummarizes and synthesizes the issues identified by the case study te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B6005A-B856-4480-A1DD-3C7EB265F19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orking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2819520" y="1371600"/>
            <a:ext cx="6019560" cy="47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CANN project team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ynthesis of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Writing and editing the re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ordination t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dvisory and reviewing r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Liaison with the 6 case study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eekly teleconference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s://community.icann.org/display/VIP/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22:25:11Z</dcterms:created>
  <dc:creator>Karen Lentz</dc:creator>
  <dc:description/>
  <dc:language>en-US</dc:language>
  <cp:lastModifiedBy>Naela Sarras</cp:lastModifiedBy>
  <dcterms:modified xsi:type="dcterms:W3CDTF">2012-04-10T19:39:36Z</dcterms:modified>
  <cp:revision>222</cp:revision>
  <dc:subject/>
  <dc:title>Presentation Title</dc:title>
</cp:coreProperties>
</file>