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6081A6-1855-4B15-95FC-380CE51D551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B7AF2B-77A6-4B89-A3D8-2B80E59BD83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C27900-D7E9-48C3-AAB1-CAF6D981B3F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DB6E49-0744-47E5-AAA0-D3EF22CB2DE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F898BA-24BE-414B-B999-73F8A7B070F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586B16-3609-403F-B687-63BDECDCCFE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B9F8CB-F472-4859-B11B-6317EEEC2D1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635240-B1BE-45DD-83FD-44D5C3F5811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F2FB35-B91D-44F5-9281-141A11E4817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91BB51-49E4-4EE9-877D-251921A5C9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CCD418-97D4-4430-A712-3FB53FBBF56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F52C48-AE6B-447D-AF1F-889B5C154AA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02ECE5-FC48-4DF6-9B3C-AE9D1281DF5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81FD80-CDF6-4351-9983-802A451A6F6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EB6BD9-D3B3-4294-8951-D7BBD2E7D85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DBE7E1-41D0-47B4-AC1A-9C6CF80987B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744B62-DD77-4AC0-AF1B-D0477B8815A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CE85D7-AB8A-42D1-9D79-99A03B1BA7A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6E8823-8053-4F1E-832D-998A880F872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81D0D2-CA29-4844-B96D-80ABE4356D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99C522-7F5A-4BEF-BF87-C72ACEED788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F6086-4CA8-48B4-8AAC-27B341BFE7A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D591D-E50C-4A15-B2AF-989946F6C62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2C749-478C-4E48-B0BA-4342E12A704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3D146-D92F-4FC4-B3A0-E8A1E0BB3A5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A69B1-7BF8-41D9-A8DF-F0C6FF6F944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7E4B4-6142-45E7-87E3-D83E72B0B4F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1152F-6A51-4496-B92D-6B1167DE010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4A693-E209-46DA-AEF8-6B749D9C41A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0B1D2-7E1C-41C4-BB30-9E7D1BBFB3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8C7DE-C264-4A6A-B72B-165A5046317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8989D-486A-4E0E-93CD-348CB7976BE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E0A41-8287-4962-B6E4-089D42223BF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79EBFC-0CAA-44FB-94EA-A233FBC1E17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128125-78D3-4916-9E4C-62E20A49480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408A76-8F9D-413E-9A27-9955F511A88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BADCA2-E730-4C91-BA84-9890651314F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67398B-3F42-48F8-9707-4E6D4A6A4B0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8AFB52-4D91-4CE6-AA54-E4CA2136D51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F14571-3073-4A9A-9E6F-23FBC2B161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AA948E-9C73-4FBF-AC49-CBC508D85EF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7A3DB9-D298-4B4E-9C49-D4F4E752EAF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391AB8-D3E2-4B64-8C34-135116D1DC0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C37CA1-DC9C-4A61-BF3B-7746E7C5ABF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8CC205-24EA-409F-A682-CD70E749376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ACAE9B-5CCD-4CE7-A09F-52397B784CD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4465DB-90DC-41CA-B222-A1228657AA1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2206D7-81C8-4EC9-AA39-F3038117079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B7F09D-F735-4C99-969B-8A970081C85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E25AEC-91BB-4709-A246-7A0CB222DB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BC81E2-9911-45B4-A5F2-3F98413DBA3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B34813-A562-47CA-ACDE-471CB1C5129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90A9BC-AAA9-42B3-B45D-84210F7BEF5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66D35D-A204-4B64-B9A9-7FB09B47A48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7E5858-9859-4D31-8ACB-2D8E75A408A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FAC80E-957A-41F5-99BC-BFC74065380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DFC074-347B-475D-8718-26736DB841C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69584-F33D-4D5E-B98B-3F935B21DDA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72FC1-1BC2-4F98-8CAC-CDF74F43BE1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3B9CD-B97D-4777-9CFA-1D0D0B8CFB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451AA-CDFF-4893-A3EA-A270CC90154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0FE1C-197F-4E24-970D-D4178A095A1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D0E0E-7354-4F98-9A7E-ED075F228B8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31AE6-0266-40D6-875D-CAF58FB45D0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4733E-A118-4374-8FF3-04FAE90853B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4866F-DC7B-4AC5-89EB-3DBF9182880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FDEF0-2DA3-4132-B35E-909CAAE63359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BC2BD-62D7-4B9E-A882-569E755DE37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97CD3-F7E7-430C-AFF2-10F6189348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03B2-8FB2-4A68-880D-E2156FEF3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5F0D-6373-4495-91C9-B33123A0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7866-CFF0-47DA-A920-95F2A792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BA73-C432-4F66-A123-8CB42EEF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7CEC-C19C-497C-84A6-85535EFB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6C51-47C9-4579-99B0-5109A91D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C177-4866-47DF-970F-74C4D178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4A50-4A85-4DAB-A303-1C97B58E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9EC6-183E-4D7B-9427-5A0213B4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9434-7D1B-418F-8F1E-C2C6281C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4AFF-31CA-4D76-8781-F57B2D01A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39DC-3F07-495E-B6B7-7E7B3C8F1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263259-EAA7-475F-BA6C-1D563D1E4C4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ADE307-E794-4619-BAF0-AD1901CBA3B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50245D-C680-43AD-AD24-3D10D1EEDCB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AB49CD-7C03-4341-BEBE-996A4433EF4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D570D0-F69C-43B8-96CB-714C1A0CF20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CF5EAB-E8FD-4DFA-B09D-9F63E7C23FB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037B56-1C3F-4D09-ACAD-45A245F12D7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0ABDAE-F64F-4C31-9813-87F845AEAD7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77F6C0-8F94-446D-9564-3E89E75E8C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934D67-A04B-48E4-BBB6-DE1666FC156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C2F51D-D9FE-4BFB-9FE3-6E48762A3E5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0486E3-1830-4F06-B3D2-93222638A3C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68ED1-1531-481E-8BA0-AFB062AC4A0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2035F5-AC40-409B-B60D-1125B18ED94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3AEABB-5F8E-441B-871C-9236A511F56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EF908-DBFE-47EF-9008-D7E49AFB214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325A5-1CAE-4709-94B4-C9CB67CCC9F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DCD25-9865-4092-B35D-E099E42EF0D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991FF-E373-4D6B-93B1-789129B163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34E6A4-D841-4865-B30B-300AE4FFB8A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95C62-3396-4456-8461-744A63DEDE5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C2E9C2-A590-4A48-A586-662C118C460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272BF9-FF2B-42C9-B46C-72ADA70E4E8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DF42E-D192-491C-ADAB-9BC68D52645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52C4D-BE41-4975-8D5E-767D739BF3B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7BFB-E80D-42BC-A464-F1200D02211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FA88-5288-48B7-B866-8E0BBAECCCA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ADED-1F2A-4757-8C6C-07BF94AC33C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C74EE-DA87-4A8A-8189-5A80C2EEAE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C927E-5D86-4816-A997-6F1E5E7E0BB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F85A-6DB3-4AAB-BC8D-3C38DDEC4FA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664F-178C-4ED5-8075-40354EFE8A9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DD10B-A223-45E9-9180-CEA050053D2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D832-A117-4DCF-A964-5933F49545F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3D14-E16B-4B74-9A24-3DF16DBABCD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1D0D-EF4C-43D6-BBD8-D37642727B1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C66710-C214-486A-90CC-2666AC03062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D6DE63-01E0-41F6-AFC1-63101DC6A74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900C6F-2EF9-4112-9FE8-CC23D56DD6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558625-2C63-4049-B5EE-C4EE146A4CB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2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28AC7E-0316-47E3-AC31-A024236C17B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02975A-2CF8-4F69-A25E-B66D32FBFDA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sldNum" idx="11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B13FAE-1669-4465-B9E9-07CC95C3AAB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3B849D-2A94-4083-BE82-82DC28BE67E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A9B24A-6963-4A5E-B55B-3FE74C64D6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5F163F-238A-48CA-8606-E43F36CA32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3148DB-8E61-4F40-8C80-F527E40DC73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480D76-B3E4-4318-AD6C-54827C4BC2B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F52042-CB51-43DA-8D98-1CE5FE2BC85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09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3CDF87-84CD-465A-B559-A531703FA8A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cann.org/en/public-comment/idn-vip-proposed-project-plan-20feb12-en.htm" TargetMode="External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cann.org/en/minutes/resolutions-25sep10-en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community.icann.org/display/VIP/Home" TargetMode="External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DN Variant Issues Project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(VI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Project Update and Next Ste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11 April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1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4B85BF-2982-4B30-9069-2206160F667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ntegrated Issues Report: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2752560" y="1371600"/>
            <a:ext cx="5867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the sets of issues relevant to all the studied scrip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ny sets of issues that are script specific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vide a brief analysis of the issues, including the benefits and risks of possible approaches identifie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reas where further study or work could be pursu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6629C4-E692-42C8-A4BC-7A2F9F5D12D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ubtitle 1"/>
          <p:cNvSpPr/>
          <p:nvPr/>
        </p:nvSpPr>
        <p:spPr>
          <a:xfrm>
            <a:off x="1582560" y="228600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Integrated Issue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Report out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863BF7-3FBC-4DAE-8685-43B6F6E9C55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5"/>
          <p:cNvSpPr/>
          <p:nvPr/>
        </p:nvSpPr>
        <p:spPr>
          <a:xfrm>
            <a:off x="2797200" y="1152360"/>
            <a:ext cx="6238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xecutive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 - Over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 - Project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 – Range of variant case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4 – Establishing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5 – Treatment of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6 – Other related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7 – Discussion of potential addition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at is a 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“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variant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”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9C4105-9FE0-44A2-8B01-333DA117630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5"/>
          <p:cNvSpPr/>
          <p:nvPr/>
        </p:nvSpPr>
        <p:spPr>
          <a:xfrm>
            <a:off x="2438280" y="990720"/>
            <a:ext cx="6597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No commonly-agreed defin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Used to refer to a number of different con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Report continues to use the term in a loose s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More specific terms are recommended, e.g., 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variant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 with a qualifier to give mor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Scope of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7B61E6-85D3-4522-8FE9-B5A2545A2B2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5"/>
          <p:cNvSpPr/>
          <p:nvPr/>
        </p:nvSpPr>
        <p:spPr>
          <a:xfrm>
            <a:off x="2590920" y="1490760"/>
            <a:ext cx="62388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ssues discussed concern IDN variants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t the top level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i.e., IDN variant TLD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ther related issues are discussed as relev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lassification of identified variant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750293-B3BE-4010-B6FE-126FF331B5B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5"/>
          <p:cNvSpPr/>
          <p:nvPr/>
        </p:nvSpPr>
        <p:spPr>
          <a:xfrm>
            <a:off x="2797200" y="1295280"/>
            <a:ext cx="623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2" descr="Variants"/>
          <p:cNvPicPr/>
          <p:nvPr/>
        </p:nvPicPr>
        <p:blipFill>
          <a:blip r:embed="rId1"/>
          <a:stretch/>
        </p:blipFill>
        <p:spPr>
          <a:xfrm>
            <a:off x="914400" y="1828800"/>
            <a:ext cx="723888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ole string variants vs. code point vari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079C18-8FF4-48DF-ABE6-B02B65D6F78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5"/>
          <p:cNvSpPr/>
          <p:nvPr/>
        </p:nvSpPr>
        <p:spPr>
          <a:xfrm>
            <a:off x="2666880" y="1488960"/>
            <a:ext cx="623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de point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cod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a single code point is a variant of another code point or sequence of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hole-string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whole str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their meaning to a language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F04E92-8834-408D-8983-4F6B0B3DC76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5"/>
          <p:cNvSpPr/>
          <p:nvPr/>
        </p:nvSpPr>
        <p:spPr>
          <a:xfrm>
            <a:off x="2514600" y="1600200"/>
            <a:ext cx="6238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wo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Code Point Repertoire for the Root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Label Genera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176F02-5FCC-47E8-AEAA-36E04A9D40A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TextBox 5" descr=""/>
          <p:cNvPicPr/>
          <p:nvPr/>
        </p:nvPicPr>
        <p:blipFill>
          <a:blip r:embed="rId1"/>
          <a:stretch/>
        </p:blipFill>
        <p:spPr>
          <a:xfrm>
            <a:off x="2792520" y="1219320"/>
            <a:ext cx="6248160" cy="4529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the Code Point Reperto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AFCD0B-84E7-4A90-B9C2-7378076A2F5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5"/>
          <p:cNvSpPr/>
          <p:nvPr/>
        </p:nvSpPr>
        <p:spPr>
          <a:xfrm>
            <a:off x="2797200" y="1295280"/>
            <a:ext cx="588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code points selected for inclu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for selec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future changes in the valid and/or permitted code points are to be handl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Trebuchet MS"/>
                <a:ea typeface="Trebuchet MS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04B3D8-DD2E-4B28-8270-5B15890BA5B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90920" y="152352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) Project Overview and Goa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) Case Studies and Integrated Issues Repor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3) Next Steps:  Project Pl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) Discussion and Ques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DB6FD1-4FE1-42AF-94DC-FCC42622566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5"/>
          <p:cNvSpPr/>
          <p:nvPr/>
        </p:nvSpPr>
        <p:spPr>
          <a:xfrm>
            <a:off x="2797200" y="1219320"/>
            <a:ext cx="623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bel Generation Rules (LGR) for the Code Point Repertoire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dentifying code points that are variants of one another, and the code point substitution r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blishing the status rules applicable to labels containing permitted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reating Label Generation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2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AEC0C3-CA4F-4176-98C8-D276EC4EFC9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5"/>
          <p:cNvSpPr/>
          <p:nvPr/>
        </p:nvSpPr>
        <p:spPr>
          <a:xfrm>
            <a:off x="2797200" y="1295280"/>
            <a:ext cx="623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to determine code point variant ru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label states are permit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flexibility should be provided regarding use of code points with different script 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eatment of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D1406F-D5CE-48F6-B521-85BC81C4DA3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5"/>
          <p:cNvSpPr/>
          <p:nvPr/>
        </p:nvSpPr>
        <p:spPr>
          <a:xfrm>
            <a:off x="2590920" y="183024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ssible states identifi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ctivated, Allocated, Blocked, Delegated, Mirrored, Withh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ulting user experience and ICANN/registry/registrar operations dependent on which states are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User experience consid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E956A7-B907-421F-90E6-D274991AEEF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5"/>
          <p:cNvSpPr/>
          <p:nvPr/>
        </p:nvSpPr>
        <p:spPr>
          <a:xfrm>
            <a:off x="2743200" y="1676520"/>
            <a:ext cx="579132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any types of users consider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apabilities w/r/t the script:  full competence, limited competence, or no familiarit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User roles:  system administrator, other network operator, domain name registrant, software developer, law enforcement/security, end user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hemes in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4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1EB0BA-DBFD-4CE8-A196-305A76B437B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5"/>
          <p:cNvSpPr/>
          <p:nvPr/>
        </p:nvSpPr>
        <p:spPr>
          <a:xfrm>
            <a:off x="2743200" y="1295280"/>
            <a:ext cx="5791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nsion betw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terest in creating greater functionality to address a range of potential variant c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fficulties of meeting those objectiv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isks and costs a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ed for cost-benefit analysis for each potential mechanism to balance risks, costs, and benefi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EBF36B-98F0-4A70-95AF-50A5471AFFA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90476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Next Steps:  Project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otential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4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9AEA5E-999F-4598-9F85-264EC7F8000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5"/>
          <p:cNvSpPr/>
          <p:nvPr/>
        </p:nvSpPr>
        <p:spPr>
          <a:xfrm>
            <a:off x="2743200" y="1676520"/>
            <a:ext cx="579132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ral potential projects identified in the Integrated Issues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pen for public com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public-comment/idn-vip-proposed-project-plan-20feb12-en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ment period extended to 8 April, with reply period through 29 April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1:  Label Generation Ruleset Tool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CB7100-3F87-4A68-8FB2-02B73D6D5DE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5"/>
          <p:cNvSpPr/>
          <p:nvPr/>
        </p:nvSpPr>
        <p:spPr>
          <a:xfrm>
            <a:off x="2743200" y="1676520"/>
            <a:ext cx="5791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velop the specification for a standard tool for listing the allowed code points and the label generation rules, and for the generation of the corresponding variant labels, if a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Specifies a standard format for an IDN 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Placeholder 3"/>
          <p:cNvSpPr/>
          <p:nvPr/>
        </p:nvSpPr>
        <p:spPr>
          <a:xfrm>
            <a:off x="304920" y="2514600"/>
            <a:ext cx="21333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41,880 FY12 $80,520 FY1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Already ongoing; Not dependent on having variants in the r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3:  Examining the Feasibility of Whole-String Varia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157176-51EC-4DB4-9822-BFCA8BD9040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5"/>
          <p:cNvSpPr/>
          <p:nvPr/>
        </p:nvSpPr>
        <p:spPr>
          <a:xfrm>
            <a:off x="2743200" y="1676520"/>
            <a:ext cx="579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feasibility of unambiguously identifying and implementing whole-string variant TL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2133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122,512 FY12 $130,55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59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5:  Examining the Technical Feasibility of Mirror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C07A40-34F1-402C-B46B-17FD634B1DD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5"/>
          <p:cNvSpPr/>
          <p:nvPr/>
        </p:nvSpPr>
        <p:spPr>
          <a:xfrm>
            <a:off x="2590920" y="158904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technical feasibility of mirroring variants in the root. Particularly the feasibility of ensuring that mirror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beyond DNS, in applications like Web, email, FT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irroring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means a mapping of 2 or more namespa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88,890 FY12 $177,08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87D3F8-75D7-4E62-8DE6-93FAAF87D87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04760" y="236232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oject Overview and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6:  Examining the User Experience Implications of Active Variant TL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7804DC-71D9-4B5A-9468-728097C8D3C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5"/>
          <p:cNvSpPr/>
          <p:nvPr/>
        </p:nvSpPr>
        <p:spPr>
          <a:xfrm>
            <a:off x="2590920" y="1654200"/>
            <a:ext cx="60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implications on user experience of variant TLDs in both mirrored and non-mirrored implement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53,930 FY12 $426,512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2:  Label Generation Ruleset Process for the Root Zo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79DFCA-2C20-4B8D-906B-ACC98BFCBE4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5"/>
          <p:cNvSpPr/>
          <p:nvPr/>
        </p:nvSpPr>
        <p:spPr>
          <a:xfrm>
            <a:off x="2743200" y="1447920"/>
            <a:ext cx="57913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2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termining the approach to developing the code point repertoire and the label generation process for the root zon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2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2.1,work is to develop the code point repertoire and the label generation process for the root z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27,42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4:  Enhancing Visual Similarity Proces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9640CF-D233-484B-8E6B-16F99B9338E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5"/>
          <p:cNvSpPr/>
          <p:nvPr/>
        </p:nvSpPr>
        <p:spPr>
          <a:xfrm>
            <a:off x="2754360" y="1252440"/>
            <a:ext cx="6084720" cy="42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4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velop an enhanced visual similarity process for the root that is predictable and repeatab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4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4.1, work ranges from keeping status quo to using tools like the LGR tool to identify visual similarity using a deterministic approach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61,23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7:  Updates to ICANN</a:t>
            </a:r>
            <a:r>
              <a:rPr b="1" lang="ja-JP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’</a:t>
            </a: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s gTLD and ccTLD Progra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6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FF794C-D32F-4B6B-85D6-0E4E5218869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 changes that may be needed as a result of the Label Generation Ruleset and the enhanced Visual Similarity processes in the new gTLD and ccTLD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8:  Updates to ICANN and IANA Oper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72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723690-9B86-40B3-82C7-CCAACD5CD18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 changes that may be needed in ICANN and IANA processes and operation as a result of the Label Generation Ruleset and the enhanced Visual Similarity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IP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4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2DD96F-9BA9-4811-BB22-828BE95B5C3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Diagram 4" descr=""/>
          <p:cNvPicPr/>
          <p:nvPr/>
        </p:nvPicPr>
        <p:blipFill>
          <a:blip r:embed="rId1"/>
          <a:stretch/>
        </p:blipFill>
        <p:spPr>
          <a:xfrm>
            <a:off x="219240" y="762120"/>
            <a:ext cx="8888400" cy="3127320"/>
          </a:xfrm>
          <a:prstGeom prst="rect">
            <a:avLst/>
          </a:prstGeom>
          <a:ln w="0">
            <a:noFill/>
          </a:ln>
        </p:spPr>
      </p:pic>
      <p:sp>
        <p:nvSpPr>
          <p:cNvPr id="677" name="Line Callout 1 5"/>
          <p:cNvSpPr/>
          <p:nvPr/>
        </p:nvSpPr>
        <p:spPr>
          <a:xfrm>
            <a:off x="262260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5"/>
          <p:cNvSpPr/>
          <p:nvPr/>
        </p:nvSpPr>
        <p:spPr>
          <a:xfrm>
            <a:off x="262260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on types and states of variants to Impl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Callout 1 7"/>
          <p:cNvSpPr/>
          <p:nvPr/>
        </p:nvSpPr>
        <p:spPr>
          <a:xfrm>
            <a:off x="567072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7"/>
          <p:cNvSpPr/>
          <p:nvPr/>
        </p:nvSpPr>
        <p:spPr>
          <a:xfrm>
            <a:off x="567072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directing staff to implement the variant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9" descr="Untitled.png"/>
          <p:cNvPicPr/>
          <p:nvPr/>
        </p:nvPicPr>
        <p:blipFill>
          <a:blip r:embed="rId1"/>
          <a:stretch/>
        </p:blipFill>
        <p:spPr>
          <a:xfrm>
            <a:off x="0" y="1384200"/>
            <a:ext cx="9144000" cy="4078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23B2B6-67BD-4427-9BC2-5108DFD8A43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2590560" y="255276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iscussion and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y this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1C049C-CCA4-43B0-BF5C-B6D748559BA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2590920" y="1676520"/>
            <a:ext cx="57150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ong-standing request from a number of IDN user commun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oard direction to develop an issues report on the su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minutes/resolutions-25sep10-en.htm#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3" descr="tagline.jpg"/>
          <p:cNvPicPr/>
          <p:nvPr/>
        </p:nvPicPr>
        <p:blipFill>
          <a:blip r:embed="rId2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049FB4-9887-48AC-912F-10B589D8D01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82844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ase Studies and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ariant Issues Project Phases 1 &amp; 2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54464F-5B97-4197-9690-55DE22782AE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ight Arrow 4"/>
          <p:cNvSpPr/>
          <p:nvPr/>
        </p:nvSpPr>
        <p:spPr>
          <a:xfrm>
            <a:off x="3983040" y="2205000"/>
            <a:ext cx="1981080" cy="2143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tegrated Issues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ight Arrow 5"/>
          <p:cNvSpPr/>
          <p:nvPr/>
        </p:nvSpPr>
        <p:spPr>
          <a:xfrm>
            <a:off x="152280" y="227664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rab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ight Arrow 6"/>
          <p:cNvSpPr/>
          <p:nvPr/>
        </p:nvSpPr>
        <p:spPr>
          <a:xfrm>
            <a:off x="30686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ight Arrow 7"/>
          <p:cNvSpPr/>
          <p:nvPr/>
        </p:nvSpPr>
        <p:spPr>
          <a:xfrm>
            <a:off x="60404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ight Arrow 8"/>
          <p:cNvSpPr/>
          <p:nvPr/>
        </p:nvSpPr>
        <p:spPr>
          <a:xfrm>
            <a:off x="152280" y="266220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hinese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ight Arrow 9"/>
          <p:cNvSpPr/>
          <p:nvPr/>
        </p:nvSpPr>
        <p:spPr>
          <a:xfrm>
            <a:off x="152280" y="3043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yrill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ight Arrow 10"/>
          <p:cNvSpPr/>
          <p:nvPr/>
        </p:nvSpPr>
        <p:spPr>
          <a:xfrm>
            <a:off x="152280" y="346248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Devanagari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ight Arrow 11"/>
          <p:cNvSpPr/>
          <p:nvPr/>
        </p:nvSpPr>
        <p:spPr>
          <a:xfrm>
            <a:off x="152280" y="384336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Greek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ight Arrow 12"/>
          <p:cNvSpPr/>
          <p:nvPr/>
        </p:nvSpPr>
        <p:spPr>
          <a:xfrm>
            <a:off x="152280" y="4267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Latin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10" descr="idn vip report_Page_001.jpg"/>
          <p:cNvPicPr/>
          <p:nvPr/>
        </p:nvPicPr>
        <p:blipFill>
          <a:blip r:embed="rId1"/>
          <a:stretch/>
        </p:blipFill>
        <p:spPr>
          <a:xfrm>
            <a:off x="6954840" y="2230560"/>
            <a:ext cx="1905120" cy="214632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14"/>
          <p:cNvSpPr/>
          <p:nvPr/>
        </p:nvSpPr>
        <p:spPr>
          <a:xfrm>
            <a:off x="6878520" y="2243160"/>
            <a:ext cx="2057400" cy="2133720"/>
          </a:xfrm>
          <a:prstGeom prst="rect">
            <a:avLst/>
          </a:prstGeom>
          <a:noFill/>
          <a:ln w="57240">
            <a:solidFill>
              <a:srgbClr val="4f81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2957400" y="1447920"/>
            <a:ext cx="279900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in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17536E-1927-411C-BE62-655650C5F3E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: Script case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047760" y="1599840"/>
            <a:ext cx="5684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6 teams:  Arabic, Chinese, Cyrillic, Devanagari, Greek, Lat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mprised of community experts in DNS, Registry/Registrar operations, Linguistics, Security, Policy, and ID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ase Study Teams completed reports in October 20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824040" y="190512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418534-76BE-431C-B23A-547DCE97873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I: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1"/>
          <p:cNvSpPr/>
          <p:nvPr/>
        </p:nvSpPr>
        <p:spPr>
          <a:xfrm>
            <a:off x="2743200" y="1841400"/>
            <a:ext cx="5943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veloped with support from a Coordination Team comprised of representatives from the case study tea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ummarizes and synthesizes the issues identified by the case study te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C42FAD-16CB-4626-A8D3-E866F4AA362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orking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2819520" y="1371600"/>
            <a:ext cx="6019560" cy="47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CANN project team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ynthesis of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Writing and editing the re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ordination t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dvisory and reviewing r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Liaison with the 6 case study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eekly teleconference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s://community.icann.org/display/VIP/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22:25:11Z</dcterms:created>
  <dc:creator>Karen Lentz</dc:creator>
  <dc:description/>
  <dc:language>en-US</dc:language>
  <cp:lastModifiedBy>Naela Sarras</cp:lastModifiedBy>
  <dcterms:modified xsi:type="dcterms:W3CDTF">2012-04-10T19:39:36Z</dcterms:modified>
  <cp:revision>222</cp:revision>
  <dc:subject/>
  <dc:title>Presentation Title</dc:title>
</cp:coreProperties>
</file>