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7313AD-F004-4BAD-B4DA-2C65E22AC7E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5BD238-CE6B-4ACF-9C84-B6BB1193AC3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275EB6-820E-425F-A91E-297FB6C8EC4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4944CD-A487-4844-BA18-1865C5E6826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0F0CF3-F46C-4D95-BF13-120303E3234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63BB6D-043E-4EED-8DDB-1437407A157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A9195E-02D3-43CD-9BE3-5E4F3A9525C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7A0F88-AAAD-43A2-867B-C8DB46F6DDF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BB3CEC-1BC2-484B-8391-4599C71DEDD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74D8A5-0AC3-49B6-B76E-49AEF52004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CBFA55-A9F7-487C-8D66-80AEB57CEFA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A65893-582D-4E0B-B434-EA6694AD1C9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798338-8B1E-4032-AC51-906C4EC2243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F8AAC1-B37D-417F-B3D4-F7CB81B5ABA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1076CA-F3C6-4A84-A7C2-32873758172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F0AC7B-E0B2-42A7-A3C9-A9316994C91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B0D320-620D-48B0-B457-6E3B31F6FF0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54812B-6EA6-46CA-8ED1-99E3B76D107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B629C5-45F7-43CD-AFD5-4993C15B422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8969C2-9292-4A14-9C38-9021DAAAF4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6B93BD-FE2C-4F4B-A2E6-69ABC6A3084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6ECED-47C9-47FD-915E-A16D9657AD1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BB9DA-1211-4B2B-B41E-238DDB34E93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29A3E-992E-43F5-B0C5-8C1BEC90678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5D397-D077-41AB-806C-10EEFF3B5C6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6153E-1E79-4FBD-B6D4-E2D4DB33735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D3FC8-4B95-4178-A5EE-71392918940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1A912-840D-4B96-91A5-260054A22EC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9797F-AC9C-46B3-8C11-7D556633E81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2CB60-C2E5-4DCD-B284-4A9671DAD8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780CF-F066-409C-BB30-1E85D0C285F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CDBF1-F008-4A1B-946D-6AE4D2174E7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92D48-6BDA-4349-B589-D1B0639C52D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C51367-A20A-471F-B5FB-8D7AB7BB6B8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026436-E02F-4EE5-996A-1363AA46A5B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FD16FB-05AE-4E99-9385-8C055DD09E0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AE9B4A-200F-49CB-898A-369026912B5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AE2F4F-E52D-4B08-88A9-D75DC1F3BD2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84E623-963D-4AC3-BB4F-6D14E11A671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9CF437-2728-43C2-A67E-6864156C7F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E34C0A-0D31-4F66-A7C8-879B47D0BA6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79BDF0-EE43-499B-ADAB-429493B9A37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893B4C-249E-4D0B-8299-49648074443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EE95DE-BDD0-4C9A-BDBF-F927612E4C3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7F341D-F25A-489E-A467-79F0C3DD6B9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2C4FE6-0FCB-45A9-8C0D-E9CBA61A118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1100BB-9D97-47AB-9784-E31C4ADF2D6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DB5808-C03A-4A52-A1FC-FED508BD45C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A4C0AE-BF66-4E4B-8768-76D429CFD5A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6BFE66-97B1-47C2-9484-A150E5795D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043E08-5AD5-451E-BBED-67E10973A35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3A5157-0C2F-4AFB-AA54-A1AC31CF26F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EB8D7B-BB89-4D12-BC1B-8567FD3B618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472C70-971C-43D8-83B7-13346886FD7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CADF9F-FD38-489D-9AD6-87764B8A61A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9D5E39-6C71-4432-BF8A-42AF63FA633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D74756-66A5-46EE-80A7-DDC9AEDFE96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C55EE-A265-4BA9-A64C-99304D858D8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51B85-3722-410E-B3C8-87066EA3959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9DCD5-1DF0-420F-B570-CF8AE0AE4F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3CB8F-7553-4BC7-8ADF-7E0298FA3F9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8E628-F870-48CB-AC46-2D5EAC8ADC4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41433-8040-4C76-8F34-B13B4803864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4A2DD-791B-4863-8176-FAD2A9E4672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AA4BF-3711-4D03-9F81-2A6C2EBE27A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9722E-BBC9-451F-B797-554EDB4D914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E448E-A477-4597-902F-D60A25B45CC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4C87B-DA82-40E1-ACDF-6040060A9CE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D280D-765E-4AD4-AD25-59A88450B2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F862-5914-44F9-AA6D-6F8A7DB5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3EF1-C6AC-464A-8E84-B1A5A7A9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CD30-E54A-432B-B9DD-5BFAE121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7EC2-F14E-4D76-A455-44C556B4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8B63-9E5B-4694-9A76-815DE7B5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233D-E546-4923-8D2D-AAF4100C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DF64-A9FE-4842-9321-2A105410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1DAA-C5AC-4A1F-91E5-020BD6E4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DBD7-EE54-46FA-B84B-BE805C35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58F2-1E4B-4B84-989D-1419E8D9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E26E-3201-415B-95BD-FFB072C4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7287-BAA8-43FF-8938-9592E2957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2F403-24A2-438A-AB41-22E7B4C8DD3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6CFB2-87DD-4148-A8F7-E645601C29C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9830A-99F5-463E-87DF-E2437E052BA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E8481-864E-4AF3-8049-D4D1AB5223E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5363B-27BA-46C1-B500-B7F738A015A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F8D78-0873-4609-888D-E96AA99792C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2F337-D6D0-41D3-A98B-BE6073CDA01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4CAA5-13DF-456A-85A1-2A56493B1D8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3045A-ECE8-463E-B2C9-6125230263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F8A81-1C0B-46EE-9C2B-16C1A254F92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ED782-A95B-43D1-9F38-DD21DC83745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3957B7-C289-4B51-BE6C-C03BDE48E53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524BD-0616-47DE-9F21-EB2049FF52D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AF3B1-52D5-4E92-A849-BFDFA55662B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50F2C-D0C6-4004-94A4-570EDF33FB9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28FF9-344F-4105-8082-41EB96C2E2C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C82C1-C5C3-40B5-B711-ED57E9EC109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94316-12A5-4B08-B5FE-B99ACA01D95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27592-9EEE-4DA1-953B-2D1C0599D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77138-2556-41DC-A8B5-2507AE9D6A3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471D4-57F7-4370-AFCE-96263F37B95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4D687-F692-49EA-84C2-EEFA94B219A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5F223-753D-4EA6-AF87-2324B400F09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3E8ED-05EE-4CCD-830B-15138058F7E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2839-5F57-4D52-87C4-66472A9E353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6271-4937-4BA1-8EF3-0FD14D6E23E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3B83-EF63-480A-8491-C8B047210C9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83F1-BAEE-45D4-B07E-6B7DB26E0AD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3B28-FAA6-4154-A8C6-E247723E0E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4DCA-909C-412E-986B-AF6965E5A2D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A8F7-7F6D-4F46-AABE-0077187985F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7E9D-C8FE-41F9-A79F-3CF91F736C7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8281-DA01-468E-8868-C57B4EF853E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239A-B414-4E04-A9AA-FC630F7371D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09A5-F510-410A-939F-53D5893A47F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F48B-0FAF-482D-B828-BF41306DB2F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5BB4A3-D162-45C6-82EA-298FE46D286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04C924-B07B-477B-9C64-3A801FC6448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DF0978-6B07-436C-9532-9C3D79FB52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DBBE2D-A476-4BCE-A7E0-742F6F9935E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99CB94-0BA3-4734-BE89-2FFB12AC266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FDDA21-F839-432E-82DB-BE1508F9832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C76E8E-768E-4570-B1F9-8A5A435DE14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D21320-E9EA-4AE1-948F-4465D9B7D86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15D982-EF47-4DFD-BE11-27EAC6F7C3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EDAECB-93D0-4BE8-BBAB-AA54356DA4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828E9D-3B43-4D99-BB8F-1DB4E5DC7AE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8C43AE-37B8-415A-A26E-1CF9E004DB1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FF572A-53E3-4C8E-9CA2-5FD315896F3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B8D0FC-2D64-4D92-AA68-F0368992316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cann.org/en/public-comment/idn-vip-proposed-project-plan-20feb12-en.htm" TargetMode="External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ann.org/en/minutes/resolutions-25sep10-e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community.icann.org/display/VIP/Home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DN Variant Issues Projec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VI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Project Update and Next Ste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11 April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1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2FA81D-7AEC-4572-9F81-6AEB1DCDC77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tegrated Issues Report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752560" y="137160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the sets of issues relevant to all the studied scrip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ny sets of issues that are script specific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 a brief analysis of the issues, including the benefits and risks of possible approaches identifie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reas where further study or work could be pursu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2EF9AD-127C-4A23-92E9-C9FA91C6F0B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ubtitle 1"/>
          <p:cNvSpPr/>
          <p:nvPr/>
        </p:nvSpPr>
        <p:spPr>
          <a:xfrm>
            <a:off x="1582560" y="228600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egrated Issu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port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F95858-B5BC-4605-A8AC-2F0467EDD6E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2797200" y="1152360"/>
            <a:ext cx="623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ecutiv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-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- Project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– Range of variant cas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 – Establishing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– Treatment of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 – Other 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 – Discussion of potential additio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at is a 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“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variant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”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3F5055-75B5-4F0C-9A67-C76BBD6DD71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2438280" y="990720"/>
            <a:ext cx="6597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 commonly-agreed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Used to refer to a number of differen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port continues to use the term in a loose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re specific terms are recommended, e.g.,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variant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with a qualifier to give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Scope of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7C3FEE-58C2-4C7B-A4C9-8B27D839406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2590920" y="1490760"/>
            <a:ext cx="6238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sues discussed concern IDN variants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t the top level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i.e., IDN variant TL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related issues are discussed as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lassification of identified variant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A68A6B-ED3D-4A03-BBDF-FD6F27FFB8B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2797200" y="1295280"/>
            <a:ext cx="62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Variants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ole string variants vs. code point var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5B6B35-8393-4560-8F18-8C1D447A4C9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2666880" y="1488960"/>
            <a:ext cx="623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de point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cod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a single code point is a variant of another code point or sequence of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ole-string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whole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their meaning to a languag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F67F39-06C4-43DF-BB19-D956E586828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2514600" y="1600200"/>
            <a:ext cx="623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wo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ode Point Repertoire for the Roo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Label Gener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D19EB1-4619-406C-8CF2-BAEEFDB671B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TextBox 5" descr=""/>
          <p:cNvPicPr/>
          <p:nvPr/>
        </p:nvPicPr>
        <p:blipFill>
          <a:blip r:embed="rId1"/>
          <a:stretch/>
        </p:blipFill>
        <p:spPr>
          <a:xfrm>
            <a:off x="2792520" y="1219320"/>
            <a:ext cx="624816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the Code Point Repert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AA27FC-A4F0-4AAC-846A-DDE85755E82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2797200" y="1295280"/>
            <a:ext cx="588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code points selected for inclu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for sele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future changes in the valid and/or permitted code points are to be hand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2938E9-CDF5-459D-9DB7-10AE5D996D7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) Project Overview and Go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) Case Studies and Integrated Issues Rep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) Next Steps:  Project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) Discussion and Ques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B79124-92BC-427A-B277-F4F21F2ECE2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2797200" y="121932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bel Generation Rules (LGR) for the Code Point Repertoir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code points that are variants of one another, and the code point substitution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the status rules applicable to labels containing permitted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reating Label Genera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B0815B-FC4E-4496-8AA3-7248A02325B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797200" y="1295280"/>
            <a:ext cx="62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to determine code point variant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label states are permit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flexibility should be provided regarding use of code points with different script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eatment of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852A59-8CCC-45EB-BC6A-A93E1F2300E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2590920" y="183024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sible states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tivated, Allocated, Blocked, Delegated, Mirrored, Withh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ing user experience and ICANN/registry/registrar operations dependent on which states are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User experience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A3C470-ECA1-4911-9C27-2C8670BC5B7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2743200" y="1676520"/>
            <a:ext cx="57913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ny types of users conside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pabilities w/r/t the script:  full competence, limited competence, or no familiar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r roles:  system administrator, other network operator, domain name registrant, software developer, law enforcement/security, end us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mes in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2DE43A-DA4E-4FA7-95CA-FDDA15300D2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2743200" y="1295280"/>
            <a:ext cx="579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sion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est in creating greater functionality to address a range of potential variant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ficulties of meeting those objectiv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sks and cos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for cost-benefit analysis for each potential mechanism to balance risks, costs, and benef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26B94E-DFBD-4162-A1B8-DA21818EBA9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0476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Next Steps:  Project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tential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AF92C4-6B8B-4A64-8F16-E2D6DBA3525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2743200" y="1676520"/>
            <a:ext cx="57913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ral potential projects identified in the Integrated Issues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en for public com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public-comment/idn-vip-proposed-project-plan-20feb12-e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ent period extended to 8 April, with reply period through 29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1:  Label Generation Ruleset T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7ABA6E-25B0-4007-9C8C-7CDA0F2BFD8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743200" y="1676520"/>
            <a:ext cx="579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 the specification for a standard tool for listing the allowed code points and the label generation rules, and for the generation of the corresponding variant labels, if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Specifies a standard format for an IDN 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Placeholder 3"/>
          <p:cNvSpPr/>
          <p:nvPr/>
        </p:nvSpPr>
        <p:spPr>
          <a:xfrm>
            <a:off x="304920" y="2514600"/>
            <a:ext cx="2133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41,880 FY12 $80,520 FY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Already ongoing; Not dependent on having variants in th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3:  Examining the Feasibility of Whole-String Vari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2B9CAF-FD5C-46C7-AEE4-077095D7308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2743200" y="167652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feasibility of unambiguously identifying and implementing whole-string variant T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2133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122,512 FY12 $130,55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5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5:  Examining the Technical Feasibility of Mirr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BEEA89-7CEA-4BE9-8342-5EB572EA6E2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2590920" y="158904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technical feasibility of mirroring variants in the root. Particularly the feasibility of ensuring that mirro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eyond DNS, in applications like Web, email, FT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rroring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ans a mapping of 2 or more name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88,890 FY12 $177,08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8D999B-B716-47D2-A070-4AB39A69C30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04760" y="23623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ject Overview an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6:  Examining the User Experience Implications of Active Variant TL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55853D-876C-4B88-81CB-C0375311C3E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2590920" y="165420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implications on user experience of variant TLDs in both mirrored and non-mirrored implem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53,930 FY12 $426,512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2:  Label Generation Ruleset Process for the Root Z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BC2A25-B58F-464E-9DF5-B1908C16699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2743200" y="1447920"/>
            <a:ext cx="5791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2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termining the approach to developing the code point repertoire and the label generation process for the root z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2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2.1,work is to develop the code point repertoire and the label generation process for the root z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27,42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4:  Enhancing Visual Similarity Proc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6C15B2-B5DD-4D16-AEE0-7F46EE924D7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754360" y="1252440"/>
            <a:ext cx="6084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4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velop an enhanced visual similarity process for the root that is predictable and repeata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4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4.1, work ranges from keeping status quo to using tools like the LGR tool to identify visual similarity using a deterministic approa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61,23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7:  Updates to ICANN</a:t>
            </a:r>
            <a:r>
              <a:rPr b="1" lang="ja-JP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’</a:t>
            </a: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s gTLD and ccTLD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84402B-9BE0-4F39-B728-21BA03BD73B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 changes that may be needed as a result of the Label Generation Ruleset and the enhanced Visual Similarity processes in the new gTLD and ccTLD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8:  Updates to ICANN and IANA Oper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BE979F-B1F9-414E-810A-3E4292EA695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 changes that may be needed in ICANN and IANA processes and operation as a result of the Label Generation Ruleset and the enhanced Visual Similarity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IP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A27158-53A1-4030-A960-01F95D11F43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Diagram 4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888400" cy="3127320"/>
          </a:xfrm>
          <a:prstGeom prst="rect">
            <a:avLst/>
          </a:prstGeom>
          <a:ln w="0">
            <a:noFill/>
          </a:ln>
        </p:spPr>
      </p:pic>
      <p:sp>
        <p:nvSpPr>
          <p:cNvPr id="677" name="Line Callout 1 5"/>
          <p:cNvSpPr/>
          <p:nvPr/>
        </p:nvSpPr>
        <p:spPr>
          <a:xfrm>
            <a:off x="262260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5"/>
          <p:cNvSpPr/>
          <p:nvPr/>
        </p:nvSpPr>
        <p:spPr>
          <a:xfrm>
            <a:off x="262260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on types and states of variants to Imp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Callout 1 7"/>
          <p:cNvSpPr/>
          <p:nvPr/>
        </p:nvSpPr>
        <p:spPr>
          <a:xfrm>
            <a:off x="567072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7"/>
          <p:cNvSpPr/>
          <p:nvPr/>
        </p:nvSpPr>
        <p:spPr>
          <a:xfrm>
            <a:off x="567072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directing staff to implement the variant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9" descr="Untitled.png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A4F7A8-FDCA-463E-8BB9-856E93DCDE2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590560" y="255276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cussion and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y this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2CEA61-3DA0-47F7-A033-7816BC4E0EE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590920" y="1676520"/>
            <a:ext cx="5715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ng-standing request from a number of IDN use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ard direction to develop an issues report on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minutes/resolutions-25sep10-en.htm#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tagline.jpg"/>
          <p:cNvPicPr/>
          <p:nvPr/>
        </p:nvPicPr>
        <p:blipFill>
          <a:blip r:embed="rId2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6D52FB-245B-4D92-AB67-A16FBD10DFE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82844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se Studies and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ariant Issues Project Phases 1 &amp; 2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5DD021-DA01-4F99-A375-E545AC45EDE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ight Arrow 4"/>
          <p:cNvSpPr/>
          <p:nvPr/>
        </p:nvSpPr>
        <p:spPr>
          <a:xfrm>
            <a:off x="3983040" y="2205000"/>
            <a:ext cx="1981080" cy="214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grated Issue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ight Arrow 5"/>
          <p:cNvSpPr/>
          <p:nvPr/>
        </p:nvSpPr>
        <p:spPr>
          <a:xfrm>
            <a:off x="152280" y="227664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rab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ight Arrow 6"/>
          <p:cNvSpPr/>
          <p:nvPr/>
        </p:nvSpPr>
        <p:spPr>
          <a:xfrm>
            <a:off x="30686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ight Arrow 7"/>
          <p:cNvSpPr/>
          <p:nvPr/>
        </p:nvSpPr>
        <p:spPr>
          <a:xfrm>
            <a:off x="60404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ight Arrow 8"/>
          <p:cNvSpPr/>
          <p:nvPr/>
        </p:nvSpPr>
        <p:spPr>
          <a:xfrm>
            <a:off x="152280" y="266220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hinese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ight Arrow 9"/>
          <p:cNvSpPr/>
          <p:nvPr/>
        </p:nvSpPr>
        <p:spPr>
          <a:xfrm>
            <a:off x="152280" y="3043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yrill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ight Arrow 10"/>
          <p:cNvSpPr/>
          <p:nvPr/>
        </p:nvSpPr>
        <p:spPr>
          <a:xfrm>
            <a:off x="152280" y="346248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Devanagari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ight Arrow 11"/>
          <p:cNvSpPr/>
          <p:nvPr/>
        </p:nvSpPr>
        <p:spPr>
          <a:xfrm>
            <a:off x="152280" y="384336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eek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ight Arrow 12"/>
          <p:cNvSpPr/>
          <p:nvPr/>
        </p:nvSpPr>
        <p:spPr>
          <a:xfrm>
            <a:off x="152280" y="4267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Latin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" descr="idn vip report_Page_001.jpg"/>
          <p:cNvPicPr/>
          <p:nvPr/>
        </p:nvPicPr>
        <p:blipFill>
          <a:blip r:embed="rId1"/>
          <a:stretch/>
        </p:blipFill>
        <p:spPr>
          <a:xfrm>
            <a:off x="6954840" y="2230560"/>
            <a:ext cx="1905120" cy="21463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4"/>
          <p:cNvSpPr/>
          <p:nvPr/>
        </p:nvSpPr>
        <p:spPr>
          <a:xfrm>
            <a:off x="6878520" y="2243160"/>
            <a:ext cx="2057400" cy="2133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2957400" y="1447920"/>
            <a:ext cx="2799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i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C082AC-C0A8-423D-81CA-D8D7003007E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: Script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6 teams:  Arabic, Chinese, Cyrillic, Devanagari, Greek, La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rised of community experts in DNS, Registry/Registrar operations, Linguistics, Security, Policy, and I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ase Study Teams completed reports in October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824040" y="190512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9F06A1-C16D-469F-95CA-A1F451731CE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I: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743200" y="184140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eloped with support from a Coordination Team comprised of representatives from the case study te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mmarizes and synthesizes the issues identified by the case study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23752B-83C0-44E4-9979-DCAB5E89BDC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orking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819520" y="1371600"/>
            <a:ext cx="60195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ANN project tea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nthesis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riting and editing the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dvisory and reviewing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iaison with the 6 case study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ekly teleconferenc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s://community.icann.org/display/VIP/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2:25:11Z</dcterms:created>
  <dc:creator>Karen Lentz</dc:creator>
  <dc:description/>
  <dc:language>en-US</dc:language>
  <cp:lastModifiedBy>Naela Sarras</cp:lastModifiedBy>
  <dcterms:modified xsi:type="dcterms:W3CDTF">2012-04-10T19:39:36Z</dcterms:modified>
  <cp:revision>222</cp:revision>
  <dc:subject/>
  <dc:title>Presentation Title</dc:title>
</cp:coreProperties>
</file>