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252D71A-0D64-4984-83A1-FAECFAA5CC1D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F162697-3159-440A-9F3B-39A7BB65357D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D45E1AD-1D56-468B-8524-C40B635DE9D1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0A9A00F-121D-47A8-916B-C649C6016B70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8433F74-46E6-44CD-AD25-69347728950B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8D6181C-9315-4469-8D3B-826F229226C2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5EBBEF2-212D-4544-A980-2A7C55A61B79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6C722A5-E940-4FAE-A8B4-25533DDB4297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9260FBE-A6E9-4DD7-91DA-1B4923AD7C20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536EE5-D5C0-455F-BBBA-3D25E424AF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52ADFC-D8E0-47EA-B2BE-82597FBC1D9F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42ECB7-8BD6-4A92-93BB-2E2006C08220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9347A7-11FA-484A-83EA-1AC8805D284F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940509-ABD1-4655-BAD9-9A12E9F95144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7EF9C5-08F7-4302-8EE0-E4B965FFAB34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BA70BB-1ADD-4A28-A77E-54C98068623B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5B6F05-046E-4CD4-9DDD-D613DF4BDB36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46854C-9117-44D6-AD36-91DB58DE08EE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04E313-362D-41F9-BE1F-5370110D6ADA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94391F-56A6-41D9-A849-7F23DF37EA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1C658E-E0AB-4350-8CF3-57AC0C087AA7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469E7B-0957-4CFF-860B-9C9E9D3BA65B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FD5443-2896-4351-A30F-BABD1946259C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EC1370-4903-4C47-8CC0-F8A198CF25FA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6635E3-2992-44CF-8705-8C6DDEE5DC17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86DE03-69BB-4802-847F-D2F3A86DBCB0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54E10A-B23E-432C-84AB-E06BFFC934E2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4AFA53-9114-48C5-9EFC-1171144930B6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8E0A14-B198-4EDE-A3F7-B6E82471AAFE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71CCCE-942A-40F2-BF42-928C1638D8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9E6B7F-EFAC-44B1-AD28-10DD07BA1C14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355CDC-DDDF-4458-9544-72F52C9F2379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066A59-A397-43AD-BDA6-5570DFFF231C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7D28757-D221-49E5-8357-81D631FB22CC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BC9E104-D0EE-4D99-9970-B1E2474B67D4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0221F60-A9F1-4EA8-81B5-93D695CF7D26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C9103CA-510D-4899-81A7-3ED66D64496B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0438BBA-4A8D-4440-BD9D-CEA547084161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E537CDA-EBAA-4B5C-AFC4-088B49A848AA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F749F01-DEA9-4225-B544-95F28741749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6CB9A87-2C7A-46CE-ADD0-A0373BAFDD46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C64F492-65A2-42AF-9DF5-753C4A7CFBFF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5C0F240-4AA4-4873-8147-25503A355A33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1800681-6125-48B0-BE84-95B1C8DFB630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658D0F8-719B-4DC1-ADAC-EE0CC78CD157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57FF478-674A-438B-B94C-017CC9C55908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A53370F-BA03-4071-B164-D750E66B340F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D8F54C9-7049-4F57-A59A-B78F44F669E3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F6B2D58-2943-4FF2-B92E-21796EF7232D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BAE9275-2FB4-4FA4-85F4-F5D7225E65C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493C5D0-3FBD-4F22-84A8-4F3F92A3E43B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6D8C02C-DF7D-413D-94B3-82C9AF20643F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52D13BD-72A7-490B-BEEA-D0CC32169451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57EB9A0-5844-44D6-A9B8-10776A7301EC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AF76EDF-0622-4CAC-85BB-5279E55D904F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9968249-15B4-4B36-82AE-9361C13DDC9A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D307CBD-C2CB-4331-8288-D3699DEF0E9F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EC2576-2EFC-4211-B699-85ED78940F32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FB8E57-EBC2-4B25-8A64-F76A5895AC8F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502E5F-340B-4F93-9359-42A7C11CC9A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88BFCD-94F5-43AE-B7D1-CDE032187AB5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73B6FB-54D3-481B-9BAB-73A7121B5C2A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4B2771-5DF0-49B5-B939-1145B85F2A76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D5D39D-817E-478B-9E88-863A2929675D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A8308D-7895-4F55-9461-EB59F3B25267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B31BB9-382A-4663-A25C-50B6C1449987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741228-F41E-4896-AEF9-08731A2FBE92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F99CF2-C941-49F7-8456-339945F42CAF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4FC3FB-90DC-4403-8731-4C0E46D3FA6A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FD9A85A-5951-4E4E-BDC4-15D308DF1AE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A232E5E-1371-4119-8D0F-7A7069C484A1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E081F02-FB67-4CF9-A3D1-AD6B3AC77D50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5E92E9C-1385-4AF0-B725-3066A978651C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761DB35-1192-406E-AE67-BE2CF446456D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92E85F7-E190-4292-9590-CC735B13F315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79AD34C-15C4-42A0-A482-DE620690E43A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5958403-3EDD-4478-9D40-354BB909468F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1AE6668-5A54-4379-96EA-829EDB283BD0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32397F5-3D27-4E17-92E8-042F94622B20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BC96F1B-3248-461C-8813-DFB3A67B779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65735BA-DA3E-4843-B105-E08D1528EC1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7EB2-0B60-4BFF-8B45-44ABA4AE7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722A-7C8B-4085-9B7E-CD7AF2545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4885-4380-49FE-AA9A-EF13CA67B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9F7D-1A49-4162-B90A-4BA0C02E0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5773-65BA-44AF-AF0F-28BD51C6A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BE96-CD21-4152-A299-DC3C0BF22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DEAE-6878-4AB7-B3A9-F3987BCFE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4CEF-0277-4B73-A00E-7D2522CC7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770A-5A29-4609-8F47-D060F7638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19E7-0933-401D-A42C-3659787CF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B8F8-9752-4243-B627-A2E4251AF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AD99-98DB-41A1-B9ED-72916CB60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AD03EA-3AF4-46C1-AFED-08546CF8D500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EAE2B7-F6B6-4126-B6B5-16E0C5B2BB19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1950DC-690E-47E9-896D-74AFAE276D64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4BDDF0-4B57-4F46-BB7F-72633F89DF3C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7F0433-F5CD-4E89-A6D5-8AC1FFD2D1DF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1DD62A-E548-4ADE-96AB-7C4EFDEA3E54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51311E-A7F3-4BDE-A373-86556599FD32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98FE2C-370D-40E7-9827-77D5940F370B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08CE63-11DC-49AF-8703-19590F6DE5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872BD0-5F62-456A-880E-7F16B7EF6C73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9717C5-5A26-4252-8063-73C692AF51D1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CDC942-78E5-4226-A2A7-7DE622320FAB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1BB2B0-5693-4AA2-829C-A518E858771F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40C596-5324-4A5B-9B2C-F3D3E4A55FCC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73A86A-5242-420E-86FE-7EE18F307F9F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E3B149-1BB0-4881-A0DD-7955335CBFA5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91A9C9-B064-44F6-8800-CD0E99C91D6A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0D1700-4C27-40FC-938C-E0EF550D8DA3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9A61E9-FDB9-4B53-9E10-DC4A66540F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E3B591-1129-4BDD-A9E3-02998A78A58A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DC042D-8370-4770-B30D-23429BB808F8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66E877-952C-4638-93D3-16EE31EA4C05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51C801-6AD1-4879-90DD-0C8ED245353C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7A6594-ADF6-4440-AB56-9C65BCCA88B8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278F27F-851A-47A5-9908-7CEE58B71F3C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2546B33-DA17-42D7-B5A5-C97ADCB43413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5CCB6B9-BD1D-4160-AE5A-C4B9D29BB0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"/>
          <p:cNvPicPr/>
          <p:nvPr/>
        </p:nvPicPr>
        <p:blipFill>
          <a:blip r:embed="rId2"/>
          <a:stretch/>
        </p:blipFill>
        <p:spPr>
          <a:xfrm>
            <a:off x="-31680" y="-31680"/>
            <a:ext cx="9207360" cy="6921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51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Num" idx="8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526A16-2D5F-4469-B6AC-CD2E70C38B16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92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Num" idx="9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AB1D81-7DD5-4066-B706-330FD9B448B9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sldNum" idx="10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3A2E07-945D-4389-9D0A-29918335BA54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473" name="TextBox 4"/>
          <p:cNvSpPr/>
          <p:nvPr/>
        </p:nvSpPr>
        <p:spPr>
          <a:xfrm>
            <a:off x="3048120" y="4495680"/>
            <a:ext cx="553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Keep body copy short. Avoid reading the text to your aud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Box 5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Num" idx="11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0B9067-73B5-47D4-B285-0A8617DF08CF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515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Num" idx="1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531F95-6B09-4723-A3DB-02FFF3552A7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3" descr="41-Singapore-logo-140x288.png"/>
          <p:cNvPicPr/>
          <p:nvPr/>
        </p:nvPicPr>
        <p:blipFill>
          <a:blip r:embed="rId3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555" name="PlaceHolder 1"/>
          <p:cNvSpPr>
            <a:spLocks noGrp="1"/>
          </p:cNvSpPr>
          <p:nvPr>
            <p:ph type="sldNum" idx="1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F4DA87-0068-48E5-8855-3681003A0DCF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41-Singapore-logo-140x288.png"/>
          <p:cNvPicPr/>
          <p:nvPr/>
        </p:nvPicPr>
        <p:blipFill>
          <a:blip r:embed="rId3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67CC5D-3992-4424-8634-81B0B4D6BA2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AA0A58-450F-477D-B6AF-4FAD41776F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sldNum" idx="4"/>
          </p:nvPr>
        </p:nvSpPr>
        <p:spPr>
          <a:xfrm>
            <a:off x="69004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DF8C96-A69D-4468-9A62-3B0C237E17C2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sldNum" idx="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6A2B01-E298-4B71-8429-6C9A69BBC52F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1"/>
          <p:cNvSpPr>
            <a:spLocks noGrp="1"/>
          </p:cNvSpPr>
          <p:nvPr>
            <p:ph type="dt" idx="6"/>
          </p:nvPr>
        </p:nvSpPr>
        <p:spPr>
          <a:xfrm>
            <a:off x="2743200" y="6356520"/>
            <a:ext cx="3657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ctober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sldNum" idx="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7ADED9-AE1A-4CE7-A96A-A3B3E0EA9CF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Security &amp; Stability Advisory Committe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ubTitle"/>
          </p:nvPr>
        </p:nvSpPr>
        <p:spPr>
          <a:xfrm>
            <a:off x="1371600" y="335268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Jim Galv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Vice-Chai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Calibri"/>
              </a:rPr>
              <a:t>Introduction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urity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bilit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visor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mmittee (SSAC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med in 2001-2002, currently 36 me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vides guidance to ICANN Board, SO’s and AC’s, staff and general commun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uidance areas are related to ICANN’s missions DNS, addressing, IDN, registration services, WHOIS, etc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370AEE-BA45-4519-8AAF-0EAE585CA8F2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731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Main Points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98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C060D0-5E8A-45E9-9991-3B81BCED48A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761760" y="1314360"/>
            <a:ext cx="754380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SAC051  - SSAC's recent publication on WHOIS structure and terminology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International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Registration Data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 IETF Restful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6T19:03:27Z</dcterms:created>
  <dc:creator>Julie Hedlund</dc:creator>
  <dc:description/>
  <dc:language>en-US</dc:language>
  <cp:lastModifiedBy>HU</cp:lastModifiedBy>
  <dcterms:modified xsi:type="dcterms:W3CDTF">2012-01-30T20:22:34Z</dcterms:modified>
  <cp:revision>24</cp:revision>
  <dc:subject/>
  <dc:title>Presentation Title</dc:title>
</cp:coreProperties>
</file>