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C9D921-7FF7-4D9A-9CBA-886FA0E39394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F93CC6-11F8-4C19-8A14-C153FD634AFC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9418DC-5701-4EBD-8FFB-3F392D1BF67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000D67-EFD3-4C3B-83DE-C011E2BC39E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99473E-143D-4E81-9B52-61E6638BD367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DDA78B-E0BC-487E-A7E5-E29D5F3F6B7E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70EAF4-4174-4DC2-A87E-88606D590D76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99B4D1-14DE-424C-822D-647AFD653AB6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AC3289-0D5D-441E-BB50-338E5AFFD3D0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AFDC29-2314-4489-B4EA-D01B8691B8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D5BEC6-837E-4CE2-87A5-F68BAFF97557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317F92-A4E2-4EB7-B6F8-709A7FF8E52A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BE5272-EAFA-489E-81DA-0A0EC63B355F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7DC2B5-E555-4B81-BD2D-5136651574DB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E28CB6-2D8C-48B3-8CC5-C211E24AEA01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BEBA34-421F-426F-9505-A8BF307830F6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4F5DD4-2100-4AEE-8AAD-BB9CCB79E5F1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9674AC-B11B-4FF9-B180-D86A87DC46E2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BA96A5-BDDA-4132-B61F-1BE3E0336354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D51DF9-6BAE-42B5-A3E2-1E758D532C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6A8628-C8D8-48FD-9B1C-509E70BC47D3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1079B-CDE8-4474-BF29-BC2948652069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F307D-EF8C-4693-80EF-CF1526BE775C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24D1B-45E4-4B31-9AE6-964BB4C52C47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CB7BA-1747-4AE0-A0DE-2A8FF4B38B7F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19711-09D1-45DB-80BC-AEDB128F55E4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318A3-437A-42CF-99E5-F1D2F9C5E949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6FF65-1375-4DE9-867A-A2C1AB615D0E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52AA2-2962-44E7-A3BB-FC6EC9F31978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098BE-6A11-4488-840A-052BEA575A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61663-A744-4DFD-8D86-5B4D0A3CC1F4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71397-62AD-43C0-8CE1-C77A294ED979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CD7BF-99E0-4C9A-87EC-A7DD4C699174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A45790-84B5-446C-BCFB-A2DF41B61080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7C553B-1C15-4098-82AB-588567656403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B9602A-30E0-4035-9EFD-3BB9ECB4020D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51A149-55B6-4307-A739-B81FF684C15C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F666B1-DCA1-4662-B7FF-07CBFC8FA47E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541549-CEF1-4D90-9DFD-B14CD556DBA0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0FB818-D0B4-4CAF-B1D5-1CBA058A161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32F8E9-68FC-4336-A440-8E633BC90571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D3189F-D4EF-4552-9C65-920B620CEF9B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02C18E-09EE-4875-8AF6-486562A8C44F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BC50E1-735B-4F8F-8623-2358AFA3E643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1CBEB0-D73A-4DD9-AD26-19C5EB031C3C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D91DD3-B7D9-42F0-99D5-E54AD882B3B8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0108F4-0C23-4EEB-A349-D82646DFA0B3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FDED0D-D8AF-4526-A8ED-DC55D84F36EC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A2FB54-0054-4536-8BD6-67ACD3AE96B0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840963-2EA8-4037-A2B8-CF5629713D1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8561BC-A24F-4E66-BE50-961D96C6DBF2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BB7844-DB29-4E2F-A6F5-260C6EF3DBA6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7923F3-FA85-4F5D-A0F9-808E81C5093E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88D247-1BB0-4685-8460-8A41216344D4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7FAA53-0C0F-47B1-8075-B3AF86F0D92E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37A92A-9EF5-4CEA-A767-4B5BE6133BCC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55CDA1-6E75-426A-A653-D61D8B6CEFC3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849465-F607-43BD-8A04-720AF1FB3377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04D1F2-AFC4-4444-9D9F-3B3D066910FE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721F2E-776E-4E8C-AB49-04100D5EACF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91354-C1BC-4738-B529-5967992AE6BF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93B9B-95E1-4C00-B8EE-B393007857A6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C5604-DC9D-4096-BB6D-8DF20B7BF712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ECC5D-8112-4238-A35F-B7F281EFD6E5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EB081-D836-440C-B43D-30D89FE6F153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6E8C6-2AFA-449E-A498-18B2D5434C73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03F42-1F90-435E-B9D7-8360A28FC0AE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2A156-5954-46C2-9A7C-EDC719503504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183A2-1C2D-4417-A3B1-A7A26BE7CF77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A116E48-972C-4105-BACB-D73B12EBC5C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F0D82E-A6F5-493D-91C7-236D72E3FE70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6E098E5-E416-4405-9859-4D850B2A5374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4FF9EC6-5447-4E78-AFE5-E75A0474B7ED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1F07884-92A4-4786-A313-90FD4FA9877D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47E32E4-9A78-40DF-B890-6F1D4BC31F67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6941FF4-A09F-4C17-B5B7-7DD83B40DE54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0980A2F-C408-470B-89BC-702FB15ACEDE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786FDA4-03E4-469B-962B-A4345A2D5EE2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3F25729-7BE2-461F-A7C2-753CB42A76E3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F125AAA-36CD-45A6-9443-6DB4907928C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FBDBEFF-940A-434F-B153-768E7787F79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6598-13ED-4418-988B-6B1DA2A4D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2F9A-AF11-4498-9D4C-D385075AC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3BC6-8639-4CED-B0B1-4B9998D81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92B8-7AAD-4E1C-AA87-CD42C6FD9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0D63-764B-445E-A69E-639A49F29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CAE5-019F-4281-BDAA-90733DA92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B1D9-462E-4D6A-922E-3AF3807B5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4B67-4341-4441-8187-3CC559476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A25F-C740-4364-A045-4608B140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F4ED-3269-40B9-908C-63C862410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882F-71AC-4D14-AC6C-4B5E02FEE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FD27-0008-4B1C-AEC5-0A6091954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BD5C3F-7B78-422C-A974-7C6EE718046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127C3E-4800-4366-B306-0617DBF5082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8EF0CC-B49B-4987-9D25-A218D0C6CBB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8B5115-8865-418D-B374-3C5A4507DB0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1CD279-5CC3-4771-9171-E2C356FFAEB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F8C2CE-99FB-412A-9DB3-A4EA070DEBD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FED15D-FB67-4D5D-8CE4-C35FD5F8E1C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DBA98E-7811-4426-A403-03B5F1D55EE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43FD57-37B0-43D2-923C-823329E12A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7768A3-CA8E-408F-8959-2471814FD9C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2A42DB-7CDC-4E0C-96EE-293A5D347ED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5F7558-8DA8-44D3-A4CE-22758E43C12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295DC5-C9E7-43FC-9099-9BF4165AD72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D19D28-C524-4D55-BB34-367D57A7D19C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5FEAAC-F4C6-4778-9A0A-5E57664619D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B7D7CE-6ABF-4512-9A8C-4408BF57ADC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EA157B-721C-4EB7-8757-F4CC4452BC88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29A5D8-7A19-468D-9679-5DA075CAD67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FBC90E-A861-42EF-875A-1F613D34B6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F73D24-0F24-4587-9452-BD16CF8AA02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1DD2F2-231E-4D48-ADF4-898C3537DA8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E30EA2-4EBF-4F16-9C95-B60697A34BB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B1A78D-4437-4478-8332-9D4B1E2C2C7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BC24BB-D95B-4CFF-A992-901EE1C48E35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1B12FB-072F-4657-9228-06AAB8802D0E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9DD3E8-B130-40C3-B224-4129D9956030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41677A-3D5F-48A5-A9F7-8882CEC627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31680" y="-3168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51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64AEFF-228E-4640-9089-F903CC5FAE0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92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DDA179-0FBF-4751-90B5-B1237920753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F79B5A-2E3B-437A-92EC-CD82DB1F491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73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639D75-2E8F-4725-B603-99A3F987405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15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226B8A-0A71-4DA0-BD0E-5BE298E3BC0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4623F3-5E56-42A2-B450-E2E4BEB52F1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5F1013-4149-402A-8FD2-6DFC23B50A8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F1E0E6-2EBA-4838-B180-DDEB1C3667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321C52-6C52-4AB1-BF8A-C2CBC7617F0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D0A180-2BAA-460B-B991-D40E649D2E6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dt" idx="6"/>
          </p:nvPr>
        </p:nvSpPr>
        <p:spPr>
          <a:xfrm>
            <a:off x="274320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to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1F17F5-A80F-4B79-8FF1-5C8D58CB30B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Security &amp; Stability Advisory Committ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Jim Galv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Vice-Chai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urity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bilit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visor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mmittee (SSA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ed in 2001-2002, currently 36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s guidance to ICANN Board, SO’s and AC’s, staff and general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ance areas are related to ICANN’s missions DNS, addressing, IDN, registration services, WHOIS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D75D08-945E-42F1-8801-BF7690999FB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731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Main Point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EA9178-9FBA-49B0-81A4-9A9691C21C1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1760" y="1314360"/>
            <a:ext cx="75438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SAC051  - SSAC's recent publication on WHOIS structure and terminology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Internationa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Registration Data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IETF Restful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9:03:27Z</dcterms:created>
  <dc:creator>Julie Hedlund</dc:creator>
  <dc:description/>
  <dc:language>en-US</dc:language>
  <cp:lastModifiedBy>HU</cp:lastModifiedBy>
  <dcterms:modified xsi:type="dcterms:W3CDTF">2012-01-30T20:22:34Z</dcterms:modified>
  <cp:revision>24</cp:revision>
  <dc:subject/>
  <dc:title>Presentation Title</dc:title>
</cp:coreProperties>
</file>