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dt" idx="1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3DD732-A763-4F9B-AF83-66522E06F88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 type="ftr" idx="1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6"/>
          <p:cNvSpPr>
            <a:spLocks noGrp="1"/>
          </p:cNvSpPr>
          <p:nvPr>
            <p:ph type="sldNum" idx="1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B053C36-0170-4FCE-BF9D-DE2FBE2756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BF17FD6-53C6-4F54-81C4-C5D63DA8A5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2293DA2-7924-4B9B-B4CF-6DF774EA02C5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34B3E48-A4A2-41D6-9225-C3F366F7A2B2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5BCDF29-6DE2-4DD2-81A9-85692FD790A4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6A34C7D-3E9E-493D-87B2-431D0A686A84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6AB2E46-0A86-4FDE-8E37-0D35C222AD62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F0B7CB5-BA8C-4F2F-9FC4-5A9435223DAB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E5EF4BA-B399-4624-BB2A-454759AF54C5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545377C-A6A5-4602-AAFC-F6ADCE93B777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765CA1F-5728-4362-B4FF-E2FF6840C44C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C95174E-9281-4D72-BFEB-5A49682E2C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07E35F0-1DD1-4E3F-8399-A399AC597053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71D14E5-28E1-420D-AC48-DBBE23B596C7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7BB15B0-EB17-4831-B254-DA21A5F927FC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1969333-1331-4F17-B13E-B7F5A5F5C1F6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F434E8-7DA4-483A-867C-E9B0EA874DF0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B07FC02-51F3-4C99-BF5B-9B48491709AE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62FAA9E-6A08-44E1-97CD-836194811A5A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4774A9A-2E58-4898-B5B0-2665AC977004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B9E58F1-22F7-4C18-91EB-E162F71ABA2E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C239381-F9EC-43EA-9367-52414CB857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7C5CB4E-F797-46B7-B04F-656CD8F2AD47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321321-89A2-4151-BD70-2FA73E0BA58B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9BBAC5-37F9-4818-9166-CAC8B490F54B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4D7BE5-1BC0-46BE-8E5C-235C8F23C82A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C05CFE-C657-4CEF-89BE-E779726A1F1E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15E235-AD00-4BB5-B806-ACBBB6ACA586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3B982A-6BFE-41AF-97EA-FCE16EDDFFCA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2D4949-DA7C-4775-BCB9-297FF01E9846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4F4DC7-7B4A-4669-8FB2-20B37D2BA56D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6EBEFB-4976-4978-8C84-9E639DB573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F2F71D-8EE8-4580-B0D5-6FCEF2B958AF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2E7A77-4025-4CA7-AB32-51419A97867D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491C49-A5E1-4FA0-A342-00F28CB297F1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D3087E3-6297-4B07-9D07-AF29D811D30E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209C65E-F297-4EFB-82BA-B0B53C7B75CC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4828477-7B8E-44D2-BC75-AE0968B4B4F6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B8392BA-EE9F-418D-ADE5-E923985400AB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4799066-6968-4FD9-804F-7A8B1E5F5FED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BE2124B-5764-4B21-A313-450FB5FB3F69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79595BC-E8A1-4843-B267-803DADB9065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3C3BCA4-0AC5-4095-A4F2-8D08FE22796B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370361A-9B86-4DDD-8563-46807D33A62B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C61B955-EF55-4274-AFE5-DE82DC0A9593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F4366C9-3E5C-40A5-9EB2-CE0C7C84FA99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78D4050-7C9A-4873-A597-A43C47F53216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2F5C83D-24F1-4FF5-9248-38786ED3FEF3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7A4FDBD-C343-4A73-A49A-26A2A84D0F60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FF6DFBB-155C-4559-BFDB-061877F31502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7D566E0-88C9-49B3-BB9E-9FC787B265AF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0CD8136-CD2E-4C4F-BB49-87FF8E9BF3B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C6539BD-A1A4-4852-9671-2ECB7BFF448B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840E4E0-4160-448F-82AF-008F1D01816C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4CCA804-5F76-49B5-B4F2-60E3034A2579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03AA511-D1AD-499F-AB63-D509FDA91349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58F5390-86BF-4C1C-A848-13BF41086533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B4EDE9A-03EC-4E7A-8F4C-E5AE3C50E0F2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2929F8F-8AB5-4932-8D1A-0AB55B924C3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EA91C-04A9-471F-9568-CC336FD8B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4F672-08BE-4654-B547-F2CD2172D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32F32-142D-4835-A39E-218E073B4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780C1-A3A8-4D85-ADEB-7CCF0DE6E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BB919-FF42-4493-98E7-F35CCC539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3BB92-1DF6-4C14-A63E-A23FBEDE6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00A14-5AA4-4171-8DB2-9EE7F1FDD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31E37-A0AF-46C3-A9EB-224E21CC7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B8186-37D7-4478-9A4C-A517F3DDE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B4FA9-D134-4C1B-A9DD-001F85C7C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3476B-06A1-475A-9592-6A0C5EC08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E59F3-5C61-4095-8340-7AB4F8081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599F82-9DB3-4EBB-836A-8D2A2B656062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00DBC5-67F1-4ED0-9270-CA39C32189E1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CDF413-B0DE-44BA-9A9A-8E02F49D51EC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7E3729-B573-493E-A659-2A1F0AD72A41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B99668-DD0E-4BB6-8F9C-9A54CEF049DE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298A1C-75CA-4596-B522-3AE96766C931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B219E6-68AC-4F84-B281-AAAA3A7A12BD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AD2C8F-306A-44BC-A789-7E4DD0A7B1C2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566487-16E0-43FB-9607-105077622B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3CA0D5-ED53-448D-98D6-591E84FB4D7B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417967-D270-4846-B88C-9D0D10C3F6F8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424C4D-B644-4D02-87F4-2ADBC8A7A0A1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FA4068-B1A0-492C-8B00-2CA6A16D840A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19F5BF-06FF-486D-88CA-7E7016F0ECC9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22C012-E1BB-4141-90D9-E3D5F54F0178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15D68C-FF95-4D9E-95CA-41955424A17E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78DEBD-651C-4C57-819C-FEC40C38A5DA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46D08A-1FC6-41A9-9BCB-FDFE0CDFCE49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4858E1-8529-4E40-B231-55934AD764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F44DD4-7661-40EF-AD1C-09F8DD24186A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271E6D-95B2-49AA-82E5-8D3C46670F8F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EA1972-2773-4765-A7E5-3AAB4D930BE4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822DAC-871D-4736-AC7B-14D9C5495CD3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F55DCB-F9A2-4FB0-9FA3-DDD2B22B5638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1F078-3E55-4C58-A9D0-91B50E114F1A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BEE0F-ECC1-4D7C-9521-2C51BF4FC400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D387C-8CC4-4E29-8142-A9FAD914F742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8C89F-86E1-440C-A8D2-693C1A46FA40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750E8-F339-4A3E-B457-186B72E55A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CE588-FC62-4BE5-89AD-DF24EBC9460F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8C556-A4B1-47DB-93CF-8A93EDF05509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E3A83-B530-493E-B700-9F7E15E1833A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FA482-EB82-4022-911F-FC53C4CCF56F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E7973-FAA2-43EF-8C7E-98F5681753D9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4D57A-067F-40DD-B0C0-49A2358C9DE4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B858E-B3F7-4E50-90A4-C2E59A9EC017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D493648-F8B0-4990-B900-E2E5520D773F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3089C8F-0C87-48E0-9C0F-96A8A228C5E6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0DB4839-5528-45F9-A851-EEFCE4C49F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3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3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3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" descr=""/>
          <p:cNvPicPr/>
          <p:nvPr/>
        </p:nvPicPr>
        <p:blipFill>
          <a:blip r:embed="rId2"/>
          <a:stretch/>
        </p:blipFill>
        <p:spPr>
          <a:xfrm>
            <a:off x="-63360" y="-63360"/>
            <a:ext cx="9207360" cy="6921360"/>
          </a:xfrm>
          <a:prstGeom prst="rect">
            <a:avLst/>
          </a:prstGeom>
          <a:ln w="0">
            <a:noFill/>
          </a:ln>
        </p:spPr>
      </p:pic>
      <p:pic>
        <p:nvPicPr>
          <p:cNvPr id="1" name="Picture 4" descr="Prague44-logo-final-reverse-11M12-FINAL-nobackground_small.png"/>
          <p:cNvPicPr/>
          <p:nvPr/>
        </p:nvPicPr>
        <p:blipFill>
          <a:blip r:embed="rId3"/>
          <a:stretch/>
        </p:blipFill>
        <p:spPr>
          <a:xfrm>
            <a:off x="457200" y="5257800"/>
            <a:ext cx="1957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4" descr="Prague44-logo-final-11M12-FINAL-nobackground-small.png"/>
          <p:cNvPicPr/>
          <p:nvPr/>
        </p:nvPicPr>
        <p:blipFill>
          <a:blip r:embed="rId4"/>
          <a:stretch/>
        </p:blipFill>
        <p:spPr>
          <a:xfrm>
            <a:off x="436680" y="5257800"/>
            <a:ext cx="1957320" cy="1219320"/>
          </a:xfrm>
          <a:prstGeom prst="rect">
            <a:avLst/>
          </a:prstGeom>
          <a:ln w="0">
            <a:noFill/>
          </a:ln>
        </p:spPr>
      </p:pic>
      <p:sp>
        <p:nvSpPr>
          <p:cNvPr id="364" name="PlaceHolder 1"/>
          <p:cNvSpPr>
            <a:spLocks noGrp="1"/>
          </p:cNvSpPr>
          <p:nvPr>
            <p:ph type="sldNum" idx="8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C1291D-89C5-45E0-8C39-6A267D108A46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4" descr="Prague44-logo-final-11M12-FINAL-nobackground-small.png"/>
          <p:cNvPicPr/>
          <p:nvPr/>
        </p:nvPicPr>
        <p:blipFill>
          <a:blip r:embed="rId4"/>
          <a:stretch/>
        </p:blipFill>
        <p:spPr>
          <a:xfrm>
            <a:off x="436680" y="5257800"/>
            <a:ext cx="1957320" cy="1219320"/>
          </a:xfrm>
          <a:prstGeom prst="rect">
            <a:avLst/>
          </a:prstGeom>
          <a:ln w="0">
            <a:noFill/>
          </a:ln>
        </p:spPr>
      </p:pic>
      <p:sp>
        <p:nvSpPr>
          <p:cNvPr id="404" name="TextBox 4"/>
          <p:cNvSpPr/>
          <p:nvPr/>
        </p:nvSpPr>
        <p:spPr>
          <a:xfrm>
            <a:off x="3048120" y="4495680"/>
            <a:ext cx="553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Keep body copy short. Avoid reading the text to your aud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Box 5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  <a:ea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Num" idx="9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7C1B7AA-FD8D-4A54-9DBE-65B5BB1D3D88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445" name="Picture 4" descr="Prague44-logo-final-11M12-FINAL-nobackground-small.png"/>
          <p:cNvPicPr/>
          <p:nvPr/>
        </p:nvPicPr>
        <p:blipFill>
          <a:blip r:embed="rId4"/>
          <a:stretch/>
        </p:blipFill>
        <p:spPr>
          <a:xfrm>
            <a:off x="436680" y="5257800"/>
            <a:ext cx="1957320" cy="1219320"/>
          </a:xfrm>
          <a:prstGeom prst="rect">
            <a:avLst/>
          </a:prstGeom>
          <a:ln w="0">
            <a:noFill/>
          </a:ln>
        </p:spPr>
      </p:pic>
      <p:sp>
        <p:nvSpPr>
          <p:cNvPr id="446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  <a:ea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Num" idx="10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0EBE6C-319D-4082-87C4-04C09B3A1504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4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485" name="Picture 4" descr="Prague44-logo-final-11M12-FINAL-nobackground-small.png"/>
          <p:cNvPicPr/>
          <p:nvPr/>
        </p:nvPicPr>
        <p:blipFill>
          <a:blip r:embed="rId3"/>
          <a:stretch/>
        </p:blipFill>
        <p:spPr>
          <a:xfrm>
            <a:off x="457200" y="5257800"/>
            <a:ext cx="1957320" cy="1219320"/>
          </a:xfrm>
          <a:prstGeom prst="rect">
            <a:avLst/>
          </a:prstGeom>
          <a:ln w="0">
            <a:noFill/>
          </a:ln>
        </p:spPr>
      </p:pic>
      <p:sp>
        <p:nvSpPr>
          <p:cNvPr id="486" name="PlaceHolder 1"/>
          <p:cNvSpPr>
            <a:spLocks noGrp="1"/>
          </p:cNvSpPr>
          <p:nvPr>
            <p:ph type="sldNum" idx="11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0DCDDC-E0CF-4203-911A-EA860D51E0EF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39" name="Picture 13" descr="tagline.jpg"/>
          <p:cNvPicPr/>
          <p:nvPr/>
        </p:nvPicPr>
        <p:blipFill>
          <a:blip r:embed="rId3"/>
          <a:srcRect l="0" t="0" r="0" b="36540"/>
          <a:stretch/>
        </p:blipFill>
        <p:spPr>
          <a:xfrm>
            <a:off x="757080" y="2286000"/>
            <a:ext cx="1233720" cy="251460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14" descr="shadow_rule.jpg"/>
          <p:cNvPicPr/>
          <p:nvPr/>
        </p:nvPicPr>
        <p:blipFill>
          <a:blip r:embed="rId4"/>
          <a:stretch/>
        </p:blipFill>
        <p:spPr>
          <a:xfrm>
            <a:off x="2394000" y="611280"/>
            <a:ext cx="349200" cy="5408640"/>
          </a:xfrm>
          <a:prstGeom prst="rect">
            <a:avLst/>
          </a:prstGeom>
          <a:ln w="0">
            <a:noFill/>
          </a:ln>
        </p:spPr>
      </p:pic>
      <p:pic>
        <p:nvPicPr>
          <p:cNvPr id="41" name="Picture 5" descr="Prague44-logo-final-11M12-FINAL-nobackground-small.png"/>
          <p:cNvPicPr/>
          <p:nvPr/>
        </p:nvPicPr>
        <p:blipFill>
          <a:blip r:embed="rId5"/>
          <a:stretch/>
        </p:blipFill>
        <p:spPr>
          <a:xfrm>
            <a:off x="436680" y="5257800"/>
            <a:ext cx="1957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4" descr="Prague44-logo-final-11M12-FINAL-nobackground-small.png"/>
          <p:cNvPicPr/>
          <p:nvPr/>
        </p:nvPicPr>
        <p:blipFill>
          <a:blip r:embed="rId4"/>
          <a:stretch/>
        </p:blipFill>
        <p:spPr>
          <a:xfrm>
            <a:off x="436680" y="5257800"/>
            <a:ext cx="1957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4" descr="Prague44-logo-final-11M12-FINAL-nobackground-small.png"/>
          <p:cNvPicPr/>
          <p:nvPr/>
        </p:nvPicPr>
        <p:blipFill>
          <a:blip r:embed="rId3"/>
          <a:stretch/>
        </p:blipFill>
        <p:spPr>
          <a:xfrm>
            <a:off x="457200" y="5257800"/>
            <a:ext cx="1957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F1B8A7-13C0-4470-9C7F-B1803C29A81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ACC5838-6161-4EFC-BAEC-BE29732D60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3" descr="tagline.jpg"/>
          <p:cNvPicPr/>
          <p:nvPr/>
        </p:nvPicPr>
        <p:blipFill>
          <a:blip r:embed="rId3"/>
          <a:srcRect l="0" t="0" r="0" b="36540"/>
          <a:stretch/>
        </p:blipFill>
        <p:spPr>
          <a:xfrm>
            <a:off x="757080" y="2286000"/>
            <a:ext cx="1233720" cy="251460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4" descr="shadow_rule.jpg"/>
          <p:cNvPicPr/>
          <p:nvPr/>
        </p:nvPicPr>
        <p:blipFill>
          <a:blip r:embed="rId4"/>
          <a:stretch/>
        </p:blipFill>
        <p:spPr>
          <a:xfrm>
            <a:off x="2394000" y="611280"/>
            <a:ext cx="349200" cy="540864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5" descr="Prague44-logo-final-11M12-FINAL-nobackground-small.png"/>
          <p:cNvPicPr/>
          <p:nvPr/>
        </p:nvPicPr>
        <p:blipFill>
          <a:blip r:embed="rId5"/>
          <a:stretch/>
        </p:blipFill>
        <p:spPr>
          <a:xfrm>
            <a:off x="436680" y="5257800"/>
            <a:ext cx="1957320" cy="121932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1"/>
          <p:cNvSpPr>
            <a:spLocks noGrp="1"/>
          </p:cNvSpPr>
          <p:nvPr>
            <p:ph type="sldNum" idx="4"/>
          </p:nvPr>
        </p:nvSpPr>
        <p:spPr>
          <a:xfrm>
            <a:off x="69004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DCAB9C-9C3E-4EA7-BD9F-D0BCE5971E7A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4" descr="Prague44-logo-final-11M12-FINAL-nobackground-small.png"/>
          <p:cNvPicPr/>
          <p:nvPr/>
        </p:nvPicPr>
        <p:blipFill>
          <a:blip r:embed="rId4"/>
          <a:stretch/>
        </p:blipFill>
        <p:spPr>
          <a:xfrm>
            <a:off x="436680" y="5257800"/>
            <a:ext cx="1957320" cy="1219320"/>
          </a:xfrm>
          <a:prstGeom prst="rect">
            <a:avLst/>
          </a:prstGeom>
          <a:ln w="0">
            <a:noFill/>
          </a:ln>
        </p:spPr>
      </p:pic>
      <p:sp>
        <p:nvSpPr>
          <p:cNvPr id="242" name="PlaceHolder 1"/>
          <p:cNvSpPr>
            <a:spLocks noGrp="1"/>
          </p:cNvSpPr>
          <p:nvPr>
            <p:ph type="sldNum" idx="5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9B961C0-5D0C-4F5A-8979-B14DCBC40016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4" descr="Prague44-logo-final-11M12-FINAL-nobackground-small.png"/>
          <p:cNvPicPr/>
          <p:nvPr/>
        </p:nvPicPr>
        <p:blipFill>
          <a:blip r:embed="rId4"/>
          <a:stretch/>
        </p:blipFill>
        <p:spPr>
          <a:xfrm>
            <a:off x="436680" y="5257800"/>
            <a:ext cx="1957320" cy="1219320"/>
          </a:xfrm>
          <a:prstGeom prst="rect">
            <a:avLst/>
          </a:prstGeom>
          <a:ln w="0">
            <a:noFill/>
          </a:ln>
        </p:spPr>
      </p:pic>
      <p:sp>
        <p:nvSpPr>
          <p:cNvPr id="282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  <a:ea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Num" idx="6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6F17244-06C1-457B-A94E-DED29AD21823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4" descr="Prague44-logo-final-11M12-FINAL-nobackground-small.png"/>
          <p:cNvPicPr/>
          <p:nvPr/>
        </p:nvPicPr>
        <p:blipFill>
          <a:blip r:embed="rId4"/>
          <a:stretch/>
        </p:blipFill>
        <p:spPr>
          <a:xfrm>
            <a:off x="436680" y="5257800"/>
            <a:ext cx="1957320" cy="1219320"/>
          </a:xfrm>
          <a:prstGeom prst="rect">
            <a:avLst/>
          </a:prstGeom>
          <a:ln w="0">
            <a:noFill/>
          </a:ln>
        </p:spPr>
      </p:pic>
      <p:sp>
        <p:nvSpPr>
          <p:cNvPr id="323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  <a:ea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Num" idx="7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1F895A5-7ACC-401D-84E2-219105200989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Presentation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subTitle"/>
          </p:nvPr>
        </p:nvSpPr>
        <p:spPr>
          <a:xfrm>
            <a:off x="1371600" y="2895480"/>
            <a:ext cx="6400800" cy="20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2" name="Picture 1" descr="IC_AtLarge_Logo.png"/>
          <p:cNvPicPr/>
          <p:nvPr/>
        </p:nvPicPr>
        <p:blipFill>
          <a:blip r:embed="rId1"/>
          <a:stretch/>
        </p:blipFill>
        <p:spPr>
          <a:xfrm>
            <a:off x="7467480" y="152280"/>
            <a:ext cx="1527120" cy="16369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2676600" y="2057400"/>
            <a:ext cx="616248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Trebuchet MS"/>
                <a:ea typeface="Trebuchet MS"/>
              </a:rPr>
              <a:t>Transition Slide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subTitle"/>
          </p:nvPr>
        </p:nvSpPr>
        <p:spPr>
          <a:xfrm>
            <a:off x="2666520" y="3429000"/>
            <a:ext cx="6172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rebuchet MS"/>
                <a:ea typeface="Trebuchet MS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Slide Number Placeholder 3"/>
          <p:cNvSpPr/>
          <p:nvPr/>
        </p:nvSpPr>
        <p:spPr>
          <a:xfrm>
            <a:off x="690084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80B306-E55B-4214-A289-1ACB324C29C8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6" name="Picture 1" descr="IC_AtLarge_Logo.png"/>
          <p:cNvPicPr/>
          <p:nvPr/>
        </p:nvPicPr>
        <p:blipFill>
          <a:blip r:embed="rId1"/>
          <a:stretch/>
        </p:blipFill>
        <p:spPr>
          <a:xfrm>
            <a:off x="152280" y="4862520"/>
            <a:ext cx="725760" cy="7761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7f7f7f"/>
              </a:solidFill>
              <a:latin typeface="Trebuchet MS"/>
              <a:ea typeface="Trebuchet MS"/>
            </a:endParaRPr>
          </a:p>
        </p:txBody>
      </p:sp>
      <p:sp>
        <p:nvSpPr>
          <p:cNvPr id="538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FD4722-953D-4927-9821-5EF7D2E4C07F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Picture 1" descr="IC_AtLarge_Logo.png"/>
          <p:cNvPicPr/>
          <p:nvPr/>
        </p:nvPicPr>
        <p:blipFill>
          <a:blip r:embed="rId1"/>
          <a:stretch/>
        </p:blipFill>
        <p:spPr>
          <a:xfrm>
            <a:off x="152280" y="4862520"/>
            <a:ext cx="725760" cy="7761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Trebuchet MS"/>
              <a:ea typeface="Trebuchet MS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3047760" y="1600200"/>
            <a:ext cx="56386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BA472F-F039-477F-AD9D-0F0F0ACCC633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3" name="Picture 1" descr="IC_AtLarge_Logo.png"/>
          <p:cNvPicPr/>
          <p:nvPr/>
        </p:nvPicPr>
        <p:blipFill>
          <a:blip r:embed="rId1"/>
          <a:stretch/>
        </p:blipFill>
        <p:spPr>
          <a:xfrm>
            <a:off x="152280" y="4862520"/>
            <a:ext cx="725760" cy="7761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Trebuchet MS"/>
              <a:ea typeface="Trebuchet MS"/>
            </a:endParaRPr>
          </a:p>
        </p:txBody>
      </p:sp>
      <p:sp>
        <p:nvSpPr>
          <p:cNvPr id="545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61FDE2-7F6F-42F4-BF3F-E2CE66C29747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6" name="Picture 1" descr="IC_AtLarge_Logo.png"/>
          <p:cNvPicPr/>
          <p:nvPr/>
        </p:nvPicPr>
        <p:blipFill>
          <a:blip r:embed="rId1"/>
          <a:stretch/>
        </p:blipFill>
        <p:spPr>
          <a:xfrm>
            <a:off x="152280" y="4862520"/>
            <a:ext cx="725760" cy="7761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85800" y="2800440"/>
            <a:ext cx="777240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  <a:ea typeface="Trebuchet MS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8" name="Picture 1" descr="IC_AtLarge_Logo.png"/>
          <p:cNvPicPr/>
          <p:nvPr/>
        </p:nvPicPr>
        <p:blipFill>
          <a:blip r:embed="rId1"/>
          <a:stretch/>
        </p:blipFill>
        <p:spPr>
          <a:xfrm>
            <a:off x="7467480" y="152280"/>
            <a:ext cx="1527120" cy="16369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2676600" y="2057400"/>
            <a:ext cx="616248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Trebuchet MS"/>
                <a:ea typeface="Trebuchet MS"/>
              </a:rPr>
              <a:t>Questions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50" name="Slide Number Placeholder 3"/>
          <p:cNvSpPr/>
          <p:nvPr/>
        </p:nvSpPr>
        <p:spPr>
          <a:xfrm>
            <a:off x="690084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5AF1342-E742-42DF-8137-8943C4254A40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1" name="Picture 1" descr="IC_AtLarge_Logo.png"/>
          <p:cNvPicPr/>
          <p:nvPr/>
        </p:nvPicPr>
        <p:blipFill>
          <a:blip r:embed="rId1"/>
          <a:stretch/>
        </p:blipFill>
        <p:spPr>
          <a:xfrm>
            <a:off x="152280" y="4862520"/>
            <a:ext cx="725760" cy="7761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8T21:45:59Z</dcterms:created>
  <dc:creator>Lynn Lipinski</dc:creator>
  <dc:description/>
  <cp:keywords/>
  <dc:language>en-US</dc:language>
  <cp:lastModifiedBy>Matt Ashtiani</cp:lastModifiedBy>
  <dcterms:modified xsi:type="dcterms:W3CDTF">2012-05-29T21:17:32Z</dcterms:modified>
  <cp:revision>21</cp:revision>
  <dc:subject/>
  <dc:title>Presentation Title</dc:title>
</cp:coreProperties>
</file>