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D7B4C-E931-4059-A02F-948C93C022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AA0C3-05AD-47A7-9AEE-C3FC4063D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812012-7FD0-46D0-B9B1-900B24D20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6C31C9-62B3-400C-9EBF-FCCBAEFB372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84933-FB7D-4A4E-B862-3F036348D4B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16448-D83F-401C-8FA3-5E1AF2DBD21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0659DA-C853-4D8D-A9EC-7481CB96DAB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6C7733-A459-4047-8940-836EF30373D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41AA6-9FDA-4630-A4E4-91E9BB2DEE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1D1446-8E8B-47CF-BA4E-B9D4050F228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2E168-090B-4C26-95E4-50A27F99EB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0FD5A-3BE6-45C9-B518-2456DAA323E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8417C-FBAD-4EAA-AD9F-1D34FE768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B32A8-2E3B-43CF-95AC-27ADBB5554D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032A1-3C92-42F5-A965-71CD58688F2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0BF65-8C62-4219-BC21-3CD81D84E8B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2A36C-A420-4610-A534-1F1F0985E8E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B4E10-D263-476E-961C-9DC2227E984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51411-4B3B-446E-94C0-E97926BC604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1C0CFE-7EAC-4BFA-B171-D70A6BA29EC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D1789-BC9C-4B43-9407-8F6676EA7AF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11162-88FC-447F-8382-E22445AB09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DB3EB-0DBC-4C32-89E4-2CF482B46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3939BE-CAED-47CA-909E-3AD0033D946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094C-BA51-4EF5-A440-A8645C96093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5C43-7EAA-4F46-BFFF-557DFB5A1A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A52AF-253C-4B64-BBEF-7397C9CCE8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92AD-1EB8-472B-915F-110CC568F1F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AEE43-12DC-4D24-AEAE-E395D0A2D05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7EEE5-36F2-48FF-AA8C-29410379605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7DD52-918F-47A0-AF95-5E23FC1F3E6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DCF6-2499-457C-BE84-4EE091BD25A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008F-CFE4-4317-8EF9-AD9FCB378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3B9F-F02B-4D26-8061-9293E7E641B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D824-DA16-4FE3-988A-98A83F41E8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15415-C9BD-4BE9-ACF3-2B575CE72C2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5CA67-6103-40C7-9D0E-4A9991EE0EB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765CD-F35E-4299-A91D-6D50CA37D13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868B58-4045-4500-8477-D3C7177BCC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08135B-88BD-47D2-A11C-4048A20FD3A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36696D-C0C5-47FC-8E16-6F391BD014E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5CC75-3B26-4613-83E4-9DF32C16983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3D1EC6-BF02-4D60-BC03-3D36DA537E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265DF-0814-4E5C-B5E9-AE65BE18F3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83104-8DB6-4501-B6F9-69944499A8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0FC87-92EE-487D-8FAB-EBD889C70EA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6A3D4-18D5-4A77-9596-A0526C0D792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75E7A-5BA3-4647-8C58-70EC1D4851A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B3CE2C-21B7-4B04-B502-58EBBFEAE42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54DB1-7B2D-4BEF-8585-0F4122D52CD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7914B-2A34-429A-A63C-E7D816EEC9B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1B954-E5AA-457C-90A1-081CD7B253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6C793B-321F-4D7B-9A67-07CF0DC5AC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0261D-528E-4FB4-8B8F-F1D95D0BA0C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EC954-5FEF-45B5-875D-92A208A3E03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9EC80-3F38-4B63-80EF-FE742A762CE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696580-82CB-4BC4-9C17-62C1D8C2AE7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81148-7F4F-4892-AF9C-C355D64ECD7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BEEBCE-EC33-4637-B05D-E9FE5D66001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FD16C-8F63-4717-8D60-0B6C6A3BE2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E6B-EAA9-4E15-88D1-6882CD09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EF3-D7D4-4A1D-A38E-F38E9C01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7BA-E626-4B0B-8434-4A492580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21A8-301B-4D3F-A312-D4C9440D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FCD-DFF5-41B1-B4ED-A13AA6E5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BE2-7443-4138-BB6C-C93B46E8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3B2-BF63-418E-BD9B-DD156434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5CAC-D5CD-4EC4-84F4-17361F18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2F5-83C9-4431-A5E6-53CA0596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B8B-5F41-4075-9D1C-4DE76EAB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D605-204D-4564-993C-DBCA3E7B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131-800A-4DC0-8B13-9EA3B51F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B0FC0-21D4-48A2-8013-4DB5A9C0AA7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C6A1D-A8E6-443E-99B7-A3F10286CB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0FE4D-9590-49B4-93BF-EA9F1F466B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DA91D-8DF5-43BD-82E7-0E3799030C2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CA7BD-E0FE-456A-A557-4DA5F6059A7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AA60B-D37D-409A-87CB-71A4FCCA099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EA842-38CF-41F6-963E-1E1BFE18DC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34764-B227-460C-A507-F0C974A395B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AEE2D-ABA9-475A-85EF-46E87C6C6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77768-3D84-4E6C-AAA9-EA14B37C02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F4392-E197-47D7-A050-E26924F7A57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2EF9C-BD9E-4A56-A730-6670DB3ED23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522CB-997C-4D33-B38F-48121B3D94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8605-522A-4F94-9F99-C16C4925C6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3F2A3-E2C2-446E-98C7-1B9A869644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11A06-815A-48DB-A02F-DDED6168142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2E8A1-26B1-4B6B-9EBC-C54DCC48405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F9EE4-BA85-4C8F-817B-25106B2259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9484D-5FF1-4393-B793-3F61E7418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51C6D-EC3D-40C9-B7E0-A159B3AC3BA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4B59E-5A7D-40A0-A699-E7EE21D877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80D4F-D027-4E65-B537-BB0065E3732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BC703-2E61-41A0-838D-D8FCAD95B72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9AA3C-A93F-432F-8BBA-07A13C34173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BD87-A651-44EA-B006-51D1B42ED34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07F6-24A5-40BE-8794-FD247592E12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EA5-CAA0-48BA-9895-37C6245925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7A5C-5423-4913-AC03-A85AC2407E8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1846-584E-4DAA-8002-E076AAA0A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7E19-1AB0-47DE-94CC-61BE5200789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DA6D-F19E-4AEB-8AEC-B5EC597FAF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7AE0-C1F5-4472-BCF1-F492A66F544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AFF5-91C2-48B2-8777-DDC22181A02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FB93-3035-4B44-BE7B-382087E0B9B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FB57-BE93-41F3-8CFC-80257533D23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AE8B-9DA6-4BA8-857B-6FBD24FE404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98511E-793D-4529-BC96-7771F5A5173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7687D-7007-499B-84E8-DB532CBB729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3586A-41B0-4703-A52F-3120CBDF8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63360" y="-63360"/>
            <a:ext cx="9207360" cy="6921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Prague44-logo-final-reverse-11M12-FINAL-nobackground_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07228-8341-4544-AC3D-64799F8E088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76A72-FB5F-4059-B263-E7A199696CA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DE6C9-9240-49CA-B5C1-5B133C6458A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C6530-1DDE-40E5-93E5-B93BC29A95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Prague44-logo-final-11M12-FINAL-nobackground-small.png"/>
          <p:cNvPicPr/>
          <p:nvPr/>
        </p:nvPicPr>
        <p:blipFill>
          <a:blip r:embed="rId3"/>
          <a:stretch/>
        </p:blipFill>
        <p:spPr>
          <a:xfrm>
            <a:off x="457200" y="5257800"/>
            <a:ext cx="1957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AEBC2-3E80-448E-8CFC-CBE1048877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DCF5B-9945-4D78-AA11-B427549E4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tagline.jpg"/>
          <p:cNvPicPr/>
          <p:nvPr/>
        </p:nvPicPr>
        <p:blipFill>
          <a:blip r:embed="rId3"/>
          <a:srcRect l="0" t="0" r="0" b="36540"/>
          <a:stretch/>
        </p:blipFill>
        <p:spPr>
          <a:xfrm>
            <a:off x="757080" y="2286000"/>
            <a:ext cx="1233720" cy="2514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shadow_rule.jpg"/>
          <p:cNvPicPr/>
          <p:nvPr/>
        </p:nvPicPr>
        <p:blipFill>
          <a:blip r:embed="rId4"/>
          <a:stretch/>
        </p:blipFill>
        <p:spPr>
          <a:xfrm>
            <a:off x="2394000" y="611280"/>
            <a:ext cx="349200" cy="540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rague44-logo-final-11M12-FINAL-nobackground-small.png"/>
          <p:cNvPicPr/>
          <p:nvPr/>
        </p:nvPicPr>
        <p:blipFill>
          <a:blip r:embed="rId5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CD105-699D-4C1B-BD05-30A1EB8C534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0375A-9386-4A9D-8421-1D49C0E3808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Num" idx="6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4FCCD-31A5-4FD8-9556-8F3AF58AD3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Prague44-logo-final-11M12-FINAL-nobackground-small.png"/>
          <p:cNvPicPr/>
          <p:nvPr/>
        </p:nvPicPr>
        <p:blipFill>
          <a:blip r:embed="rId4"/>
          <a:stretch/>
        </p:blipFill>
        <p:spPr>
          <a:xfrm>
            <a:off x="436680" y="5257800"/>
            <a:ext cx="1957320" cy="1219320"/>
          </a:xfrm>
          <a:prstGeom prst="rect">
            <a:avLst/>
          </a:prstGeom>
          <a:ln w="0">
            <a:noFill/>
          </a:ln>
        </p:spPr>
      </p:pic>
      <p:sp>
        <p:nvSpPr>
          <p:cNvPr id="323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E45B7E-D383-49A9-9320-600F2DE266B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Transition Slide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462D7-004D-4361-B0D8-6F82E1F946C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83856-E3FA-48B7-9317-BF2138AF02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CF5F9-45B7-4004-8A08-3DB813FE08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Trebuchet MS"/>
              <a:ea typeface="Trebuchet MS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BBFB2-C18B-4AE0-85D5-5C7FA17F62D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800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  <a:ea typeface="Trebuchet MS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IC_AtLarge_Logo.png"/>
          <p:cNvPicPr/>
          <p:nvPr/>
        </p:nvPicPr>
        <p:blipFill>
          <a:blip r:embed="rId1"/>
          <a:stretch/>
        </p:blipFill>
        <p:spPr>
          <a:xfrm>
            <a:off x="7467480" y="152280"/>
            <a:ext cx="1527120" cy="163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676600" y="2057400"/>
            <a:ext cx="616248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Question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690084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A94F5-BA10-4866-B8DD-71FF0125152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" descr="IC_AtLarge_Logo.png"/>
          <p:cNvPicPr/>
          <p:nvPr/>
        </p:nvPicPr>
        <p:blipFill>
          <a:blip r:embed="rId1"/>
          <a:stretch/>
        </p:blipFill>
        <p:spPr>
          <a:xfrm>
            <a:off x="152280" y="4862520"/>
            <a:ext cx="725760" cy="776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21:45:59Z</dcterms:created>
  <dc:creator>Lynn Lipinski</dc:creator>
  <dc:description/>
  <cp:keywords/>
  <dc:language>en-US</dc:language>
  <cp:lastModifiedBy>Matt Ashtiani</cp:lastModifiedBy>
  <dcterms:modified xsi:type="dcterms:W3CDTF">2012-05-29T21:17:32Z</dcterms:modified>
  <cp:revision>21</cp:revision>
  <dc:subject/>
  <dc:title>Presentation Title</dc:title>
</cp:coreProperties>
</file>