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6E715-2430-484C-B039-4BA8674E67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FA989-3947-4E76-A45B-6F16486DA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C7551-760E-4D55-A008-C053A718D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F84FBF-9310-43D2-AA99-5C0BC9B0377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70C032-3021-4B52-AC5C-77BB369D9B3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9D2EE5-9CF1-4096-B146-CF2A66A236A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28A03C-DE71-4604-B478-F7EFE381D1E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2A8187-B472-49D5-A12E-4970B6200A1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1AB65A-84E3-4115-93B0-1F4B6108D74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5CDDD6-2500-490D-BE05-3C7FAB4CD22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57F067-9F79-4898-87FC-951CC64339A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6A6ED6-C3E6-4F73-9D0D-F9EC1BBF78C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0119C-52B0-4F7F-9A1B-454FBF36F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D6F75-0C31-4FEE-9CB5-C3807F7660F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862BB-8951-4D4A-8A5B-B59F783C304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35C42-95E1-429B-935B-3BD4C987421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DA92B-5A86-4841-8DFA-42D8074F3D0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A2449-1943-4DD2-BD95-C531E132167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11317-A3B1-47B5-9636-7FEA4192721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37672-773C-4764-AF5B-CCFFBF16FDD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5903C-F5A7-424F-BBA4-753BBBFAD4A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86C1A-7AA0-430F-9B99-6EE2410F7CA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844C4-DB1A-40E9-BCAE-700392D68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8EB21-99A6-490C-8716-D3781BC46B2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66820-BDBE-42D3-984A-BBDD645B23D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2AA1E-2EAF-46DA-86B2-631FC6CBA31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25E9-4190-4CC5-85CF-53309C921F3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11186-E73B-49B2-B420-00695209314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52766-CE65-4A6B-8A1C-90E5D6FC0C6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9D55D-92F2-4A6D-A63D-5F2EC7FAA24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910A9-A29F-4F11-ABCE-0D986935960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3BD73-3698-4F23-904A-A7092F5958C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D30C4-DDD5-49AC-86A4-D4F9EAB6F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BD2B9-C529-43C0-A9CD-885BD753186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C0A13-11B4-4D0B-927E-31109C0674E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E46C5-A686-4657-9510-C767842DF56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D25A17-5818-4448-8885-BF84B6DF33F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F7F33F-01AC-4A81-8CC7-DDEF1A3D42E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45EBFD-064B-4B5A-B27D-B84F008A809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DB8C6A-6A44-4A6D-94D3-3792A0670FA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1D4C37-487B-4B54-AFCB-9D55C6F4AD0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BC3DC4-0911-4E3E-B531-7D84AFC1BF4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63B20D-FD60-4666-80EF-CAFA2247DD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230940-D9D3-4A83-87FC-C1657825B90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8162AF-4389-44BB-B65B-8BD98C97627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D34D72-B7E4-468A-B82F-101888B38CC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D7E554-E346-438B-BBC0-D14E0ADDDC8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339346-0FE4-474D-B1BB-A8FF9AB691C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56379D-C0FE-4602-B7DD-581ABE98B21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7704E1-6BD8-4B81-86B9-74DF14E242A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E88A1-676A-4869-B2A0-13F77BB9EE4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3A6CB-2A48-4CEF-B808-7EF7724CF43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17C630-F09E-4B3E-A0B2-F5B785EAA3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BB4B8F-775F-41C1-BF98-68C385A7924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82EDC1-529A-40CE-8C45-0D365464A4B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06469-C8E7-4B83-8862-35016599A93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CF6428-0C39-4DA8-B129-238036DEB0B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85C1E0-B651-42FD-AC99-E34CE01ADC7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008E09-B62E-4268-809C-750233E9B03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DADC04-021B-4A19-984E-CA42F0A51E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C5B4-BAE2-4251-AD4C-650E6F85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B47-8774-46E9-9AB9-FD3199E0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7AE9-B1D6-42DF-A3E9-22DCAB2C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1CB-1331-4D04-B328-C5621B66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A39-A1F0-4D8E-AABC-30239C64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C99-2C24-477B-8F7E-84C573CA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BEC-4908-425F-AD73-A211BA60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A3F-72A5-4783-ACF0-0836B4F9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C9C-7CD1-41F6-8C13-BD12B096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097-6461-48F4-A010-CBAC14AB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8248-D2CF-4215-A6D1-349604A6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346-787D-4026-815B-29A98F46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5086E-1913-4147-ABF3-CF366A7652E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AEB81-6259-4AD4-B8E5-D6ECF38E320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9013C-A340-4382-90B9-6E716546CAA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D3AB8-0B4D-4D3D-A45B-EE329A345D1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915EA-BB09-4201-962E-AD48FE4C817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9FBD8-97A2-438A-9797-AA365CB5AF2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C331B-5A21-44B3-8E38-FB6B10DC0E8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6BD71-0BAD-48F3-AB8A-BB87965D57B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95D80-485C-4CA6-86C8-75C921868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BB4D8-87F9-4A32-9C58-39C55FCD8CD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A2A44-987C-471D-BAE6-EA02D3E4DD3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4B371-DAE1-488E-BF4C-339B0BDE150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C7F89-21FB-4C11-B073-CE6DB8038EF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84235-E13B-4F64-99C8-E4390287D4E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C78C0-5992-47E3-8C2E-3426139088F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706D7-90EF-4FA8-98E8-C405CEC2DCA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39DA0-3325-4999-920E-E5D279A485D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CB470-FFDC-4341-8436-76908134230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0A18F-5B94-4D9B-8042-673BA2432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EF68D-79F0-4AD3-B557-868C7530BA6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F9F0C-8346-44FF-809C-40783946B20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108E3-BD32-4513-ACA4-C97F13AA2B3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5EFDC-BAC4-42A0-8847-ACCFF65CBFF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8C635-4F3E-414A-9173-980A7E6F743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26A5-78E1-474E-874C-041278AFB46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C7A2-75A8-48D9-99BF-93CAE7225F4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813D-4747-40D8-ADE0-E7B0300F80A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36CD-99E6-4C90-A7F5-07469AF5C47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706D-7A33-411C-A7ED-800286723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727F-708F-46A2-85CB-3E978C38BCB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33F4-A7B4-4FA6-B53D-5285BA6D854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528D-68B0-4000-A373-E2C27054681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C51D-0D2D-4ED3-B885-4A64D58AAC0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D263-CA5B-4263-BCC5-9CBD457BD4F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2437-1E51-4EEE-9306-C9EE8CBFF7D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2BBC-1414-404B-81F4-D9CEA548606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171763-D4C1-4AE6-9D32-8ADDD66DCA8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21B246-F328-4903-91E1-3DF12698688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BC50A0-010F-4AA1-9041-D98B56767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Prague44-logo-final-reverse-11M12-FINAL-nobackground_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A6783-3CFD-4A18-B276-DCC6CACFED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9D918-D208-4638-BAE7-349B8A6C00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3E0F9-2A36-4F9F-9CD0-6C93CB8D85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72C05-6439-4339-827A-F1775623ED8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EF7DE-9EC1-4D7E-B5C3-DD0033A705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51D40-FE01-4071-A347-AE7E088A2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8C6B8-ED8B-405F-9372-7E7FE938F58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335C1-F351-48F2-AEFB-5D4C377D54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69BC6-6B5E-4396-ABD0-4A0B98F1052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665D5-26C6-4AEB-A6D2-1F3028D9F34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0D880-83CD-46C3-BED0-4B8F3AA7E5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3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D9861-8566-43FC-88F8-679FF4B7A5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935C2-61C0-4A21-A3E4-E4728A85C3C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4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F8491-E2AA-427D-BCF5-0F3F24FD8DB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FF1EE-8722-452E-AF83-503EA54E968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1:45:59Z</dcterms:created>
  <dc:creator>Lynn Lipinski</dc:creator>
  <dc:description/>
  <cp:keywords/>
  <dc:language>en-US</dc:language>
  <cp:lastModifiedBy>Matt Ashtiani</cp:lastModifiedBy>
  <dcterms:modified xsi:type="dcterms:W3CDTF">2012-05-29T21:17:32Z</dcterms:modified>
  <cp:revision>21</cp:revision>
  <dc:subject/>
  <dc:title>Presentation Title</dc:title>
</cp:coreProperties>
</file>