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3C2AA-3EA6-4595-B413-B496B71D8B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BC5B2-ABE8-49F1-A4A1-BFDBC932D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48788-C210-428F-B746-9735215E4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CECEE7-82CA-4F6F-9785-A510035B5C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F6664-45D6-4F40-AA7D-1242E040ECC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D28107-2394-4DCE-8494-65918117558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7655A-86A6-4A2A-A185-4B19427A35F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69637-9722-40F1-AC78-9ECD454B7F1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C525C-8B88-4673-AD7E-17B0AFCD53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951F60-0607-46CE-A894-FA31CCFD029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2B4FBB-909D-411B-861E-AE41998C380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6C705-4C3F-40AC-A4BA-44AB65A0E67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2E43F6-AC06-4C91-B1ED-72AC83734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DBED3-CE8A-415F-87DB-AAF54CF00B0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8DE42-3E05-4F69-B1D5-B7BC46785B3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A746DC-FBDC-43EF-866E-ACBBBA34317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110B1-B1BF-4CE1-89E7-257E9057CA2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BA027-E27B-4169-B299-6583348F876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F7AC2-2AA8-411E-952E-CD5A96B7284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5E80E-3D68-4DF7-B91B-0338F4AAC99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EAECB8-07CD-4B56-888A-889CB9963B9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6DF92-EEB6-4ADB-80B7-4025AF50D57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EFCFE-EAEC-4357-B04C-48B964A98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3EA1A-6E82-460A-987B-439367B57F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D7848-B37B-46EA-90E9-0AD653477C7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0D9F-A883-4984-BAD3-01ACC0F5A45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C6C2-96B8-4881-9F77-20A37F2E8E6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B785-3AED-4170-AE3A-A0171081931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3B1CA-1EC6-4DB3-895F-1F00FBD2476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76E37-C445-4E06-8A53-3ED7E103D97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466F-4319-448A-8951-53D087F07D5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CF92E-B95D-4B45-8584-25C4232A21F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86D47-588F-41F1-8D8C-82734CEDE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EB18C-B05E-41C1-8147-AC86C33C087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2669-8DC7-45B2-9FD4-D5A4EA32B50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C3736-8EFF-4413-94D2-DE5BDF7F795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88C146-581F-405B-9905-D5DC2FDDB69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41FF2-D719-4254-9932-9C8A8BC71A5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8B096E-9A8D-4B18-9F4C-BE000FB7A97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89B725-1F70-4199-871A-44A855E6CA0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3C6776-6D68-4B43-A048-53C7EA98A8D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F58A98-95BF-4635-9BBB-45FD84EE702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DD1C5A-30BE-4B29-8482-DC5D1C6F00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3FF28-5844-4A7C-897E-EE53AD066EC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1880EB-F593-423F-BBB5-2248DBE96FE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4BEF9D-64F8-41CC-B8ED-9BA99CA9094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E34C79-D2BB-4B2C-9882-D4EF89BD541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FCE41-6428-41A8-AF77-AB1DC29F2C0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517A7C-047C-48EE-A82A-747FADF6A2C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32928-BFE2-4E5C-BC47-AF1DB8F9407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ACB42-F4CF-428E-BAC9-A271224111D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4AE8B6-92EA-43D8-913D-305B7238C3A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E9F8A7-C6C2-441A-9B9C-75B826127C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90DE5-D1CF-4232-B83A-DED5D6F9B71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DADFE-7221-4248-815C-1F354BA14B6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C7F48-0EA8-496E-B054-DAB79965703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201841-7515-4EB4-B88E-A3E871D5B74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1C44C-7168-48BA-AC16-AA97215C06D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8B693-C4BE-4E97-90ED-CD32E1439ED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1363D-E391-4E24-B996-81A153C491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D4C6-2CA8-4EC6-A6AB-7F0F705E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CF5-B6F4-4BBB-A819-DC6FDC94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208E-70B3-4773-AD3B-7E5A4DF2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5AE-4C56-431A-AE59-ADB919CC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655-61DD-4E4B-B3E9-F3D4E3D9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418-254D-4980-9C81-2C6CA61E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D56-E323-4B49-A9DF-7CC5916C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561-043D-4624-AA23-D6BF4FB8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E8FE-402E-493D-B79B-EA1BC66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C9F-D07B-49B8-80D0-CC4B4346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78E8-0D12-4563-8822-C92D2A7A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2A6-0B2F-4F2C-9F67-4D9227BC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D4CFC-97D4-4708-B93A-8E1B38BAF4B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FD93C-DF51-4970-8520-CB5A968A533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45374-D4E3-4920-996E-5D2EBD7D9FF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BDE92-3859-44D0-BB3A-15E66B60A50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C7A2B-781B-4345-872C-C9A5F4ADFE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8ACFC-4B9B-4A61-AB08-1EBE9087887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B0297-FB86-483A-B17E-03B1D597E7C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62C45-8195-43C8-9E03-E5CB5E81E2B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221E7-D425-4260-A5A4-936EEC8C2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2D4EA-09FF-435C-A6D3-DDE8E572798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5A07C-6398-4555-BCE0-E5FC12F0F4A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B8FA7-A58E-4196-B031-6779D3ED4B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73EF8-3ACB-4C3A-BE19-4B8AB3C638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AB3F0-1899-4272-90A9-89C54513CAE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69066-F0F8-4B03-97F5-B7FE7033406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57207-D626-4AD4-A39C-EF66F88CDC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D1B97-298B-43D4-AFB4-D3412BDFF9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0E6CD-256C-4BE1-8F7E-589C546F046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9C56C-B450-4718-AC56-49AE5431E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2B1A2-E40B-4F3E-AADA-ED256EC98DE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1905F-F939-4A18-BD3D-D41D128343D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26B22-8C29-45D5-BF17-C5E3BE50EE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20DFA-B9FE-42EA-BD6F-F83B05E727A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CF232-8252-4A3F-89FA-9CB03E2A645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92D9-BA9E-498C-997A-555F7470EE3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0C90-D211-451A-A5CE-FB6E3F9DD82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3EC9-B9AC-43E9-B473-160A8028532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9516-E782-4A28-9420-039D75348D2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7FC7-5A2E-42DA-A7DC-E8D619502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2387-2731-4351-9AE1-AEACAC858B6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65D3-C625-4B9C-9225-BBC6BD0E5E7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CA24-E471-4C9A-9274-AD19933276F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A3E2-BD6B-4D7D-8E34-602B9F92944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7F27-F399-437A-8082-93DAD9AA99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D373-97DA-4D13-981E-D1420FBE50A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42A0-5D1F-4730-A93B-47B9AA90CB9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CC447-3B58-4FF0-8DA0-0AD1895B42B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0D122E-314F-4D11-9555-3898519BB9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E3F55A-59F1-4FBC-9A57-2632C1858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5BBAA-EC09-4453-AB11-FA7B5CA66F1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EA200-B9C7-4FC8-A879-8DF1DF42978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5FBD0-A1A2-4CC2-9D65-EA8379B1916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263C9-6FAB-43AC-BEE5-226DAD897D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D3F54-12A0-4791-9C17-238B1AD239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FD9D1-B320-4594-B131-6F2628F47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C809A-277A-48EA-85DF-9F0B56BAC53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6B96FA-1B09-42E6-9461-BE4D6A7E3D9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35F60-1D29-4B23-9945-8A0EAE10E7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E11A2-7934-4DCD-82C3-1F6936AAC1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DE36C-09A4-4D6F-B7DC-1DEE85229C7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3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CDF19B-D108-4F26-9A3D-E963A36BF5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54F5B-F6FD-437C-B896-28533B45BA3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D1E14-275A-4FBF-A722-62832DE3E8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96CC6-7ECD-4AE0-8771-2AF11E6222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5-29T21:17:32Z</dcterms:modified>
  <cp:revision>21</cp:revision>
  <dc:subject/>
  <dc:title>Presentation Title</dc:title>
</cp:coreProperties>
</file>