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14422-6B6C-4DEA-BCAD-7EB742BF5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A22EF-9A32-4EE7-B734-7DF932379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1F87C-15BD-4C89-8FCD-6D5A93746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F6742-FCF0-4FD6-B702-794C54B06F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D9535-F7A2-4F09-8B20-0374E5A300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F2D62A-9F48-4ADD-B4BF-583556ACB4E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10EBA-6E96-4106-A1B4-35E1015B43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D2E73-97C0-4F02-9AF9-A60F2162404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7E0DC-84F5-48FD-998C-791955C53DB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57BC3C-524A-4744-9B2B-4091EAE0C6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3E11F-3766-4272-AE63-660B0F01F74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5AD6F-2C21-46A1-B031-C71C600F293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98E1F-D17A-4453-BF1B-5109D5CC0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C5A9D-CA85-4811-A54C-6304649515F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99E39-EB96-4899-9B68-F0916E24CAC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D7ABE-4507-44E5-8F28-4FF44A6666F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4D6AE-6E85-4CFC-AFFF-F563469F33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60B56-71D8-4FF7-BFF8-3831DF5C1B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CFE42-7598-4DD4-91CD-06407D964D6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5B2D0-609D-481C-A4EF-E6BB9C03AA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8AA7E-FFD4-41A8-B0C5-43D45D187C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F7B9B-3491-4999-8221-C4B142ACFC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26660-A5AF-4B8E-B73A-9B995ACD5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4A488-1F04-443F-AC4B-025973D08F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A846-542E-47C9-92CD-AA5274089C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EE10-749F-4D41-891C-CD150CA605D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D740-2847-4676-AD2B-A6E6F58D8BB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3796-D6BF-4A38-AFAF-54A72CE3F22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EC71-C10A-4CCC-92E0-46F5A60AAAA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C78F-3B9F-4AC2-A905-2BCC764578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0940-940D-4EF1-8339-EDCA5F476B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1DF0-5475-4614-9FE6-DE36184A081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03D3-1A2C-4A4F-AE2E-AE84785EE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C50A-D8A7-4923-B18A-A9602BD18C4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B8AF-89E0-48E6-8670-12AB0ABE4B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B6F3-A92B-45D3-9774-EBF69CD222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9E4BB-2425-46AB-B701-697C17EEE0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AD317-BFE1-4112-8DE4-18638D9876F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FE7F3A-D560-4B5A-A0D3-D64B471439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A98BF-59EB-4F07-B229-BCFE6E2B35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888059-CCA2-4F01-8AED-D2799F1B87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6CDCF-05AB-47B8-A6D9-E03D23B054C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7EAD9-DD8A-467C-9D70-392A5AA7C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176CF-DA95-4C30-A1E5-B3D1DA05D7B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D9A80-7EB1-4844-9E4D-086543CB00B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CB027-F3BB-46D3-9473-B1014FBC97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4B172-DEBC-4CEA-959F-808031A8086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ECBDC-3661-4712-A847-FC103F6CF0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F57F8-4CB4-45CA-B0DF-4A61549CB21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7EB20-FA15-4D7D-91EE-92B6184A275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AED7B-572C-40FD-AEFF-3B23F008A09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B467B-1AED-4D6B-81C2-310C19153F8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25A2F-F840-461A-BD65-8A6F8631B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406DF-4D50-46D8-886D-04CDF7EE8EE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DD2021-0CC3-420B-816E-535B76839DC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17C42-D051-40D0-9C6A-48A4139BCA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86018-6CA8-4BDB-AB61-0978E460903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F6D39-6432-4310-A1AC-3A7808A90E9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24DDE-C27C-4F2E-A626-7FBAED86901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0279A-4533-40B4-91E6-0BC590F012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DE7-3F38-496F-85AE-B9AEBEF1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CE3-2448-4719-ADFC-CF3796EF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7F8-7481-4023-B081-BB428B1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D1B-1471-487D-AE3A-FA8A5B20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40A-795B-4D22-B360-1189B517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928-7D27-473D-9BFE-B97A9C91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BA9-28C2-45C7-9E73-6D2FC05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FFD-C986-4B8F-9D57-6C810081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D9A-9610-4F1F-87D0-C2938648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357-2743-438A-A4D2-C50D3FC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45D-A358-4B29-805C-6B6C994E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E92-A962-4802-A505-29556EB7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9C9B6-7A9A-4263-B01B-827E689B7E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AD8E7-333B-4D12-9C83-6A15BBCF7A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A005A-B4C5-459D-9294-6E906073FD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240A1-DA27-4731-BBCB-1577D51FE41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B37EC-E4FD-4EF1-A510-9A3625CF96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E0D89-D0EF-48A4-BAD8-718246770AA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EA091-A1A5-4877-A020-CB598B353A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70C8B-E6CE-48D0-8976-D5C19C2B79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D4C22-840F-40A3-84CF-D2841EB5F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92EDE-263C-42F0-B7AA-FA86740837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D45DA-5A90-469C-AFAE-A4C0C5FC167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8E9EC-0C5C-4CA3-83A5-AB145C320A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AF2D5-AB69-4B85-9DEF-771F69A8038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8B338-FB73-4091-A3BF-02130C7E9D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7BD5C-ECB4-4C9F-AD13-26AC02791B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9A140-5E0E-4F9A-81CD-15FEA5185D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02EB-DD2B-4E1D-B73F-02AB1B2875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0C1D8-1276-4CA2-BCCA-B27A020070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F14B1-A75D-4EBF-8CC1-052352B7E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A8C63-CC3F-4B95-8F72-38C36FBE39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63292-6071-4AFC-B6BD-9400A3C3FC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6198A-5AC3-4280-B0AE-ADDC80F7E3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875ED-EAAB-442B-B123-34D4D6405A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48FE-7869-4682-AA12-237B5445F1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09CC-2A76-46B5-8B07-8EB301EF38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5A4D-04F8-4FCD-A484-91AF1AC34A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B316-5F40-48F4-9B67-D9CE98A0AE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9890-93B7-4714-B6ED-37F5AE1254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43FA-7A69-458C-A14D-F17169929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B99A-E40B-4D4A-B2BD-B9781F5CC2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5440-9076-4FA2-94E5-BA4E2161A3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2465-CAC7-4DD8-B94B-7F25C69B8D3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2881-D0EC-4DAF-BC68-63A0AF7D57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2DE-EA7E-4B32-AB54-52950FEDC0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6CD2-F7B7-4A5D-ABFA-EFAB75F097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4898-AD16-4093-ADAA-22849B0A135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396D8-6AA6-4959-BE11-FAE82CB3629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C0B9F-29C1-46B5-8EE0-EF1F5041C9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3A842-3847-4A30-87BE-95C80BE43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EE69F-FAC8-4205-9054-96C9D2334B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AA2BB-12BF-4F2F-8E40-D2BC60EC95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AA32A-3A71-4E64-B0F2-343494D674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752D0-777F-4111-9883-E8A65F29A0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2448D-CB20-4B7F-B499-B08BDF7674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36630-0C29-4F52-89C1-B9EC6FF88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C6C02-B57E-4FA4-ACFF-95789A32C2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5A5DD-0287-48CF-B0FF-F1446EE87B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09FF1-0889-4105-8BD0-2AC434D251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73183-A3EB-4C01-9A83-9F5EBEFF71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8F1C2-8661-426B-8A3B-1E58ACFABA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53754-E569-4B87-A838-4D572FCA29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62ED5-0C22-4899-8B90-A17BC15BAE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8F01B-B286-4415-866B-F33023CBD3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4E050-F414-485E-BEB3-824E1A9A1B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5-29T21:17:32Z</dcterms:modified>
  <cp:revision>21</cp:revision>
  <dc:subject/>
  <dc:title>Presentation Title</dc:title>
</cp:coreProperties>
</file>