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EE367C-C074-4671-948C-4610608D55E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089B2A-464C-4442-819C-3E6634F5423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7767CD-48BE-456D-A19E-8EF739E2EB0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87EA66-DA77-4EB2-8DE9-48E278ACCDE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006135-EEC1-408B-998A-F3D7E8BA870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87F73D-3A9E-47B6-A0C8-12E84BDE579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013B70-6059-43F4-915B-43954C88C11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E36D99-BC0C-4671-AF89-D427B5FECCA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2B15C6-EE4E-4206-81CA-DF21B1F36BA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54A6C6-DF1B-4759-9F63-56FA8A1898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64E35D-E55A-4E09-9B8F-788BC27031F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E955B0-844C-4B9A-BE75-131C36FF7CB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EAD140-B07B-40C6-BA88-6CE076AA6B1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662262-D2F7-46A7-BBD9-15B9958611B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A6AAE4-6EA8-468E-ACCA-DEC67DA2C0B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43BE63-1716-425A-B6C3-7F446230784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8E0989-0218-4FE9-9906-E8E5AA1633C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8F4E83-8ED4-4D67-B1FC-D76B6AD7F97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880872-EFD5-4F06-A48F-046CA6BEE4A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53E561-9C9D-414C-994F-3FDBB2DB45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1DC543-428F-44E3-8E0B-E68E94992C1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C9770-0957-402A-8FAC-21A5C2C4C48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F7A0E-E84A-4210-B950-339F6A64169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DAD6F-098A-4717-9CDC-D44E1EBB9C7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73A73-8E55-41CE-B8B5-FE1A5F3823A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FE3D0-8FB8-45CC-B455-50ECBFFF020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A7E6A-A001-4896-B10C-C5A4F2A84DE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76F5A-CA13-4869-8E66-337BCD208BC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028D0-8C3E-45E4-99CF-362EA840828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1612D-0369-491C-844A-0FCE508CDE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8744B-6830-4A03-A0EA-20F4E9EE0A1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6A845-59F5-4505-A934-9D7264173B7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FD6DE-C878-4D72-8E36-41FAD0D279E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3578C6-7590-4ADD-886A-7C292706F0B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560719-E8EC-427F-836D-C89013A49AA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0AA96F-4DCF-48E4-A36C-64638E6D577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DD8F95-FFF7-4C69-ACE0-AB3057AF8D0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3641F7-B104-40E3-A168-E3FD8020ED8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1FAE8D-18C2-47E7-9134-DECA235F667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44DD05-F4CC-4CE6-9EBF-27C62D7510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8FDDF7-E2EE-4DFE-B11E-37E4792E0D6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52388C-5AF0-46BC-8D8D-4D921CFD268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BD0429-2317-430F-8990-E3812914EC8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5EECAA-D46A-4440-8056-04C4690559A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D36DA6-0199-4A88-B8C1-9CF1B72DF56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505C9A-2E63-49B4-9096-E5977B3DADC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312EC0-1B04-4482-A3A4-70D6BDC9CE5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BA8182-6AB3-47FA-B4AB-43F00FCE7EB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28323B-C5A8-41D4-B923-42FE3A0E97A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EB11C0-70BA-4DF3-9865-015D6258B8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C29D96-C121-4374-9FEB-BAF6B71DEA5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C4EFEF-5C95-4E07-8F76-179BD7C58AF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1942D6-AA41-4363-94BA-780133A5402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01A0C0-56D4-4625-BEDE-5396170F934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C60FB3-B644-4F1E-BBFD-8701598D15A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F65651-1944-4C6D-81B1-433188C7314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E8C2BF-0FEF-43A6-A94B-2DD17D76752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BA669-1989-4E51-B27A-0EF8BCFA14D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C7C66-E0D8-45E6-8B2F-E7791C038FF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412C7-8A87-4465-AEA3-BE32CE045D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207D1-D906-4D6A-9016-CE44ACDB332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F5A26-97D0-486D-9F92-A61CE02D76E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31243-38EE-45E4-ADEA-DD148E0D461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8F759-73FC-4FC5-B8AF-293D9563697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F74C3-B609-4814-BDE3-11999FFAFD1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CAB52-E461-412F-9E81-76AE2EA8CCD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8B446-F352-4C24-B4C0-DE482604B3F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4E90C-0C21-4E9E-8BDA-8D94D8D862C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C9A46-4E58-4432-A2FE-2E507DFD1D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A542-7EB9-441A-B24F-DD10D7281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407D-23F5-411C-AAC8-90347695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9EB3-9DCA-438B-ABEA-E438FDD8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46BC-52D4-4143-B4EA-4FA0D85A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7977-9FE1-4600-BD5B-FC65C2CF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1E4A-12A2-4E46-BD33-1B42BADA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EAF0-B9A0-476E-A341-1E84A562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1F5F-6A09-4FED-B8FB-879AEBB6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7441-C1BA-4AC5-8451-FD7FD607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38DF-10DD-489A-8671-46C26F29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C66E-0220-442D-869B-6B9A9C85C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78A8-25EB-4BC1-9F03-9054DF064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266A4-EB27-42D0-9386-2D9F4D558F2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BA272-92EE-4701-A1CE-42161AEB39D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5FC01-CC6C-4DBF-AD2A-614A202DE93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9CA43-66EB-4747-8AC2-74544D6C50A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84F1F-034C-4CD5-8402-93A68E30D0F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9BC7D-2B47-452E-8916-8CFE49B9BFE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62389-3EBB-49DF-8E35-C7AEE54DAFB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E56FF-AB05-439F-B7CD-76FBF192C32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69FFB-2A93-4023-96D6-68512EB595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B6A02-5B7F-48D5-8E19-2FBE6B506E3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BCF6E-4740-43AB-8E27-9C89539D231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C9C56-41DE-4059-811F-D522A6D7F10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AB380-4A70-408E-8E6A-C393BBA0FE1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CD08C-DC96-4199-A205-169389F6634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F06CB-6F3E-4947-8EC5-3A9B69D7C15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BA941-1F23-48C9-BA37-5F7ECB50ABC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73821-664E-4C04-AD99-64A21217E25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E2008-52D1-47D7-B456-713E8314ED3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5C476-A3EE-4CFB-8886-B23D5690DC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90A65-7375-45BB-864B-B97F8611D67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8ECAB-4CE5-4DF7-9A1E-BBB0CE37AF0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4D1A0-5127-4F75-97A4-A400B83EE4B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1D5442-8016-4E50-B26B-16AF8B58B73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D6824-BE9B-4226-854E-3CB69463860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89AE-4B4C-43B1-A207-0A5B38A4E68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B538-CB60-4D3C-A07E-0C833E599D3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272C-BA67-457C-8E07-0018452A78B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7E29-5906-4247-A31E-3FABDA177A4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060C-EEC6-4713-8255-67CA6BB6FB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9084-C5BD-4058-B3E4-A5469D3733C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CDCC-DE36-4967-ACF5-50164DC159A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3A94-1FF2-4B54-81BD-069ACD92C51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0207-09D1-4890-8761-85F155F2B9C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88A7-5607-42CD-B76D-76378282543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3C9D-239A-41B1-A145-F6B82273E15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C731-613B-423A-A406-038F21EFD79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FF46A1-3161-4A2D-9B37-AC3CD87E42F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1AFD92-7B66-42C5-803F-C8C1DEF3C39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4B1F55-B456-49B7-8EFA-19CB53A3D9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title_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2010B7-E7A3-4A4D-9EC8-A4829004AB6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94" name="TextBox 3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7AA592-2D1C-407F-A12D-5F17B20055E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435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C0DC3E-8178-49AD-BD3C-79875444126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F01644-9A8A-4F45-86BA-487993DB0D3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5A9574-BB85-4506-B007-6B09BC7D45D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B2DDE5-22B9-448E-BEB8-3260E0C757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AFDE96-CA5B-449A-BC96-0058E122E8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6C6832-065F-4493-8953-226C09C7A2C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FCEBEA-D777-40B6-B62A-6225D24D875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BEEA7E-6A06-46BA-97E2-06359097B98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15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F3CBDA-3104-4336-BB58-915F158653B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ICANN Acade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990360" y="3600360"/>
            <a:ext cx="746748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Understanding and developing the complex ICANN multistakeholder mod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Curricul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e topics (Day 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ICANN training (Day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urrent ICANN Issues (Day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ap Up at the end of the ICANN meeting (1/2 da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D123EC-29B7-413B-BDEF-2E1C3AC2478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304776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cture, debating, Q&amp;A s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 up during beginners session, webinars, Tech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cturer available for 3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er  to peer men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odle, Wiki works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lingual support by translating doc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FE52CA-231D-453F-9EAF-4AE6A959572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304776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rther ICANN outre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lot in Toronto (ICANN No. 4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and improvements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ual ICANN Academy 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fter NomCo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ointments have be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de and announc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3CDE16-B1CF-486D-BADF-8F1B7197C3A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676240" y="1447920"/>
            <a:ext cx="6357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urrent proposal should be implemented into a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clusive ICANN Academ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cep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synchronized with existing capacity building programmes offered by ICANN, to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et the needs of other ICANN stakeholder group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using variou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clusive training method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 virtual learn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96003A-0B9F-4196-A573-85B5FCD8859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  <p:sp>
        <p:nvSpPr>
          <p:cNvPr id="599" name="Title 1"/>
          <p:cNvSpPr/>
          <p:nvPr/>
        </p:nvSpPr>
        <p:spPr>
          <a:xfrm>
            <a:off x="304920" y="1522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44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Looking ah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1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</a:rPr>
              <a:t>Ques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AEACC5-98B0-4ED1-8E86-B267C355852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int of depar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047760" y="1600200"/>
            <a:ext cx="598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ANN – a highly complex multistakeholder orga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little literature avai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earning by do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-3 ICANN meetings to understand complex proced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0DC3EE-CBE2-405C-B0CC-E765625B78E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int of depar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ential of ICANN leaders not available from the begin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ous capacity building programmes in place (i.e. fellowship programm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meet the special need f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ly appointed ICANN offic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4D7D43-BBC0-4B80-A1B8-EF8416B9EC0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676600" y="25686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The ICANN Academy could fill this existing gap!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0A6775-ED6A-4B26-B4DD-86DC55AED58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Key el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ledge transf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ics about ICANN’s complex structure, function, procedures, policies, ongoing iss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Socializing asp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order to develop the multistakeholder model and foster cross community work during their ter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344345-7710-4CEF-9BD5-B5125DA9946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arget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oard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upporting Organization council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dvisory Committee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Senior Level staff as potential traine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CB856A-0075-4F80-871C-AA378C5E4E1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arget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047760" y="1600200"/>
            <a:ext cx="598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ifferent groups with specific backgr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onvey a basic understand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1. about ICANN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2. for the different perspectives of each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   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oster interaction and  dialogue among these stakeholder 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2E1E9F-47DE-4709-81C3-3D0F280213E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Conce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5 particip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days / 20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e 2 face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fore their term sta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or to ICANN meet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GM / Wednesday – Frida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f day wrap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3D4A11-3810-491D-BFED-BAA035D0639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Format of the Acade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nglish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n isolated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active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action also besides the meeting 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be continued during and after the ICANN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41CEA7-2787-492D-A29C-013165B211C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00:00:14Z</dcterms:created>
  <dc:creator>Sam Oltman</dc:creator>
  <dc:description/>
  <dc:language>en-US</dc:language>
  <cp:lastModifiedBy>HU</cp:lastModifiedBy>
  <dcterms:modified xsi:type="dcterms:W3CDTF">2012-02-29T22:18:49Z</dcterms:modified>
  <cp:revision>23</cp:revision>
  <dc:subject/>
  <dc:title>Presentation Title</dc:title>
</cp:coreProperties>
</file>