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D4033-2D3C-4ADC-AF29-0FC804EE062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6C6A9-4B77-44D9-B802-47EB7A02A3F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FCFCD7-D559-4A2B-B54B-CF3D0FF22F0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737425-9034-4097-B92F-FEDDFA89726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DEE63B-B8E8-478E-A728-DF28CC4F3B7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643BC-1323-48DC-A501-99BCBCB5AE0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F2EF2-353B-4E46-A7B1-3B083B79FC4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EE2BA0-D081-4D19-9F80-E3920A5D237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F199CD-8A95-43B5-87AA-8D03F390A8F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B8636-19C4-4E96-9A05-1B6851396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9F452-00B3-42E1-928E-85FC555933D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043FB-E43C-4324-A5AE-1E993B75B46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F8526-E7D5-4D97-9554-5CF3A7E114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22522-41C9-44EA-8A67-0662C77F4E8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07399-CFDD-4E6F-8B4F-4659A909A59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BA927-CC8C-4016-801C-CC97F24D9BF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E19FB-1730-40EF-A131-E7B66C7F586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AD1C73-33BD-4EE4-84DC-9DDEB1F0F3E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C5E70-DE4B-4367-8088-252B4D5502C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5B5B8-4E39-44CA-A5FB-13641673A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96F6B-CEC9-4551-920C-00E5BB3599B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9027-5D38-4077-AA88-6DA48E19BA8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8E46-9A42-461E-A76B-76CCF42A01A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16772-40D6-4266-B625-858618B8027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DEA6-0388-437D-A93A-92BAED7D758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E7EE-1005-4E57-93FF-3EE9B239B86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44FF-C103-4101-BD11-FDA959C4B54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3D9D-AF79-4937-8B68-B96EAABF7BC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C6EAF-2A0B-4AE0-98BA-07EC7C1F733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F9D0-06C0-4D93-B34B-D68B16B95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5B26-C04B-4D00-935F-7F1A2986376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5634-CF7D-4D24-B0AC-E98FB9F43E5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D670-99A5-4452-B439-985A46E19F2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40006-8B2E-45D4-9071-B77904C0AD3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FD9688-1206-46A0-9426-F8AE1ECEB13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89ACC-CD7C-4ED3-8173-1DE1E76DFF3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B74408-7164-4CE3-A681-1C70606296B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14312-0D2C-4E2F-A714-A7AEBFFE988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DB864B-6FF6-4AEF-A2D8-E1F87FA05BE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BE7EC-98B0-4C9D-BBC0-E00A4DAC84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E64DB-6CFA-4FC8-B6B3-26C6F68F66C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C41D1-E520-4F0C-9A1C-DD1AD55A53A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B996EC-4AFF-4F33-AECA-66718734755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0E9E1-27D6-4886-BB02-214A976BB66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EEADDE-C946-4F6E-B8AF-FE1354E21D6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F9CC9-C76B-443A-AA10-138588C9D89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56538-AE6A-415D-9D7B-7EABA6DBD78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E71228-1BCA-48F3-88DF-3AD60F7506C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788CE-00ED-4333-9CDC-C67BE860B39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20F79-0D81-40B0-AB76-A067B10594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D4986-FAD0-42D9-B2C1-C4E8FB41F32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712A2-E735-4567-8C22-2AA8E17A3A9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881E5-975A-4A4D-9332-53DFC3106CA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2E969-7DC2-4D61-801B-460938A78EC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BB839-BEBE-4B4D-A632-110A9EE3C57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49F53-2DEE-485F-99FD-31737BBD156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963F5-16D4-408A-878F-6E13553C284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3747B-6D70-4CAD-B6CC-AE0D4EAE9DB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00678-707B-4E8D-ACD0-596A5A0C1A9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354C-6D30-4B71-BC30-256B39E53D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1003-329C-4B36-8F38-34BB69C79FB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ADC1-CE93-4504-B675-F33965FE58E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F0C69-81C0-4230-BC37-989986376E5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306EF-5AC1-4792-9100-8FD8706C90B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F78E2-49AC-4229-8FB3-E2F7DED8F7E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67FD0-F148-42C6-A41D-AF76D2F65D8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A37FB-C975-4E8F-9032-A53DB53A052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F102B-5103-4E4E-9963-526BA940095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7CD68-3C40-41A2-A719-7ACD394E36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976-9A5A-49D3-9873-C5DCC227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ACD8-E8FF-4B1E-8ED7-971BBA7D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575-2C31-412D-8E66-F9423342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E4A-BC0D-4FF4-A3CC-B83E2E2A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87C-B83E-4449-87A0-3C03EC0E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750-2999-434B-A2E2-DF77D91C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92D-3531-4959-966A-8E1E1F0A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5D1-7F66-4492-B56D-0770208F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8E87-C9D1-4011-B297-3D448536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BE0-BA22-4D1B-93CE-13C3B158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192-16A2-4A45-98BA-CAF3524B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F9EC-DB6F-4998-8215-F0513A52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D19FC4-7ACB-4969-9517-11460CF1B51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D54E3-B16C-448B-B93F-3DCEDAB2242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AA202-4998-4C3E-AC8A-41DB53FCCF5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17BFE-0786-488F-85C9-74F55793FCA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90337-C3CB-4CA9-80F6-76C7BF74C0A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1BC8D-AE0D-4586-8536-B07112A0CBC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31131-6024-44A3-BB51-6F4313840B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9A5B9-6BDB-42CC-8DA6-76EC3EA2B3C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0BA43-36F6-4639-9834-922291D51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2070F-8158-4CC1-9E0F-DAFD50CD70B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4A547-9DE6-4095-AF82-7D841119A50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BA3CA-59CB-4615-BFCC-EC0334CD41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1BE5D-5CA5-4ADA-84DD-59A45987E79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EDF4D-CF66-4F59-9A45-28FDAEF29E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45126-1011-4A5E-94E9-9F784DA2B25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5EEEF-65F9-4C37-A55C-F46A50D6CD2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77968-6836-4639-A846-18993CF1E8D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2403B-67F3-4874-B139-46DBF50B6DC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FD21C-926A-454C-94D8-D12C66004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FDAF3-2BEB-46E8-89E4-B4AA40F54F1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B032B-E777-416A-B556-54862EECB98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6950F-D8FA-4195-8C50-4936896387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A7A64-4CAB-477C-9637-59904CBB45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E5282-4EEC-4A1F-9E57-1EB6AE2CAAB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D073-0F50-4CBD-A3BC-0422AEF9C49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2430-2E46-48CA-902F-08510BEA971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E368-6B93-4B3E-8C6E-DEB49B4BE8D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DD7D-7C24-4C43-B731-CAFE9F16F48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C752-1C27-4D54-8C09-1F5D02283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A181-F7D4-4E31-9899-547EDA55AB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E79A-6D11-4216-976A-61558002271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18B1-AA5E-4EC2-9FAA-D0FBCE81695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AD7D-BC03-4904-9A9D-1C06EE0A073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21A0-24E9-440F-9C3E-3427F3D1EAF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888C-A60D-4780-9F8C-CDE4D405107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3462-FFA2-40FB-B64D-F92944E0873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AD4CD-89CC-4CD5-824D-C2799AF722B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0C08EC-B840-4215-B7CF-26E86A2ABF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E02A56-BB59-4AAC-8215-894206EDF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title_pag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6BB88-2D47-4966-BCEB-0AF15CA81D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156F3-C254-41D0-BC97-37B51D0DCF2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DBC31-A7BE-4C92-A303-9F14F6EA5DE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AF3A3-3B77-49E3-9D9E-D8DA90F83B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90E07-D321-48C0-A580-9316D34DBCA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25108-C125-418E-95B7-22AE3EC48C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01C6F-FC5D-4FD1-9775-3E6D34117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99296-5259-4757-92EC-ED6C9921542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98BE6-FD17-4012-9A75-0EF9CEE54A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3CF39D-D708-4D2F-98E8-1B6B933A19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60B88-06E3-4489-8ACE-1FBB9008CDE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ICANN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990360" y="3600360"/>
            <a:ext cx="746748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</a:rPr>
              <a:t>Understanding and developing the complex ICANN multistakeholder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 topics (Day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CANN training (Day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urrent ICANN Issues (Day 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ap Up at the end of the ICANN meeting (1/2 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7D977-99EE-4D00-AF52-2CEBA327F1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, debating, Q&amp;A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up during beginners session, webinars, Tech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r available for 3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 to 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dle, Wiki work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lingual support by translating 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15B69-87C7-4C47-A83A-2BF18DBC7B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04776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ICANN outr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in Toronto (ICANN No. 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and improvements p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ICANN Academy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after NomCo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ointments have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and announc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15DA7-7E3C-453B-8FC3-64094E24E2D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76240" y="1447920"/>
            <a:ext cx="6357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proposal should be implemented into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ICANN Academ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ep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ynchronized with existing capacity building programmes offered by ICANN,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et the needs of other ICANN stakeholder group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using variou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ive training metho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virtual lear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48D8B-EBE0-42CB-B984-9FD4B12061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304920" y="1522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4400" spc="-1" strike="noStrike">
                <a:solidFill>
                  <a:srgbClr val="7f7f7f"/>
                </a:solidFill>
                <a:latin typeface="Trebuchet MS"/>
                <a:ea typeface="ＭＳ Ｐゴシック"/>
              </a:rPr>
              <a:t>Looking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0589C-9DA7-4878-A7B7-F7E8F7B78D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– a highly complex multistakeholder 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little literature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Learning by do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3 ICANN meetings to understand complex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F586F-CD75-40F7-9CB3-2D9D0EEB25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int of depar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of ICANN leaders not available from the begi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ous capacity building programmes in place (i.e. fellowship program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meet the special need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ly appointed ICANN offic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16353-7ABD-48B7-8D5C-6F1E577E66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676600" y="25686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The ICANN Academy could fill this existing gap!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D6F27-DB1F-41F1-96A0-ADF0AB0F84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Key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ledge 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ics about ICANN’s complex structure, function, procedures, policies, ongoing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ocializing asp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develop the multistakeholder model and foster cross community work during their ter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9BFED-3B99-4F11-9624-02837FBF98F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oard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upporting Organization council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Advisory Committee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Senior Level staff as potential train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AA193-B27A-47B8-A4CE-65C56B07DF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arge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047760" y="1600200"/>
            <a:ext cx="598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groups with specific 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nvey a basic understan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1. about ICANN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2. for the different perspectives of each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   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foster interaction and  dialogue among these stakeholder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43BBA-07BA-435A-AD9E-1E53B14659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 particip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days / 2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2 face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their term st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or to ICANN meet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M / Wednesday –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f day wrap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D5A32-2932-4DAF-9738-D034423F1F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Format of the Acade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 isolated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ve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ion also besides the meeting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continued during and after the ICANN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73819-D521-42A4-A4EA-DC29029B1E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5684760"/>
            <a:ext cx="725760" cy="7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0:00:14Z</dcterms:created>
  <dc:creator>Sam Oltman</dc:creator>
  <dc:description/>
  <dc:language>en-US</dc:language>
  <cp:lastModifiedBy>HU</cp:lastModifiedBy>
  <dcterms:modified xsi:type="dcterms:W3CDTF">2012-02-29T22:18:49Z</dcterms:modified>
  <cp:revision>23</cp:revision>
  <dc:subject/>
  <dc:title>Presentation Title</dc:title>
</cp:coreProperties>
</file>