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5DB79-984D-465A-85DE-DF912221A4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14013E-2ECB-442D-ABC5-6BA1C8641BB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A1BBD-7553-4BB0-B1F3-4BAEED5A21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3680B-1A65-4F1A-8779-6D1F9B935F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CB863-F9B5-4B4A-AFD1-2A29287E4A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B6667-143D-4DB0-97D8-5EE0A1DA04B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57320-C98F-4CD7-BF9E-D74E085DAD6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676C4-33E0-4D1A-A5CD-0DAB5E1B6B0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3819E8-00C5-4ABE-9406-840FBFD0D63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6EE99-8953-428C-9826-459B08682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F47A5-AEE8-43AB-B37A-AE4426B4A9C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16AB6-BA92-4745-9100-75D94AE39B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95C7B-7EAF-43B4-B45A-899C30B52A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B8467-EC04-4709-AB35-27C12815114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2929E-F34C-4ECE-A9E1-260E82AD3B4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B4ED4-F60A-4B3B-911D-63A6928DE27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0B82C-1ACE-411D-B275-F316630C74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9EB3A-392C-4652-970B-CE2AF59297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EAD74-57A2-489D-8FB0-9F58C74E759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9A206-CB78-4D1E-9435-97B5B8C84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60228-EBE1-41D1-A114-C09584499EA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C885-B285-415B-A4B7-6E056D21B91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EAA3-8B16-4651-827A-6678BDA413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8823-514C-453B-8B10-1DE621B237F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8C30-ACCC-4DA4-84F9-B94B5B86EF2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753DD-48C6-4318-8784-52DFF57DB6D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490B-6DA0-47A7-9BC6-29D2CF6BEA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4145-B78F-4EE2-8010-941CF2EFAEB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75FD1-673A-4B32-8F50-07B05AC2279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2A15-D840-469A-9126-CDF7608C4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6C77-F7EB-4103-9166-9E5F1EF65A8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2AB8-088E-4411-98DC-43FBB31C859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7B9B-8865-4A59-82AE-D1FAC4DF2FB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9BD1A-642A-4C6F-8FD5-7C25D77AE86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CA429-B897-419D-AC76-92894EB4E5D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27980-17D5-49C5-8CA1-72A399CF1D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D1EAE-F74B-46F8-BDF3-2B3D91F2F67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8E7DE-3A64-4B84-9E1D-504B5DED2E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EF968-CAA9-4A28-9802-2893452E5F1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C09F1-8D1B-41FD-96DA-DE30D93BB4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B207F-B04A-4535-9BA3-DFC44176E9C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E024E-F0E0-474C-8E82-33C7374AD36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315CE-08AE-4794-A204-EB023682851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75D975-C2E0-41B1-9D59-6E4BF86291B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A8647-0241-46FD-9005-BC2B05B35EF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9C59AD-C8E4-47FB-9A01-4167D355E02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3F5CB-8E68-4915-AAAE-A91486E9C81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A1B9C-F9A7-4BAF-95B2-839B527AF79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3358C-1C31-46DF-8368-AAC4C6981E0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41FCA-D93A-4733-A311-AEB5AA13D5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B65BE-11FC-4161-B28F-A2798534459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D5B07-E992-4ACD-B6C9-88F0A7D4381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8FEEC-5B8F-4949-9257-60B472D6422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92283-999C-4FD3-9E50-382FE7CE4E3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2656C-B643-4DFB-9781-7552EE3B205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B81E7-598B-42C9-835A-39B166F4762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22124-7071-4B65-948B-9538A598427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336A-EC7E-4777-A768-8784F8CD44F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ED7A6-DE33-433D-99D3-536C26DF52F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1562-6F92-427C-88FC-E6C9BFC859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2527-B706-4A0E-BF06-4AC7513B51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3356-953F-4C1E-88EB-686F228B181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27590-A165-4A85-B4BD-2BAA1C80D4E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8C47A-53F2-4E38-AEBA-27F359A1A44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E4AA-0682-41DD-99AB-3D15F5D076B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B258B-C8B4-442C-BCC9-0DC190F124F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0970-1B4D-4171-AC9B-57946872737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0E9C-3F9A-424B-96DD-CF0E0B333A4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08F30-DBBF-484A-9532-CF440E9216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767-185B-4480-A81B-26C99529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7E4-5812-4242-99BB-178909B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EAD-EFC2-47DF-B1A1-6B7C2E2C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6A4-5197-413B-9179-9104FD3E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798-4385-4C5B-AD47-358B048B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6BE-1A9E-4E6A-B892-CF50F8A3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CF7-8B31-4F1E-9C8B-60A73A8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08D-AB0B-4F9D-B9A4-71D2AFE0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BBC-8CC9-4711-A7E4-5FFDFD54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DC7-6B56-4B79-A39D-FCB3E4C9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4A6-9779-42BB-8A84-A233F262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104-EDBC-445C-A923-7F3A753B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985CC-2F91-428D-A76B-4E0B3D01AA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CD877-A53F-430B-804D-42D9E51533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E7B28-CD59-4C50-A59B-C27BB7D80A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162C4-F268-4DED-B0D2-4C8B5F52A05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6D34D-D223-44E9-8B86-68BFFB80B3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3571F-9688-4905-9EF1-A6F2BF5A77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CBA1C-7963-407C-AA47-B13FFC3A88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F3F4C-CB3F-419B-97E5-681599EA687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24BED-4302-4CF2-8B42-A0D941C99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1FEAD-87FB-4C54-96A1-34B94ED048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48DE1-C081-408A-952E-305B2E5CFE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8813A-330D-4956-805E-E45D6ACBCA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DEA95-2E11-4943-87C8-E365DD96B2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46365-2604-43D1-83B4-6ADCB971D5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DEAC6-26DB-404A-8EEB-4108CC4B86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A5CA9-B081-4D21-841C-1F57ADB0A91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F91EF-8B71-424A-8B45-B656F47BB0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D8DF8-8609-4936-B194-C6CF845E41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FD704-E41E-49B1-ADBF-9705C085C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C8CE8-0197-4CD6-ACE0-4020E587E70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F4538-AC2E-43EB-935D-CF56C34223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27437-D57A-47EF-854A-10A37EA910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30479-496A-497B-8484-B377A247EB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35536-C4A9-40AA-A5E0-0166450622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3C02-1D87-4AD8-8C0B-9160D6A5120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A59-3F54-4276-8210-14023BEC57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1FE6-2D6F-48BC-A06E-6BF168BA60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5C52-03E6-4B8F-81FB-3D3AF9E362A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9408-C153-4647-9FF3-8FAC273F5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F10C-3E9E-4CC9-B088-DBF727346D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0592-1436-430F-B6DF-4AFC728D5B8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2DC1-DEB2-4408-B3A9-28C8B9D7C8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241D-4E7A-4B24-9E39-F37880F591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B7CB-20AB-4E0E-BEFB-3C2C5844EE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895E-F020-4AF0-86D9-93CF2AA7795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643B-A9B7-45DE-94BF-9C5A4CC7C2E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70E4D-B0C0-4B87-9A22-D3F0E94D69E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778EC-33E4-4AE8-87AA-AC6B0A2AFF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E5CDF-F29C-4103-B722-8B72498F7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F0ACD-1195-4BF8-8E72-11AAA45A14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7B8FB-F5C5-4FEA-875D-BD340D5859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AAD02-8298-4159-B39E-F13E8528E6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1945B-81C8-44F6-979A-37A53D8835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5830C-919B-4F4E-84BF-0C7375899C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8F0E9-58F2-4C1C-BB7F-94B2586488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DE1E6-CC2C-419E-89A0-13E0ACF6D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DD632-73BA-4573-94E3-846BB5E45D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C3D14-906E-42F5-83DD-D3A1768284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55DAA-F76A-4410-9BC4-0BEB5EF2A4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359EC-67C2-4E93-BD18-AE5925E961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CANN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360" y="3600360"/>
            <a:ext cx="7467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Understanding and developing the complex ICANN multistakeholder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topics (Day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CANN training (Day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urrent ICANN Issues (Day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Up at the end of the ICANN meeting (1/2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0460B-61B9-40B8-BBE8-FF4BA41CA6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, debating, Q&amp;A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up during beginners session, webinars, Tech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 available for 3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 to 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, Wiki 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lingual support by translating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4E78C-CCF9-4CE4-94E6-BCFA3108F6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CANN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n Toronto (ICANN No. 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improvements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ICANN Academy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mC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ointments have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and announc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04143-0888-4BE9-8738-2B9B58C7DD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76240" y="1447920"/>
            <a:ext cx="635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proposal should be implemented into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ICANN Acade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ynchronized with existing capacity building programmes offered by ICANN,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et the needs of other ICANN stakeholder grou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vario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training meth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virtual lea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3A47E-78D8-40DC-8C63-E66AB93BDF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AAA7A-688F-424E-B79D-626889275F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– a highly complex multistakeholde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ttle literatur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arning by do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ICANN meetings to understand complex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C6A1D-C8C0-4049-856F-91B41FED54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f ICANN leaders not available from 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capacity building programmes in place (i.e. fellowship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eet the special nee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appointed ICANN offic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C90FE-069A-4D3D-9F4B-45EC972E3A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76600" y="25686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The ICANN Academy could fill this existing gap!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21298-FACE-42E9-82C1-8CC0FECDB8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s about ICANN’s complex structure, function, procedures, policies, ongo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ocializing a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develop the multistakeholder model and foster cross community work during their t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AA720-A032-4D22-AE7F-16D1E018AA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ard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pporting Organization council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visory Committe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enior Level staff as potential train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514B5-4648-4D73-8EDC-80B6EA2833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groups with specific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vey a basic understan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. about ICAN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2. for the different perspectives of e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oster interaction and  dialogue among these stakeholder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6F891-94F3-4E31-9A83-445558612A9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days / 2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2 fac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ir term st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ICANN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M / Wednesday –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day 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E03EA-C266-4C46-B988-01590BE8F6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mat of the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iso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also besides th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continued during and after the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E217A-F979-4D47-94F2-E8DFA8840A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0:00:14Z</dcterms:created>
  <dc:creator>Sam Oltman</dc:creator>
  <dc:description/>
  <dc:language>en-US</dc:language>
  <cp:lastModifiedBy>HU</cp:lastModifiedBy>
  <dcterms:modified xsi:type="dcterms:W3CDTF">2012-02-29T22:18:49Z</dcterms:modified>
  <cp:revision>23</cp:revision>
  <dc:subject/>
  <dc:title>Presentation Title</dc:title>
</cp:coreProperties>
</file>