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4C396B-29D9-4CB3-96FA-C45BDA8AD6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34C9E-858F-41D2-BEAA-6A2E5252808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4A956-6E42-49CC-9210-9A7EA1494C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E91D1-84EF-4A14-B197-8DE8EB89C1A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C97B6-8107-42B3-905B-7A28256C269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BC66B-CCC0-4092-9173-6D70133D79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9A4656-C7AB-4E32-918C-B8C408386C2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44BCBE-904E-4424-B3DC-BEE0E0C229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62DED8-9BAB-42BD-BC76-B25EE28D280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62D75-AD4C-42B2-8175-9705964C7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FF042-DA95-41A7-8A8F-DB8F1D626D3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AE156-1D93-46CC-A066-2E820A8B62E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79FF5-006E-45C3-91C5-5C83C4A75D3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ADC72-2DE0-449D-B12A-D835317040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32F67-4919-4411-9E33-DED57DD0776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73052-878E-411B-A0F9-F8B6C2E1C79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8A549-9E58-4C0E-BB0F-8629E30DE0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79D7E-8AE8-4AC7-9E34-70E430CCDE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CAED3-8BEF-4400-84BD-F8DEAB4F3E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8C06F-68F4-4254-A437-294EAFC8B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C40F4-3244-407F-A4DD-4F08B5907B2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8619-D669-46CE-85CD-A6BF5994622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5DC3-3326-4B71-B3C0-40AE3BECE89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3BFE8-B5CD-413A-993D-418EA828E3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C02D-5586-4017-8775-85F84D69C78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D07C-FF86-4303-B9D3-E98C1FDB74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530A-8F02-4F13-8AE1-9E3F734C04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799D-98D4-47D4-9C8F-E8C32B04B36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DBB5-7179-4738-A7C0-DA459FAE0E9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CAAC-1A90-43C8-9B53-37F746B9D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DE81-C3C8-4A91-945D-1C48365BBA9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F5BD-A8A4-4C1A-AD9C-0B2DCC9070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3D4E-F4C9-4E22-85C0-F76B0EE1FD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8959E-1C53-475D-97BA-20AC0E63C9C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E105A-036E-49CD-BF9E-4B415212EC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9C932-989E-4628-8E23-E0A4DB1CD9C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7CD13D-6F89-46B2-97EC-68EDF0A04F4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1FDC8-E5FF-4AC6-BE02-8D4E0608D55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6542C-B1B3-4EC7-BF67-DFB7D2F61EA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CB06E-3E0B-4590-8C45-5EA3623F80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A2D5E-66BC-40FD-AC68-1756791291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445A6-40F4-46A7-BE9D-2282B6EFF1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879C8-D84D-44F9-A12B-4BAAB4C4E36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369C5-0CB6-4ED5-BA61-385743B77B4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6350E-7B6B-4CF0-AE5B-606FA17013A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DB46D-4A3B-4CB4-B338-C600D464C75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9AE49-2694-4C6D-874B-7B7CE85D983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A3B93-5D2D-4181-A39E-4F8531E38C8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3C595-24F6-4E18-BC94-B4F59E88E4B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79A42-7E6F-4456-8193-602DCC2B12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D0A80-27FF-438F-824C-3AB748E5991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506F3-5959-4179-B91C-D642075E06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01AE6-39DB-4E8D-AE4F-48511D1ADA7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858D2-A196-4A07-8DE7-558714006AC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86805-3082-4802-AE80-BD29CCE0F01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F10EC-EA69-4232-80C3-5291E46483D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53731-ADD1-4462-84E4-0B60C4F3D54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9798D-7E1D-4244-8C7D-F38A0570A2B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400B-F120-4C67-8571-CBEF4565845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AE1E-C05D-4F6E-8591-887660749A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FF1D-F7BC-40EF-A379-B9ADB22FA50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36BB-DFD8-4877-9D92-32144110D10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85A3-9159-45CD-8519-A89BB64215C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4343B-87E9-4F10-B3BE-34D276B8CBA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9478-0D01-4AD7-ACAD-E39A700B88F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9A675-7E44-4EA9-98C2-FEBD2622FD5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10071-527D-4B75-84EB-AAFCA960A50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E616B-588E-424E-9153-89AFAEFFBAD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F1B81-70DB-4D91-AF1E-94F7DF8FFB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4AC-32EE-4AFE-B89C-32986790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03F-E3DC-485D-8B5E-5AC3E5D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7B4-4C0D-4681-94F0-19BD364C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E9F-6B85-4959-B5D7-D218F102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B6A-1C79-443B-815B-EB26F82F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53E-2386-459E-8E40-31A13BBB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4EA-9CFE-42A5-8EC1-2EA4A51F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304-E23D-4D1D-9295-B30B004B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7BB-1E1D-466F-84D6-8465489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038-FE3F-4D9D-93A9-8F00B045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6E7-3C6F-4469-AF07-15BDE4F9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D8B-C027-4051-A237-C8A13639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51C66-0D8A-4B1F-8ED5-102E8AB75E5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BB933-8965-4541-A7F8-E73A9E1435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C73E2-4D70-456E-9B92-20E771B4F0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36DEB-7F45-4470-A9B4-34B9010CC0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1FFBD-670A-47F6-BA46-2DB80F25841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34DCB-10AB-460E-9A80-977D296AF1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3BD13-C256-4D39-8998-B7837D9EB9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CF87F-A83F-4A69-84FB-9BC7DD8323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B2C0E-BACF-440B-81CC-E3C259546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F0A25-777C-4D9A-A654-2B02A805AEF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58EFA-682E-4FA2-A62C-1681585983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E2ECB-C2C9-4EB9-9E0B-75DC639A286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D4A54-2CE7-48F8-8250-AA025674CD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1E2C6-19EB-49D2-BCD5-451781AC77A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0CBED-9C3F-4701-A6D3-660ECAB495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BFD27-FAE6-4FBA-8A91-17A04348AA1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C5FCB-A1BC-4F6D-83DB-88673AC8F3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12D77-1D29-4CD1-A8FA-D71D906A0BA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79672-9FFF-4FCE-AA97-FDA6B11A8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DB37C-6100-40C5-8225-4F02800C71B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2A8B3-729D-4933-9B86-9C4BCF1A5E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6104C-0573-4AD0-8873-0C2FA27037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D9590-F313-4494-A6B6-FDAD0DCD29A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02E25-2225-4599-91A4-509659D6AC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9A22-CB26-4C0A-8242-E910DABCF4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3BFC-3067-4FE4-B908-616D862E4A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9521-6B8C-4A32-ADEA-66975BE37C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1A01-361B-4045-9336-4747B1A5462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4FF9-963B-43C5-A28C-59A9676E3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E284-8E64-4363-B65C-D904642B76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DAB-B3A8-4DAA-B30D-78AAACF7D32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2236-42EB-4A60-AC3C-DF5CD00B7DD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CEAA-0D0F-4CD2-BF48-6B828B7D592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562C-38CB-452E-8FDF-02713EB79B8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A4DA-84A6-4FC1-B767-9561BCAEE4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ABB3-15A4-4A87-8F43-18B5C7686B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45289-0A30-421D-B994-5535E0FB0BD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6BB0E-EB3A-4B12-A58D-C2EC9611A7B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7CC4C-CEA7-49E2-AD77-8A805F337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3392B-EFA3-495C-9663-D27E0A20599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1F3B8-4650-4150-88A5-32791698DF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D40D4-E911-4370-9DDA-779FDFD768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56DC6-D78D-42E9-8BA7-E54D241A95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AADCC-E7F8-4F96-A6A4-237C8AC46B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BA6A8-B205-4E42-BCD5-8BC7C1C14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41CDF-9B08-47C1-8FB8-AC7AC1B24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F4C4C-7280-47E4-8099-FD3D80F083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BC08F-CE9C-4B5C-9F83-025DAB96B5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679BF-A574-4D7B-A30C-495D41D343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609DC-873D-4BF1-99E9-47197DCCEA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CANN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360" y="3600360"/>
            <a:ext cx="7467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Understanding and developing the complex ICANN multistakeholder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topics (Day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CANN training (Day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urrent ICANN Issues (Day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Up at the end of the ICANN meeting (1/2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D343D-4E8A-45DB-867C-2258FD9E2B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, debating, Q&amp;A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up during beginners session, webinars, Tech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 available for 3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 to 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, Wiki 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lingual support by translating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38317-4A17-4C5A-8600-9A4F6136F9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CANN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n Toronto (ICANN No. 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improvements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ICANN Academy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mC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ointments have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and announc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B2149-82F0-43D1-9A36-139999DAE0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76240" y="1447920"/>
            <a:ext cx="635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proposal should be implemented into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ICANN Acade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ynchronized with existing capacity building programmes offered by ICANN,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et the needs of other ICANN stakeholder grou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vario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training meth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virtual lea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69544-CE4B-4C37-BC7F-4E1537AF3B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2183C-729A-4BF5-8BA0-F787E55E00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– a highly complex multistakeholde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ttle literatur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arning by do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ICANN meetings to understand complex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D7CB7-9C7F-47A0-B085-46411C988F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f ICANN leaders not available from 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capacity building programmes in place (i.e. fellowship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eet the special nee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appointed ICANN offic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303ED-A943-4F89-BA05-EFDD0E2BB4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76600" y="25686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The ICANN Academy could fill this existing gap!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D37DA-DD8B-4B87-8C41-1668945E84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s about ICANN’s complex structure, function, procedures, policies, ongo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ocializing a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develop the multistakeholder model and foster cross community work during their t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574B9-D4D7-4DE9-B677-3BB07FCDDC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ard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pporting Organization council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visory Committe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enior Level staff as potential train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F816E-8F49-4AE1-A7B2-8EB505A6EA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groups with specific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vey a basic understan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. about ICAN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2. for the different perspectives of e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oster interaction and  dialogue among these stakeholder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F82BC-C68A-46AD-9E17-37C31062F0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days / 2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2 fac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ir term st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ICANN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M / Wednesday –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day 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83016-8EDE-414F-B382-9AEE1C70A4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mat of the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iso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also besides th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continued during and after the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97962-1B14-42AE-8FDB-D5CF6B09ED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0:00:14Z</dcterms:created>
  <dc:creator>Sam Oltman</dc:creator>
  <dc:description/>
  <dc:language>en-US</dc:language>
  <cp:lastModifiedBy>HU</cp:lastModifiedBy>
  <dcterms:modified xsi:type="dcterms:W3CDTF">2012-02-29T22:18:49Z</dcterms:modified>
  <cp:revision>23</cp:revision>
  <dc:subject/>
  <dc:title>Presentation Title</dc:title>
</cp:coreProperties>
</file>