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6419F3-F067-4E23-B94F-4F2987DA613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AA079A-01CA-4D4A-B812-5991357A713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DE3894-19BB-4A8F-AD34-079A58220C4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215A49-4DBA-4011-8297-7A27F722748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8D9A42-9AE3-4DC7-B03F-87F78383D64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E62D85-BF34-4C64-B83A-10B1F726BF3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9E85CC-DA09-4723-A4F2-E7BCB61DE81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034A90-82A4-4E13-A11A-2E26EAAE999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D62926-E4E6-46C9-B24A-B19FCD9C40F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67952-FA4B-4097-B179-16D7F8F9A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C9635-5CCD-4338-8C33-25C532FC97F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AA37E-DCBE-4131-80BE-4D3A43D9FB5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D2ADC-8019-4C55-A891-4D6B41C3884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FE529-BD72-4706-B179-DC61EDCF6F5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4FFA4-F9D4-43BB-931B-81BB45AC78C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8477A-4211-460E-984D-600B970FF0D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9E90E9-7D99-4BDA-8046-E77B5B32A15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EFB5E-ABC5-4058-A492-264D3649EC9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03955-3177-4080-B2FD-1EEFF0CC1BE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BFF1C-B10E-4B0E-A553-B91351575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FAC6B9-08F1-48C2-BBD7-3A0B156D0BB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6378E-BDBF-4382-827F-0A6333AB343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CFC2F-4B06-42E3-9EB9-598A4C6D395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B1B90-5965-480A-932F-7A3DB550DCD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52F41-592A-42F4-AA58-02732D23F72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51A65-36D3-4561-B069-C17F3AD9F8B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74D70-FB74-49D3-B750-29B89D7D9D7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1110A-9B1D-47E9-83D7-676F5B18086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99340-A925-4283-BF37-40A67995D90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86760-E383-44B8-9F50-7D59DDF02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3840E-66B8-4787-8765-0F3175D8D49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0CC44-15BD-4937-9FD5-16E6BC661BE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13174-E1AF-4BDB-9524-F039A4FC1FC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5142F1-7F2F-44A3-94FE-68419E59B21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C1E1C7-BAFE-4650-9293-7EF0693C55A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844A35-752C-4710-814C-481D9511693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750C03-0C38-4234-91CB-A83FFC21F7B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5C9D0D-A6E5-4C74-8242-2B1F7082C28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97AA13-51CD-493F-AD56-2FE560BE5BB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8BABF7-4B16-43A0-AFD5-F69250EA8B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D27FA6-25ED-437D-9B62-596DE23EA9E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1B8D43-5C05-4CF4-BAD3-EE73258C8BA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5E2114-6B51-49B7-B5C0-458CD7C406C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8366C8-E544-4AC9-802E-B0FA449369C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AD5FC-08D3-4175-97E4-BFF8CB513C4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8B5323-7749-4358-A810-6FD29B0B3A2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84C165-4065-4D73-B83C-09ADAAF46DE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B6B97B-D85C-4035-A6DF-CE9BD18E4BD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C972B4-9851-46C4-8A79-FD87048B091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663C45-FF98-432E-9DD2-969F60CF56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141FC5-7F64-4338-864C-62D3408D7CF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02964D-4D82-488E-B7B3-68E09B27275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A0B3D4-BF12-4202-8EE9-D38573BFDB4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757E67-75F7-49DE-9CF7-A52D361E734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D51DD1-0B23-4FBC-BCA5-DC25308F3B8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FDB75A-4A9B-4495-8006-7B3D3C84C62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A0829A-70E6-4AC0-BD96-3820D100773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BB439-6318-4527-A1CB-A8A6C78C1E4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1446B-F46A-4A68-8F95-C1244511289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4EBA0-F90E-43CD-880E-87ADE16C14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60BF6-DD51-4C70-AC1A-8A6D5E800DF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8B689-F010-4753-93D9-C0B7DCB8687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0F403-FDF4-42E5-995D-D39A0053E54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A9CF1-D8D7-448A-B562-CF91AD735C8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301D0-6396-4778-841B-268BC53D314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2DE57-07FB-43E2-98F6-B964D99DAA0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22A6A-E92D-4978-A8BD-C6CE0CE732F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71B88-9579-4C27-8751-588B96831EB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C9726-BB7E-42CF-B460-9B014C92FE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A34-6D96-4071-B9ED-FDB0BC57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5B9-9352-4CBD-A133-4F32300E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DAF8-6F80-43F9-8264-FDD5CF05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9CDB-8BBD-4EBF-B08E-2E13B413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CBA-E1B1-4549-84EE-0B878240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AF6-5486-4C53-B1DD-F0D4A887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DCFD-1E68-40A3-9F91-FA24E7D8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EDA-5626-4AA1-A12C-BB53D19E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7D9-B58C-4483-99FC-ADA86E3F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C783-F9E1-4120-9494-C01DBFBF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DF36-9B95-4FDD-80CC-EFE72828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D671-4B24-450E-BFA2-A6E325B0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6C1BD-EFE1-4720-AA15-FE16DF1FF3B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F3C76-2387-4E64-AC06-8B9ADA8058A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95866-885D-40CE-A28E-013C5557E5A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5F790-FA37-4A73-8D73-E5F83E9F64B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1CEF0-EB4C-4E96-AC07-EA82C296203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EE91A-65BC-4D4D-9F71-383099763D0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75E81-57FB-4290-B86C-022C0793040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0477C-143F-4745-8964-A6A73C2870A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7AB24-F433-4D06-855A-2ED9574C1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3E4EB-0E2A-4CB3-9611-D643005BDFE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900AF-2A35-490A-9749-3C64318D849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48C77-B5CE-4307-8415-B489ABD2CDC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FB8A6-A9EB-4FA2-ADC5-E75B303CB01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4A043-FA30-402F-9FCD-0F5457FA66A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4375C-1D80-4AC0-9C97-A87FE43FF59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CAD3A-95BD-4334-B6EE-FFA1D442536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A1494-415E-4EA2-B729-DC49B822069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28CF5-D80A-4A3E-ACDF-FCD91C5CB54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01B56-12DD-4911-BC08-F499CB020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FB235-2240-4562-BEDD-81D5F8FEABF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59C9E-651C-409B-8D5D-C3240F92962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C5F3E-1167-479E-9854-4AE3B6A6EB5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C73B3-24FE-4A38-ACB8-F8A7BE6597B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CC522-2F99-4AEC-87F0-8738622E656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449B-16E5-439C-9B14-89F0D267584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ADAF-BEE4-4C86-B80C-C77937B72D2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30BC-EBFD-4FE3-83EC-ACC86638F30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F491-21DA-4737-A961-86AE2113CB3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96E2-08B2-46E7-880B-1D63B4D33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40E0-5B50-4C51-AE85-97014E96EAF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342E-B75B-41A9-AE63-FEB4624DAF3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2FEB-7A3E-4501-8DA2-4D92B78F308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F3D2-94D6-4F3C-97F8-57469249A0D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093C-11F1-4DA7-AB12-E68058BB456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5A79-302D-4C37-B090-F798A269A4C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6D1B-F676-4273-A3E9-414BE2DB3FE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02BB34-092F-4387-8446-402CB2DF299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3B69FA-ECCC-4D62-BB9E-ECAB16E5614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74F304-F35C-43EE-835D-EC07B9EAB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title_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BEF27-C5E1-4232-9492-09241D8B059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CCE2C-EF25-456A-A06C-949380FB3DD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BADFA-6D25-46DF-A5AE-6A524DFEC8C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A723A-D9D7-4BD5-896F-7D706BB4C0B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86A69B-8F47-43A7-BEB3-D8CC89FB970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A832B-00A9-49DE-B39A-EE9C8E9431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7C0D17-F7C1-4477-B6CC-1AC70E339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BC66E-1079-439A-A775-5ABA9CE2FF3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61202-83FC-497D-B2E0-632FB7D4308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8D437-2A5D-42DB-9023-34F89867439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F39E1-3982-4040-AF1D-9B0463D57E7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ICANN Acade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990360" y="3600360"/>
            <a:ext cx="746748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Understanding and developing the complex ICANN multistakeholder mod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Curricul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 topics (Day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CANN training (Day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urrent ICANN Issues (Day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ap Up at the end of the ICANN meeting (1/2 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8325E-408D-43DB-9D47-0402A478714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0477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, debating, Q&amp;A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up during beginners session, webinars, Tech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r available for 3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  to peer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odle, Wiki work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lingual support by translating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D3BA9-52E4-4A86-9E4C-55F8DE624D9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0477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rther ICANN outr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lot in Toronto (ICANN No. 4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and improvements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ICANN Academy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fter NomCo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ointments have be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de and announc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6FFB0-8D13-4F71-8E62-D407306112C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676240" y="1447920"/>
            <a:ext cx="6357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urrent proposal should be implemented into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ive ICANN Academ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cep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ynchronized with existing capacity building programmes offered by ICANN, 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et the needs of other ICANN stakeholder group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using variou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ive training method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virtual lear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93244-2580-446E-95E0-2A35F22CF5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  <p:sp>
        <p:nvSpPr>
          <p:cNvPr id="599" name="Title 1"/>
          <p:cNvSpPr/>
          <p:nvPr/>
        </p:nvSpPr>
        <p:spPr>
          <a:xfrm>
            <a:off x="304920" y="1522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Looking a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90A28-81FF-4E9D-BBB7-8817977DDF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int of depar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7760" y="1600200"/>
            <a:ext cx="598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ANN – a highly complex multistakeholder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little literature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arning by do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3 ICANN meetings to understand complex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C2EB7-B996-45DF-B905-3EF8D1479AC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int of depar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of ICANN leaders not available from the begi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ous capacity building programmes in place (i.e. fellowship program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meet the special need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ly appointed ICANN offic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CE143-E8DF-4A86-BC51-24FBA9F4287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676600" y="25686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The ICANN Academy could fill this existing gap!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93405-1CD0-4E04-A627-37C46F568F4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Key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ledge trans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ics about ICANN’s complex structure, function, procedures, policies, ongoing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Socializing asp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rder to develop the multistakeholder model and foster cross community work during their ter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DF7EB-D8D0-464D-88B4-51DB639FEF0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arge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ard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upporting Organization council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dvisory Committee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Senior Level staff as potential train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BF19D-1DAB-42BA-9FB8-7E746A5A09E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arge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7760" y="1600200"/>
            <a:ext cx="598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fferent groups with specific backgr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onvey a basic understan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. about ICANN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2. for the different perspectives of ea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  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oster interaction and  dialogue among these stakeholder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4FFB0-531E-4208-82D7-6408041B425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 particip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days / 20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 2 face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their term st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to ICANN mee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GM / Wednesday – Fri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f day wrap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5DBBB-7862-4D33-845B-960BF21240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Format of the Acade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nglish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 isolated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ve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on also besides the meeting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continued during and after the ICANN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5F6E6-6E9F-40AF-9531-F9A3408387A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0:00:14Z</dcterms:created>
  <dc:creator>Sam Oltman</dc:creator>
  <dc:description/>
  <dc:language>en-US</dc:language>
  <cp:lastModifiedBy>HU</cp:lastModifiedBy>
  <dcterms:modified xsi:type="dcterms:W3CDTF">2012-02-29T22:18:49Z</dcterms:modified>
  <cp:revision>23</cp:revision>
  <dc:subject/>
  <dc:title>Presentation Title</dc:title>
</cp:coreProperties>
</file>