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A6F66A-9C40-4730-88E9-5441EB3CAEE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448586-FFB8-466F-B141-17F1A08342C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9259A8-2787-4E0C-AD6A-BAEABAC9F01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30C7B4-3614-4799-9C71-5DAE9604C10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F99831-88B1-4CA7-A7A4-4E75E059670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A8BAE7-241C-4C82-9140-15A471FFA88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69863B-D948-42E9-93EE-B2CF3A1E5C1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6808D2-CC24-4392-ABBE-9923603499C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FC827A-E1F8-4205-9E49-65E0E1F6222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C77C4-E614-4977-A32F-B0FFA84C9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1589F-B38B-45E4-9B90-9490DEE65DD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03015-88E5-4073-96AF-7CF2464E2A8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74245-F1F5-4023-A72E-083D514A828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429EC-5029-40D7-9FDE-470F0C0D624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3FA07-9D80-4818-ACEB-6F88DD2AF51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8B17BB-3451-4208-82EA-33232F1B599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C1866-8E86-45FF-A816-C3A8EFC01F4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9B172-91C5-420C-83C0-FB46CD4B6C1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967B4-B7E4-42F6-B8F9-002EC5E5373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6DFE0-87DC-467E-9B1B-80A17DCA5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88F99-D08C-4171-A662-9D7FE138D49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F5C75-72DD-4A42-9B06-33742E60F30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8A15A-6B03-4D4A-BC1E-FF87E6906A5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AF92D-B5AF-416A-A52A-E0B182A01F9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B13F0-7614-40E7-8405-D0E3D91C776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4D637-FDF5-409C-B2BD-030F1D0B46F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302DF-AF90-4ADD-9853-44E0EA5A10D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137A6-819F-430F-BB8B-046AA8685C2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F17E3-2CDE-48BF-BF43-5A0878C991F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96360-8A35-401F-AEB7-750A8B3A2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5E667-A206-4480-8F4C-F410595951D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1CFE1-E3F4-4964-8DDB-3DA27CD75CB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61852-055D-4ADB-839F-DE849B031CC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39A76-2603-475F-8188-8528791CF6D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24744E-16D1-440B-A835-D7CDCE44D37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877340-25F4-4904-BB06-A48604360EA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B43CB5-14C0-4968-8204-331E81559E8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FFF1B5-618F-4FC3-9B4C-10B39258150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F0695D-AA3D-4CFE-BB7E-2D3D4F19CD4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EC887A-B418-455F-8E99-F243C82C29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EE602D-F0A6-4DB8-B2D7-8C0855B9E31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3DBEE1-0E92-46AA-A1AE-10D37C0AA7B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7AA97C-4754-4655-B682-E0BFC14EAB1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A7249E-7D6B-477A-B028-814B3F0A8FF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816039-4CCC-4B9E-AB07-AD66297F5CD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1D7923-87F0-4279-B5C2-D11EBFA304E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7FED82-3593-49C7-9C5C-E5565C1A23A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A49309-20CC-415F-B840-33D383F82CB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14FEE5-2CE6-4DBE-ABF8-BC60DC0308C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104C09-033C-4AB6-A098-30AB9F06C7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38F498-98C6-4006-ABF9-DF72B947503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C5B7FD-67EA-48EF-A322-3364A778672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D70EEA-FC96-4587-9662-B94E9F4B1BA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8A177-58A7-4416-A21B-81C43B4C2E4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24630A-4A59-4BB2-8F06-36AD5B82E4B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FD2AE7-3EC5-46EE-8A6F-E445AEFCCEF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AE0FC8-0C94-46A9-B61A-CA75EEC9F73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DF51F-F86D-4A4B-A5F9-4BC71D19876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B1E2A-BA08-4D64-8DFE-2453CAD6677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8717A-4343-4345-A4CD-558376FFEC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798BF-B957-4D8C-B821-C6C2411DD1D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C3A2E-F831-443C-AB7F-679B99D817B3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703CE-7540-45BB-AC41-DDC95018AE6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23482-2E8D-4FBD-B8AD-7740F2C0C5B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DC1DD-405C-4A8B-B5AC-8DBFEA052EC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47426-DABE-4B2F-9043-40A56AE4CA7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2B149-D840-4E36-B394-61D50C9CFB2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2F56C-421D-4BF8-897F-E047F9D1A9F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79BD8-4F21-445D-A37F-B7D48EFB81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931-4C4D-49EA-85AA-8990190B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DB7-63B1-4C38-9B77-DF0C970A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45A2-2165-4AB7-B607-350AB246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C27-DA9F-498A-BA16-013A0F4D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6B3-B710-4F39-B54B-C9535232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46A-2DF9-40CF-99AB-19E865B8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1F89-5CC4-49D5-B1A5-F79E7C8A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D5F-0F96-4949-B990-A715158D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71E-1406-45AD-A510-B02F03D9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5FD-FCDD-4C55-B155-D5F35BF7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D42-4D2C-4FF8-8505-32E02B09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329-F8DC-4CCD-9C99-F9CEA30A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A823D-2EAE-4EA7-A446-AC72ED40AF6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4C9A1-2CF2-4873-AD00-202C77F852E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CC5E6-FF7F-4743-9EF7-470DF668E44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8F788-D1D6-4FE8-9BA4-C37AB97C0D3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801F9-AE07-451D-A3DA-FAA4DCA2B4D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B56C5-D4DE-48EC-9CCB-151DDE236DA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A265C-E447-4A9B-BC16-27E7DE7F7E1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9E062-E4EB-4687-9DC5-4A5B00C2440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6C0B7-835D-4146-83CE-3BB0C250D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4A5B3-A80C-478D-8D7D-23732447A02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B9D77-CF40-4DCE-84AF-B432281EE36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FE260-6EB1-41B4-8354-88F577C66EF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7186C-AA40-4650-BF2C-291C42BF197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7B82A-5F4B-49B6-A084-94BF39192A0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7C149-BD3E-43D3-85F9-152486E5622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16B23-7BE8-43F0-860E-71155721D20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55204-7035-46AC-AF16-1ED229DA05C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FABEC-0301-471A-87D9-F3B9DE3B58C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E8829-E454-4DCB-9598-7B7656295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52CAA-EA66-42EE-B336-CD1E94DCB4D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0954E-329B-4541-BAA2-74715299AB5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B95C3-7D7D-4EFE-9BA7-C7102FF82AD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F9905-F652-4501-9AF8-D7712DB2388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9B18F-7B06-4E2E-B934-CAC324D2EC4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5C1D-024B-4369-AF63-935B965EB41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6F73-1CD3-492E-813A-FA45F2EA822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DEC0-8400-47A2-B21D-4DC85DFB90D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AB57-B5BE-4BF4-9E56-5014E354BC5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BC1C-68E3-429B-A017-A89A575E8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67F2-70CA-48D7-BB14-D0195B18E4E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4A3A-9049-4B00-95B4-E7E652E249A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5AC2-85B9-49CF-941C-076E3A5F2BB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3DCE-0D25-4BB2-903C-CAFA74E1A66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299C-807F-476C-90AA-335194AEF61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862B-42B5-4E99-BE1D-243D776C834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8DC0-92C6-4D81-BC6D-A6F8F4502DB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478A6F-8FC3-4BB3-A10C-0A2A694E343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D9CAC7-03FE-4BE8-AECA-99DA4E67E4D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4DB6F5-E903-4F60-A665-28CE2B85B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title_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57BB1-A891-462D-93DE-0BC68D3B645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F1E63-06D9-47B5-89A1-3FE956D872B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7187F-D32C-4AF0-A1DD-E792FB8EF43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442F6-697D-45A8-8100-196B9E3055C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963B3-F02A-4AF2-9AAE-93538C58896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131A6C-4354-492F-B527-61F5BC5BD5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2B186D-33FA-4AB8-AD88-D2935EF3B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48A45-D5FD-4DFF-A3D1-48502E5B0E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1B04A-1B0C-45AB-A5FC-BE44D5324C0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6CD40-FE42-48BE-932F-CCC57886E32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DE759-FD13-408E-A1AC-7E65CBB9E7D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ICANN Acade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990360" y="3600360"/>
            <a:ext cx="746748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Understanding and developing the complex ICANN multistakeholder mod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Curricul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 topics (Day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CANN training (Day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urrent ICANN Issues (Day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ap Up at the end of the ICANN meeting (1/2 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C9D0AD-216C-4441-8E50-31507F8BCDC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0477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, debating, Q&amp;A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up during beginners session, webinars, Tech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r available for 3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  to peer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odle, Wiki work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lingual support by translating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592D5-078D-4695-8CCC-F995B1760B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0477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rther ICANN outr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lot in Toronto (ICANN No. 4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and improvements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ICANN Academy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fter NomCo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ointments have be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de and announc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EF3A0-C6FF-4E80-8060-1E758727B0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676240" y="1447920"/>
            <a:ext cx="6357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urrent proposal should be implemented into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ive ICANN Academ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cep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ynchronized with existing capacity building programmes offered by ICANN,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et the needs of other ICANN stakeholder group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using variou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ive training metho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virtual lear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416CF-8727-4780-9165-EC38A7D0A9E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  <p:sp>
        <p:nvSpPr>
          <p:cNvPr id="599" name="Title 1"/>
          <p:cNvSpPr/>
          <p:nvPr/>
        </p:nvSpPr>
        <p:spPr>
          <a:xfrm>
            <a:off x="304920" y="1522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Looking a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6BA95-0461-4F3E-B9AE-7CF637A5B95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int of depar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7760" y="1600200"/>
            <a:ext cx="598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ANN – a highly complex multistakeholder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little literature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arning by do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3 ICANN meetings to understand complex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756EF-10DC-4E54-B353-F297BAE4049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int of depar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of ICANN leaders not available from the begi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ous capacity building programmes in place (i.e. fellowship program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meet the special need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ly appointed ICANN offic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26E29-C29F-4E66-BDCB-03CCEA9E76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676600" y="25686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The ICANN Academy could fill this existing gap!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6B7BB-BBAD-445D-8902-4A69B35358B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Key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 trans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ics about ICANN’s complex structure, function, procedures, policies, ongoing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Socializing asp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rder to develop the multistakeholder model and foster cross community work during their ter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1AFA3-190C-4C03-A221-DD09D8C26AE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arge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ard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upporting Organization council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dvisory Committee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Senior Level staff as potential train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EA1E7-322D-4062-B67E-BE27EB8DE4E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arge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7760" y="1600200"/>
            <a:ext cx="598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fferent groups with specific backgr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onvey a basic understan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. about ICANN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2. for the different perspectives of ea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  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oster interaction and  dialogue among these stakeholder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22B0E5-F752-4862-BE23-E5F9DC8A49C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 particip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days / 20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 2 face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their term st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to ICANN mee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GM / Wednesday – Fri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f day wrap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DDA0D-FFF8-40BA-BFCC-CA12B86015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Format of the Acade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nglish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 isolated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ve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on also besides the meeting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continued during and after the ICANN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87A63-3F91-42A9-9AAF-81C32EE308B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0:00:14Z</dcterms:created>
  <dc:creator>Sam Oltman</dc:creator>
  <dc:description/>
  <dc:language>en-US</dc:language>
  <cp:lastModifiedBy>HU</cp:lastModifiedBy>
  <dcterms:modified xsi:type="dcterms:W3CDTF">2012-02-29T22:18:49Z</dcterms:modified>
  <cp:revision>23</cp:revision>
  <dc:subject/>
  <dc:title>Presentation Title</dc:title>
</cp:coreProperties>
</file>