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B5ECF-D9AC-43B0-964A-95A0E36712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B27A9-14F3-48D6-8869-8318ABC6A76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D827E-3025-4FDD-ABF9-0E3BC0EB8D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DD970-CB6C-42E1-9EA5-E6FC489813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2B386-EB99-4859-89E8-5B4C5447FB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857CF-F0E6-45C9-8A2E-D294DE7F05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98005-C967-41EB-8A40-D299A5C183E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5AC55-9BD5-4627-B215-8D46F7A54A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ABD70-139D-4DBB-A6D2-566654CE36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EC1E9-D889-4656-ACAF-EB18614B6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5A239-BECD-4EE6-A8A4-E8B51D0E16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9E6C1-D06A-4B13-B23F-01BFE3AE96C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BBA26-270D-41E4-B4DA-6233B81F6A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42D6F-3DB9-4403-B126-92EBFEB7E4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29508-7821-4DC2-9151-544D164C61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558F3-5723-44E4-BA0B-F0BEA03FEAF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FDD96-C97F-45A4-97F0-FFEDC990694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83724-8BD7-4815-BE55-A980C7CF6BC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2B280-C23C-4BF1-94DE-1AFDC46F613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3A03E-CFF8-4B7D-8983-14AF14F6D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2A08C-8CD8-4E62-AAAD-D32C2557150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5237-E5F2-47EF-AE82-85FFD72B979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94E9-A6D5-4310-A51E-92B559EABCC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55AB1-8301-4FD8-A84E-079F16BEBDE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E419-B3A7-4FFD-B342-1B1DE8820FD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C7CD-A0D7-4E8B-9228-D44FE1CB661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18B2-C7F3-4F80-B48E-CE7F2C6F09F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F1DC-495F-4FAD-9C2A-F17FDB6CEAF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C9A4-2AC3-4E97-8634-BAE0849706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A003-CABC-4783-BEF5-B541ACC5D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0C4D-B2F1-4F47-99D9-7ED6CD769B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87CE-24C9-4F3A-A5D5-4F6026FC1CD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6EB7-4D74-48F8-8E6B-60EF1AB9CA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7B3D6-5464-4709-B457-A84F5552C36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302D8-6614-4179-997D-D209CC440BA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4F9A3-70F6-4916-B4F4-51E9C929C65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518FB-04E0-4E94-B49F-61E7B93BA9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23D7D-B271-4B28-AFAC-49DE41547CD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0420A-1F43-4D19-B8DA-38AB08E991C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46129-ED60-4E71-9A5C-D0B506D958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BB257-066B-4028-9FC1-4C6A93F03C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D6373-887A-4902-A2CE-DFC3C764709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1A3D6-2EE7-4CD7-8EFC-5ED2D25AB78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44389-0C9C-407E-862F-803F3D9D2F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AB96A-FA76-45BB-A926-B02A30CECE6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30F72-A59E-4E5A-B3F0-509FB6CD8BD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AE45B-CEB4-4283-910D-16A93FA6CA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B7526-219A-421A-B685-70B0ECE4E42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695E3-CE03-402B-90C3-DA24F9BCEAE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C65B3-AB41-4FDC-8391-38D012476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369A8-650E-4209-9E0E-83B9DC0BA4D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A1A41-42C7-4EA5-891D-4E8F23E55B5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BFC5A-3C9F-4FE8-883E-936702E8773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1A118-DE95-485B-A2D2-B887D19EA88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D69F8-FB89-4849-84D0-BA335AD8B0F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1F30D-686F-4D14-AD91-E26B7599CE9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117A2-DB89-4CF9-BB3D-1C66C89B403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02F6-143A-4678-9912-23E73CBBB15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ABDA-04DA-4E4A-A0BF-DCF67136ECC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D04D-1604-45CA-963E-DC9934A599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1FC3-045A-4EFB-B3FB-054F7320063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4BF52-00CE-47C9-ACB6-75CE386A182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EBBF-E0AC-4413-B97F-A71305C46E6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3F92-F94A-487F-AB09-1B5494E4945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A75FF-7DD9-44EC-B216-E535711925F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5D09-21D2-4865-9CC1-2E6F137368A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6490-EB27-4A0D-A422-353AD18C043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CB8B-D3D5-45C4-A2C8-1AEDE475115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CB3A-37D5-46BA-86A5-99193E6A99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12E-2794-4A72-8F37-74FE5E2D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3CE-2836-4701-BF4C-38557BF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E38-7EFF-4F93-9240-CB97490B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692-EAC3-4E92-ADB5-44944704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AFC-03B8-4D3C-B449-5F5E7191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9F7-1B23-4C22-BE1D-E37053D3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35A-A5E0-466A-A030-6873477C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F51-1E71-42E1-A789-CAA34991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BEF-836E-45FC-A37F-B6B39E53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AAB-B0CE-42CA-8BED-B8D0EB60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2EB-4B4F-40DF-A333-D0F173D4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9F1-A8ED-425F-9B95-0CEB8296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F33EC-9690-40A2-A68B-7B00E1845B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304F0-8266-4BE7-8970-0768253AE8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D3350-DE69-4B50-9FAA-FC4E3FB4E6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07891-2CFB-49F0-B9DC-044D663148E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B2679-B701-45E6-A77C-5E32D8E4AB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41E94-A60F-452E-8A40-C75C25D039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7D1CA-D606-4333-8155-1ADE0FD94C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45992-33A5-470A-974A-1FAF11CF56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64ED5-4D5F-42BA-9BB8-1E2D9D358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51F3C-CEB9-4430-B3D2-EC67EC0108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0997C-82FB-4FA2-AEEA-649C3E3199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E52DC-520C-43FB-A901-530D10765A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587A1-3989-4AC9-B53F-2C0C174990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48D75-79DF-4BB7-9F5E-495461974EA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4AFBD-6828-492B-B44B-F06B6C42097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618E4-BF2E-4379-8FCE-24C6F276C75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E8E1B-BE4E-461A-B26E-A2FDE0AE38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2DCE9-3077-436A-BEC6-51F0CF505B2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98683-ADDE-4759-B660-8ED366943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994BF-C186-4F87-9829-DA9A8FEF27C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DB0CF-3750-4D6E-BB9B-772C6D238E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32B08-BB3E-48D2-B3DE-5793F04BA16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0A371-104C-453A-A004-6ADA557626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B9ED8-44F4-46B8-B064-3A7F4FE563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61B4-4280-437E-B2B2-554C31079C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D56B-ED6B-4BC5-9D4F-6B538443E1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469A-3626-40F2-8839-2E9984760C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A69E-1EF6-4978-8E91-515DAAE4B5D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03E2-A051-442B-931E-09D3FC585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113F-FB85-4521-8A7B-A97C737FE0A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34ED-3791-4A28-AD20-08BDF0F0FC6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40F4-5956-4E54-BDD6-42D0351FFE0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E2CF-9CE0-4748-84FF-6F7B24A637F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8744-29C3-4030-AA52-50B2A1A95A1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1F11-FB61-4751-B963-C1A0F90E59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AC3E-9E43-43EF-9B3B-01ECB775BFD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F22AE-AABA-4D04-B8F4-8F7584E0D71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25C9E5-37A0-4B59-AF20-552B802634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39CC7-9F2F-4028-A93B-2979C2193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AC07D-8FA7-4B70-AB30-6CF86E75AB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145D8-C154-4491-89B1-09AF9EA955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AEF1B-6D71-42EB-A529-EAB2F1734D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529D6-48DF-4B24-A1B5-9C685077E1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19F0D-750B-43A1-B268-E96D365F67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88BB6-8220-41E5-A76B-97FD34792E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DFA2A-0DFD-4538-82E6-FA8503001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1E3E0-1161-41A1-B92F-235BFDCA65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A256E-E243-4816-8432-2147366398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49783-C337-42EB-ADD2-957E72726C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C19B8-B42A-4228-AE9F-DDF6410E59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CANN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360" y="3600360"/>
            <a:ext cx="7467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Understanding and developing the complex ICANN multistakeholder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topics (Day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CANN training (Day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urrent ICANN Issues (Day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Up at the end of the ICANN meeting (1/2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77EF7-5E3E-4B77-8735-4A3B5C300C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, debating, Q&amp;A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up during beginners session, webinars, Tech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 available for 3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 to 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, Wiki 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lingual support by translating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E9CCA-940A-4E64-82E5-EBA2D130F6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CANN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n Toronto (ICANN No. 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improvements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ICANN Academy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mC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ointments have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and announc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AEE81-5AAC-4CFD-97F2-8A8A9E4BE8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76240" y="1447920"/>
            <a:ext cx="635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proposal should be implemented into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ICANN Acade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ynchronized with existing capacity building programmes offered by ICANN,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et the needs of other ICANN stakeholder grou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vario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training meth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virtual lea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69A82-A970-447A-B32D-C1AFF022DF2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75AAD-AECD-4750-96BD-A58742B7EE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– a highly complex multistakeholde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ttle literatur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arning by do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ICANN meetings to understand complex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43B29-875B-447B-B71B-314614CF7A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f ICANN leaders not available from 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capacity building programmes in place (i.e. fellowship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eet the special nee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appointed ICANN offic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99113-1BB1-4D07-9EE9-FF2B42241C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76600" y="25686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The ICANN Academy could fill this existing gap!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61032-A53A-4DA5-804B-B7728B7B88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s about ICANN’s complex structure, function, procedures, policies, ongo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ocializing a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develop the multistakeholder model and foster cross community work during their t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6FC59-FE8B-418B-82AB-065BE01DA4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ard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pporting Organization council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visory Committe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enior Level staff as potential train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9B24D-3A63-405B-829D-E75DE5B72F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groups with specific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vey a basic understan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. about ICAN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2. for the different perspectives of e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oster interaction and  dialogue among these stakeholder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59862-07AE-46B9-92D4-46E4A33BE9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days / 2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2 fac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ir term st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ICANN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M / Wednesday –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day 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87554-18F0-4C17-8182-5DFEC7AC19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mat of the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iso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also besides th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continued during and after the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C9B48-850D-4F47-BA4C-42F23BC95E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0:00:14Z</dcterms:created>
  <dc:creator>Sam Oltman</dc:creator>
  <dc:description/>
  <dc:language>en-US</dc:language>
  <cp:lastModifiedBy>HU</cp:lastModifiedBy>
  <dcterms:modified xsi:type="dcterms:W3CDTF">2012-02-29T22:18:49Z</dcterms:modified>
  <cp:revision>23</cp:revision>
  <dc:subject/>
  <dc:title>Presentation Title</dc:title>
</cp:coreProperties>
</file>