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E02FA-2DB7-42E4-9257-6F4C0DA02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299CA-C836-4C68-9042-2A2E4BA8D38E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D976E-226D-48A0-820C-1F1D8677572F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ED438-6198-4A03-93D0-29EB2BE99B54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7EFE-92B5-4A3F-9A8D-EFC3B69EB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CEBF-50A5-4376-A1D1-3C12786DB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0ED3-66B5-4640-90D2-607EB9D58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AD40-7EF9-483B-ACED-24E1701A4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1EF3-4336-4392-A31D-2F88A7645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1B65-DDC2-4A2F-9F8F-1CB7FF4A8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50A2-01D8-4B78-A9AF-D09174E11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CA9B-975D-49A4-99C4-3E91876CD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D033-C03E-4D4A-8EB0-06A2B6ED5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7585-DEA3-483F-84AA-E35B4C50C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DF91-FFC0-4EBE-AB55-B60EDE705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A34B-99C2-4795-9DB5-0B1DA4535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slide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1" marL="743040" indent="-28584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2" marL="1143000" indent="-22860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3" marL="1600200" indent="-22860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4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5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6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63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28318-0006-414C-B8ED-12F281D56476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" name="Picture 12" descr="ICANNLogodkblue"/>
          <p:cNvPicPr/>
          <p:nvPr/>
        </p:nvPicPr>
        <p:blipFill>
          <a:blip r:embed="rId3"/>
          <a:stretch/>
        </p:blipFill>
        <p:spPr>
          <a:xfrm>
            <a:off x="8153280" y="152280"/>
            <a:ext cx="7779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2E7D6-2677-43BE-97D3-851CC5B8A0EB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pic>
        <p:nvPicPr>
          <p:cNvPr id="51" name="Picture 10" descr="PP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924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2e"/>
                </a:solidFill>
                <a:latin typeface="Arial"/>
                <a:ea typeface="Arial"/>
              </a:rPr>
              <a:t>Introduction to WHOIS Briefi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38680" y="4038120"/>
            <a:ext cx="3276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Liz Gasster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Senior Policy Counselor 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30 January 2012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</p:txBody>
      </p:sp>
      <p:pic>
        <p:nvPicPr>
          <p:cNvPr id="54" name="Picture 9" descr="ICANNLogodkbluesm"/>
          <p:cNvPicPr/>
          <p:nvPr/>
        </p:nvPicPr>
        <p:blipFill>
          <a:blip r:embed="rId2"/>
          <a:stretch/>
        </p:blipFill>
        <p:spPr>
          <a:xfrm>
            <a:off x="457200" y="4084560"/>
            <a:ext cx="144792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5457960" y="374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at is WHOIS?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e term “WHOIS” is used in different ways to refer to a protocol, to a set of services, and to information provided at registration that is associated with domain name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Most typically, WHOIS is used to describe a data repository containing registered domain names, registrant contacts and other critical information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90736-0E8E-4F0C-84A7-B6F68EF965F3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8A993-7CA1-43F4-AF2B-09CD8FC9F82A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ois Registry Data (“thick” vs. “thin”)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n” Registries display technical data (e.g., nameservers, expiration/creation dates, registrar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ck” Registries display technical and personal data (e.g., registrant contact names, addresses, emails, telephone numbers in addition to data displayed by thin registries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ars display technical and personal data for all names in WHOI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Brief history and background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WHOIS protocol is ~25 years old (RFCs 812/954/3912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ome policy changes have been made, for example to prohibit bulk access to gTLD WHOIS data for marketing purposes, and to address potential conflicts with national privacy law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y agreements specify Registry obligations, the RAA specifies obligations of Registrars and Registrant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Questions persist concerning the use and misuse of this important resource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0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FBCAF-F3A6-41EF-9977-F061A974C80D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ther* current WHOIS related effort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4 GNSO-Council requested studies of WHOIS underway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ossible GNSO PDP on “thick WHOIS”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ending negotiations and Issue Report on the Registrar Accreditation Agreement – including WHOIS topic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WHOIS survey of potential technical requirements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NSO-SSAC Internationalized Registration Data Working Group draft final report –close to completion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63"/>
                </a:solidFill>
                <a:latin typeface="Arial"/>
              </a:rPr>
              <a:t>* In addition to the WHOIS Review Team Report and SAC 051 briefings that are the primary topics today.</a:t>
            </a:r>
            <a:endParaRPr b="0" lang="en-US" sz="18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11:58Z</dcterms:created>
  <dc:creator>IT</dc:creator>
  <dc:description/>
  <dc:language>en-US</dc:language>
  <cp:lastModifiedBy>Liz Gasster</cp:lastModifiedBy>
  <dcterms:modified xsi:type="dcterms:W3CDTF">2012-01-27T21:13:50Z</dcterms:modified>
  <cp:revision>132</cp:revision>
  <dc:subject/>
  <dc:title>Slide 1</dc:title>
</cp:coreProperties>
</file>