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DEF88-5607-4A67-8515-5E8EC77385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0E8A5-904A-4166-8841-1F0AFA450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0BE1F-756C-4DC5-98F0-873F228C1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A37DF-6AAA-4DF1-B0BA-CDD56678C88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6D945-84B3-46CD-AEA3-E8B5716C97D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2BCEA-4361-4101-80E3-4BADE66A128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33916-5AA9-4B5B-AC94-4C5384B035B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81EE-887D-4E91-A7DB-1CCC8AB3305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2E97F-98D6-4E9F-8A62-3B2FCBE9F02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ABABC-B16A-4243-90B6-DD2F701F5B4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03F01-6E04-4CFF-B711-92A9DBF263F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9EE3A-DD64-457D-878E-8F9D0598166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6D17D0-013B-46EF-91F9-9B49AE0E4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D66E23-330E-417F-B577-3B82BDCBDCE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62DCC0-7EC7-42C5-961B-6D0B012DA01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4A6262-3DD1-434B-9401-FE3EC38123C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D97B6B-0EF1-46E2-ADE8-FD09DA984DC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D4BBD9-8F53-4523-B8D5-84EDF8B9B90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EA08F0-F5B2-4255-9744-33F648D2E27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1707DA-53DE-4110-95D5-C9C7D211E54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639520-A141-48CC-8997-C02E60424A7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DFA0D4-6404-4897-8F82-6A39A35BF9C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C94E61-69CD-4E96-91EF-16CADE4C2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A6F06F-E999-4E1A-8286-30E35492F99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D3AB82-344D-41B4-9897-D0A4E6E5F50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D79F1C-C291-4D79-850B-BF922ABD2E9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3AFF4B-09C0-417F-803B-231B196E25E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731DD4-454F-43F1-AE12-98BD57568AE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D12BE1-42BA-43D4-881E-9A4F49B0097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7132AF-0772-430D-B0D3-8493D87718D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398D26-263D-4456-8C86-A2346475F31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9F9EA6-E39E-48D6-BB6D-5AAC8DFF5E4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F72B32-3882-498B-8B90-12AE687BE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F6024D-0E5F-430C-B0EF-BD62DD1364B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93141B-2E6F-4E51-8621-0F79446ADC4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0FF7EE-BCDE-4AAD-B7E0-C3A557AD628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C0176-35E6-4D4A-9BC5-6D2BEDDB3AA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8E4C1-131D-4726-858B-44422F92A25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FC2E6-1325-4576-9461-8BCBAEF4603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16619-EC1B-485A-8B0C-BED4F52B87C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D5F29-E37C-4C61-8B9E-4E7B9793D3D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97664-D070-4FA7-A8F3-F53929EE730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C32FF-E2DC-438C-83DB-2D112D5B5D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78C05-46CF-4E62-ABF2-835FC1D282F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A8B9A-F3CE-43FF-80AE-0C04AA479C6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A988A-6B2A-4DA8-BA11-3CEFE62F6E6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6ACC3-0EC1-4D63-909C-FBAA487C432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D8D9C-D3CF-4AC3-8014-F93A4EDD163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B297BC-235F-4507-BB18-7B894B228FD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2E94F2-6A07-4E07-8E6B-1386342605C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2A3979-3DA3-48B3-89EA-8912F719CC1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353D79-E342-45DD-87A1-F47DB8DF76C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FA0A7D-D957-413C-9D68-13EAE84AFF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66A785-5C7B-414B-AB91-8DA26D5E623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58A2E0-4AF6-4FC2-9B6D-A8DA82166B9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E089AC-E02D-49BA-B0B8-4FB2D9A83B8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E67C7B-9393-4CF5-A2CE-93732D2B007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BEF01C-E87D-48BC-B117-127F296B4EB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34E116-67F9-4E49-87A5-6B3D6C7CB58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3E37FC-B54D-4975-A437-64862A1C126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9A1DF8-88AF-4135-9875-6434EC274C3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2C94B0-569B-4105-BAD7-E713DC260E7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C684C-9ADA-4CF0-B38A-EE418DA78C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35454A-E99E-4616-9B67-E84E73D7441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DF8E3-902F-44CE-BD57-22C3D69697D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874A6-C1D0-448F-94BD-3215E5E02A1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092A10-3FAB-4E22-B211-D13B7B8C7BC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63003-5419-4AFE-8321-324B2C0FD0C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EAD5AC-24CE-4511-8050-C57E85ACD00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D0ED6-0496-4858-A154-CB81D54F4CB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3DF6DE-4805-44FB-875B-119CFA1C578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6ADE6-4E19-438C-8B7A-7A8F00A314B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05683-C55C-46C7-9C48-D75A877AE0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36F71-AFC7-46CF-8561-B0E45497FF4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5AD3D-A1B8-4457-A01A-5A3F6C28243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79219-77AD-40E0-BE42-48ED3CA854C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6BF90-7C5F-4178-AFBC-A856E9532EC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28AC7-FC94-40F1-BF79-CABD32F7744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6DA09-AC41-4554-9456-9AFF0D735CA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2D80D-ECCA-4B8F-AA58-80A991E0181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AF30D-26D6-497B-A645-E5B0E726B9A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BC178-5577-409E-8214-14D18C1A763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002CF-416B-4546-B4E9-C133D0C310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DF913-77A3-4D0B-8A56-347315DD096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B28CF5-9BB1-462A-80DA-D19E66891A9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A3369D-AD92-4736-8071-034A1AE28A5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FCFE7C-6A4F-46A8-B822-98B223DD8EB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074B8F-5380-4773-BA5F-6BB96698F7C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46C039-E0A6-4708-A8CE-5241F60423C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7F6010-9993-45DA-A047-5F6E8113A49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726453-B77B-46F2-9A07-A3248425441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DB61F4-329F-4A2F-BE1D-8F440CEB9E8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460308-BE0E-446D-B155-597951DC88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C1B9EA-FB95-4860-BBA0-299ECC447F7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DAB191-1316-4629-963A-BCC61F8D257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345262-6A36-45C6-BB7F-D533799A79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74B-4C39-4B6C-B18E-5F03EA12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8F4-D2D7-4335-96C8-C918878C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186-A7D6-45BD-854B-A5784978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0DD-8B0B-4A35-8798-7842647C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6DB-62A5-4DA2-99D0-EF933666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3C7-A545-476E-B1F8-44911C8F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C60-5BEA-4214-B45E-9F93C010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D668-BC9A-4BCE-A6DB-061077E0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EB9-778B-4983-91AA-BF3CA35F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7F2-C2DD-4BE1-8C49-8607A860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D21-8B66-4656-9270-780C82BB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9AC-D1F8-42A7-BF79-4E624371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7493-1E8E-403E-97E9-4CD0FBB2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C204-DF9E-4103-B420-D67C7746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71B1-D255-46E3-9573-C5E77C77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1E18-09EE-45A5-B226-A9280C4A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8AF0-5AEC-4E3D-8F18-5F678774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A2D8-3A8F-414F-A62A-0EE3E99A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02F1-73BF-4483-A361-EAE2B825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EEA1-6DE7-4855-B5A4-D267C2B4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F910-D9F1-4922-9B44-D5E5A8AE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5A36-059D-4C54-99B9-7420D42B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24A5-5D65-428C-AF03-7D5E787A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0486-D0F9-4A94-9B93-58F65F18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8F6196-C101-4DF3-B774-84AFB34B148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DD64F2-327D-4F6E-AD3A-71B83DC8B52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A995B3-06B3-415B-9036-C346D95FAD5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9505F8-DFE8-461C-ADBC-BAF3CE8E7C6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2DE872-D058-4BAB-AD35-21B475389C3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0066B4-0695-4334-9C22-B590BFF68EC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3FC17C-FBC7-424E-A8D3-12D7E425E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C3F505-8334-4350-9921-6ED12842300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2C382C-6366-49E1-A442-CFBF0357227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15F08E-C5AE-4784-B54C-142E0128699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66F774-0487-4F21-845B-6DB4197FBF4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7D5AE7-C111-47A6-9E87-DAEE61E09C9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33229-E2F1-45CB-B27E-859933F00E9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0D5BA6-9681-437B-98A2-FBF830FEA7D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B0890-75E1-4E90-98D8-D27382A7B41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9AD07-3C59-4B05-9C06-C3CE9559423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8037D-0A7C-48B1-8B35-33B685ABD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7A026-F47E-46C1-BE65-0BB96BE5D11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FA7B0-A2D9-460F-A3B7-6456293C27B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75366-0E9C-4D9D-9501-4955E89E320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0148A-0054-4B44-A96C-CA3B5D64EF3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1CE7C-4834-444F-B271-727C724827D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B28F3-4EDE-4427-A085-C2BD8536C0C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8AC43-C37C-44EA-A26B-6A85A3F5D51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D558C-5DC2-461F-87D5-9680A3CEE1B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60C60-D4B9-428A-B3A8-57E2A6735C5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F303D-BC3D-4309-8A31-99C417224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42-Dakar-Logo-rev_low.jp2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9C099-6757-438F-A392-7E4520893A3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B4158-5D6D-42E8-9617-F0DBDCD716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36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7CAD2-96E8-4912-90C4-C65E6422FF7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E6AF9-CD42-4968-933E-9FEB2AFA39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517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16503-2AAE-4E2C-AF7F-5A0291D9B5E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55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377F0-DAAA-43D9-9B60-1D0469346A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AF24A-F7D9-4192-8625-73098419C8D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7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5322960"/>
            <a:ext cx="2438280" cy="130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A810D-A7CA-4469-B598-1BD08CC616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59203-3F15-45ED-87B5-EBD27DB83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42-Dakar-Logo-rev_low.jp2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14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72451-2592-4316-922B-519EB3A314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42-Dakar-Logo-rev_low.jp2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143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AD92C-8973-46C5-A3FE-704CE3628D5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5322960"/>
            <a:ext cx="2438280" cy="13064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sldNum" idx="8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86ADC-E8F5-461F-9509-1FF969174C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5322960"/>
            <a:ext cx="2438280" cy="130644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93D7E-38A1-4C19-848D-C58C381BB9C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7BB55-E657-41A7-B2E6-4AB1C0A87D5B}" type="slidenum"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itle 1"/>
          <p:cNvSpPr/>
          <p:nvPr/>
        </p:nvSpPr>
        <p:spPr>
          <a:xfrm>
            <a:off x="685800" y="990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port from the Chair of th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t-Large Advisory Committee from the 4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alibri"/>
                <a:ea typeface="ＭＳ Ｐゴシック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ICANN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ubtitle 2"/>
          <p:cNvSpPr/>
          <p:nvPr/>
        </p:nvSpPr>
        <p:spPr>
          <a:xfrm>
            <a:off x="1371600" y="3524400"/>
            <a:ext cx="64008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r. Olivier Crépin-Lebl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28 Octob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6" descr="At-Large organizational structure_better margins"/>
          <p:cNvPicPr/>
          <p:nvPr/>
        </p:nvPicPr>
        <p:blipFill>
          <a:blip r:embed="rId1"/>
          <a:stretch/>
        </p:blipFill>
        <p:spPr>
          <a:xfrm>
            <a:off x="-328680" y="-177840"/>
            <a:ext cx="9472680" cy="731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61612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At-Large Activities at the 4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  <a:ea typeface="ＭＳ Ｐゴシック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 ICANN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819160" y="152388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16 At-Large meeting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FRALO Dakar Even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FRALO Showca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FRALO Capacity Building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FRALO General Assemb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FRALO/AfrICANN Mee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3 Cross Constituency meeting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9A3F3-EAD1-4985-B75D-CEF5ADE6CC5C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5" descr="At-Large logo"/>
          <p:cNvPicPr/>
          <p:nvPr/>
        </p:nvPicPr>
        <p:blipFill>
          <a:blip r:embed="rId1"/>
          <a:stretch/>
        </p:blipFill>
        <p:spPr>
          <a:xfrm>
            <a:off x="304920" y="304920"/>
            <a:ext cx="1346040" cy="1562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Content Placeholder 2"/>
          <p:cNvSpPr/>
          <p:nvPr/>
        </p:nvSpPr>
        <p:spPr>
          <a:xfrm>
            <a:off x="2743200" y="1600200"/>
            <a:ext cx="62928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reation of Several Working Groups and a Task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Further progress made in Transforming ALAC from being Reactive to Forward-look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FRALO/AfrICANN Preparatory Work on Cybercrime in Afr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LAC and At-Large Leadership Upda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B564D-2457-466B-BCC5-77551BC3A44A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5" descr="At-Large logo"/>
          <p:cNvPicPr/>
          <p:nvPr/>
        </p:nvPicPr>
        <p:blipFill>
          <a:blip r:embed="rId1"/>
          <a:stretch/>
        </p:blipFill>
        <p:spPr>
          <a:xfrm>
            <a:off x="304920" y="304920"/>
            <a:ext cx="1346040" cy="1562040"/>
          </a:xfrm>
          <a:prstGeom prst="rect">
            <a:avLst/>
          </a:prstGeom>
          <a:ln w="0">
            <a:noFill/>
          </a:ln>
        </p:spPr>
      </p:pic>
      <p:sp>
        <p:nvSpPr>
          <p:cNvPr id="656" name="Title 1"/>
          <p:cNvSpPr/>
          <p:nvPr/>
        </p:nvSpPr>
        <p:spPr>
          <a:xfrm>
            <a:off x="2603520" y="45720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Highlights of the At-Large Community at the 4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  <a:ea typeface="ＭＳ Ｐゴシック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 ICANN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Content Placeholder 2"/>
          <p:cNvSpPr/>
          <p:nvPr/>
        </p:nvSpPr>
        <p:spPr>
          <a:xfrm>
            <a:off x="2057400" y="1600200"/>
            <a:ext cx="69786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olicy Develop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8 Policy Statements and 1 Resolu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t-Large Activities in other Constituency Working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tinued increase in the number of At-Large Structure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urrent number 13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D4CFB-3BFE-4A27-9D12-9C698C02ABA1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5" descr="At-Large logo"/>
          <p:cNvPicPr/>
          <p:nvPr/>
        </p:nvPicPr>
        <p:blipFill>
          <a:blip r:embed="rId1"/>
          <a:stretch/>
        </p:blipFill>
        <p:spPr>
          <a:xfrm>
            <a:off x="304920" y="304920"/>
            <a:ext cx="1346040" cy="156204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At-Large Activities between the 4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  <a:ea typeface="ＭＳ Ｐゴシック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 and 4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  <a:ea typeface="ＭＳ Ｐゴシック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 ICANN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Content Placeholder 2"/>
          <p:cNvSpPr/>
          <p:nvPr/>
        </p:nvSpPr>
        <p:spPr>
          <a:xfrm>
            <a:off x="2743200" y="1600200"/>
            <a:ext cx="62928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e ALAC/At-Large Improvements Project Milestone Repo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atified by the ALA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ent to the S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3D79A-5948-4783-AA28-6243C3BA5EA8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5" descr="At-Large logo"/>
          <p:cNvPicPr/>
          <p:nvPr/>
        </p:nvPicPr>
        <p:blipFill>
          <a:blip r:embed="rId1"/>
          <a:stretch/>
        </p:blipFill>
        <p:spPr>
          <a:xfrm>
            <a:off x="304920" y="304920"/>
            <a:ext cx="1346040" cy="1562040"/>
          </a:xfrm>
          <a:prstGeom prst="rect">
            <a:avLst/>
          </a:prstGeom>
          <a:ln w="0">
            <a:noFill/>
          </a:ln>
        </p:spPr>
      </p:pic>
      <p:sp>
        <p:nvSpPr>
          <p:cNvPr id="664" name="Title 1"/>
          <p:cNvSpPr/>
          <p:nvPr/>
        </p:nvSpPr>
        <p:spPr>
          <a:xfrm>
            <a:off x="2603520" y="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ALAC/At-Large Improvements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Content Placeholder 2"/>
          <p:cNvSpPr/>
          <p:nvPr/>
        </p:nvSpPr>
        <p:spPr>
          <a:xfrm>
            <a:off x="2743200" y="1600200"/>
            <a:ext cx="62928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 copy of the At-Large Chair’s Report is available for download on the following Workspac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   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https://community.icann.org/x/j4XDAQ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5BC4D-A08B-47CC-8EBD-AF9AA8399B8C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5" descr="At-Large logo"/>
          <p:cNvPicPr/>
          <p:nvPr/>
        </p:nvPicPr>
        <p:blipFill>
          <a:blip r:embed="rId1"/>
          <a:stretch/>
        </p:blipFill>
        <p:spPr>
          <a:xfrm>
            <a:off x="304920" y="304920"/>
            <a:ext cx="1346040" cy="1562040"/>
          </a:xfrm>
          <a:prstGeom prst="rect">
            <a:avLst/>
          </a:prstGeom>
          <a:ln w="0">
            <a:noFill/>
          </a:ln>
        </p:spPr>
      </p:pic>
      <p:sp>
        <p:nvSpPr>
          <p:cNvPr id="668" name="Title 1"/>
          <p:cNvSpPr/>
          <p:nvPr/>
        </p:nvSpPr>
        <p:spPr>
          <a:xfrm>
            <a:off x="2603520" y="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At-Large Chair’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 &amp;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8:08:17Z</dcterms:created>
  <dc:creator>Julie Hedlund</dc:creator>
  <dc:description/>
  <dc:language>en-US</dc:language>
  <cp:lastModifiedBy>Matt Ashtiani</cp:lastModifiedBy>
  <dcterms:modified xsi:type="dcterms:W3CDTF">2011-10-27T18:29:51Z</dcterms:modified>
  <cp:revision>45</cp:revision>
  <dc:subject/>
  <dc:title>Presentation Title</dc:title>
</cp:coreProperties>
</file>