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74F38-D398-46F3-B689-BAA3FE6961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F71E7-35F7-4527-8184-DC3F51D96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2A7BE-7042-4375-A991-6A372F3A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0D81-6E15-4CD5-B296-ABCFDBCF0D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9042-9BA2-4D00-9F7B-9AA6580E6A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11FF-CE69-4042-B7E9-5298D197C1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3EA4-1E9B-42FC-AD14-F9E95FF4A8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A908-F906-4E9E-810D-A6FBC90FEB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023D-1A28-4971-AE34-C27844B608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C05A-7372-4E8A-A015-D033F7E0B1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56DF-7EF8-45FE-BA3D-B412CC0B36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A49B-FF5B-469A-AF7A-E17DCDFA06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99510-8D46-42E5-8E45-53BF9AE43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EB590-8789-4251-9827-045704B8DC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8B02D-7753-4094-B7E4-3764A15804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26E5C-A945-4A40-BB15-64B9457CEF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17F53-853B-4B4C-81E2-46F75DCC49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ED681-FFF5-4091-8EF8-AAA23FBDA8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BCBF1-C0D5-45CC-BF74-A4E033F516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F5D34-3F6A-4F13-B834-37DCE60AC4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720E5-9BF2-4C46-9824-9F1B961550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E58BE-2B50-4A50-B4D3-34240C71A5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CE0C7-E89D-46AE-A7B2-37ADC63FE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7FABC-03B1-453E-8A7A-EB6373A5A9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BF39B-4C7D-4AD4-B77B-DABF71B768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74102-99E6-4471-BE71-9FA57ED5EA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E52F8-28E9-433F-B66B-ACFB7D3E53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EAC45-0D84-4149-993D-2455DD7277D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CBC3A-E398-4D79-AD03-FFA672774E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0D461-D769-424D-88F6-B378DECE0F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E9FAD-D7CA-4E13-8B4E-15BCDD07FE8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68756A-C98B-4CE6-9579-3F690D3AF2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B62A1-E632-438B-9C27-60F4FF442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F0DB7-D8DB-428D-AC51-2D7AB3E5E6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7ABC3-4439-4BA5-B7C0-F195336E90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96A96-71A4-4EFE-9BE7-6B39C1A6DE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FB73-32A8-432A-9D43-B76D296454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615A-3B61-4F53-A3D6-DE79544D8C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CE20-C5E7-4292-8319-73F8AAF654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AE0D-9450-4375-AC1C-E364B92F058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7014-7D9A-4C89-9E33-3E185F61AB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F72E-00F5-4219-B061-7B744B58BF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5D8E-0821-48E2-B5BC-66DF224C5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D1F9-04AD-4F3F-9AA9-D068E7B467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42F0-A2B0-4D68-B13F-0D213A2A51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DF6F-2F0D-4185-A18D-FE04F39AD4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B42D-6523-447B-AF28-E1E9750D39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9317-7A3B-4018-B462-BD316AAC2D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57850-CEAF-4684-B012-CAC725D82A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B458F-F961-4CFF-9AD7-B7C3BE3131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3FCFB-55A5-4212-9C04-0841CD584AB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EDDB5-6443-46AA-BF92-32136FCB0A7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8037F-D16A-4E61-BAE5-CA152FED44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E978C-59A9-456E-849D-5730112BE0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75D7A-7BD4-40E8-BD10-49BA74BE8F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C1285-0423-4BFE-B1A4-3DBC1770291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6949D-D7FF-4F29-98EA-6E6FE6DC464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2C5DC1-5E2D-4626-A589-E839D1D9410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13DC55-B522-44B2-8652-8541676BB0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72E5A-385F-4060-94A1-7264C89C42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485A4-D39B-48E1-BB21-FDA90D6823E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F11FC-3419-4220-9828-DCDA6AAC81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13FD1-381A-4787-B5B8-085A9AA66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D73F-CE33-4577-968E-5594AE85077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4856B-9CAC-4B79-95E3-1F8AE5A15E7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31F81-88FD-4953-AAA0-32534D6176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3C2E1-9EB5-4DBF-8728-7CB83B8C3E1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6334D-EA29-431F-8B9A-D31E9B0940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48375-462E-48DD-AF9A-696D36EF35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2C483-5E47-41F6-8497-484F00E523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6B5DE-25C2-4B3E-9DA1-794CF996702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313DB-FBC0-43C2-B583-680B2098A56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F104-7032-44F9-BA87-CF0D165CC1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7695-F5AB-459E-A745-494F49BFDA7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906B-FE9A-4AA3-BB39-D0D62E76F9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8549-6098-45BF-B903-7A863C0A164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4DD6-8C75-441C-A3AC-EC74B989F1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E668-CE51-4574-8C1E-6F606D7F3B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7E0A-7538-4DC5-8B46-30C4E82239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7C9D-59B8-4C52-A6B5-177C897DFAF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7A3D-0246-4F99-8651-DC90CE0687E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6586-44E4-4190-B840-0B61DF2D0D3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7EEA-F399-4A1B-AAC2-1BED05D57F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F901-4D9A-431E-A6E3-2CB8F21B797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9791B-EDBE-49E8-8543-A90E65C29A9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51CB4-BAB7-4C42-B2D4-E81B12CA05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BFB72C-49FC-49AE-B95A-948A552A7BE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CCE44-604C-4391-9ED2-7202A9ABD15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F1B206-AA16-445C-ACFE-4CDE8E5C55F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A3D7F-752E-424F-8A57-0982684E9BB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FEB25-6B67-47B8-BA03-380FD079956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0FB6A-8C1E-41E6-BC23-C732D05309C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0E5BD-7B74-49BF-B30A-66A948ECD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E7283-0120-4234-B55A-E02C8C156D5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AD6A5-40C0-46AC-8473-5AA07BA8DE8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1DE38-CC4F-4AF4-928F-945640060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AE5-9E9F-4FD5-89E4-D85137C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71D-F816-439D-996C-D294142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9B4-4E59-49C6-9F6C-66C6C3E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FB3-EF46-4524-A164-F66D6565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EDC-4DD0-4632-AF20-D8ECE535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864-0064-4BB5-9E9E-A8B6A2BA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C4D-ABDE-46CD-89BE-290E785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973-C0F5-42C1-B297-DE05F3F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8B4-678F-4711-9E06-E0AED9C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6D1-001A-481A-82DB-2D8F9567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D8B-EC31-41CE-9C21-60AC5472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1B2-3235-4154-80A4-58DB6744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4847-8B1A-4FE0-854A-5BBC696E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CC5E-411E-4B0C-AF07-EF0066B8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8D5B-8855-4774-9CD0-A39849B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0B5F-7642-4BEE-967A-A834A5BB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27B-7E7B-4B7C-BD02-0D4AEBB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BD2D-602A-4C60-89FF-5B6AEAC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BD35-CC08-4F43-8E2D-3150B00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B82B-FCA9-4CB5-996B-C13ED55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4EE5-F91D-421B-8252-9FCADC09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0350-765F-40B1-AFE0-4D089EC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D38-7878-4643-ACA7-777DFE42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C93-54C8-4249-8143-429D9D0D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E7B4D-D2E6-4A66-8BE7-200FCD2283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DA118-05D3-4EDC-AB7B-036B7600AF7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F5FB1-35E7-4592-BA5C-7ABE92EC8EF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E86FC-D9CE-4673-983C-992ECDE68F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9FCCD-8267-4BE3-812D-D1001561A3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C2F0A-7F9D-4C68-9F3A-03BD88E501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6A39B-83B3-4422-BC88-2A151C5DB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A370D-E59E-496D-9608-5B3087D2A3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73BFB-4B42-4181-A767-3D3F5FAC4C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430B0-573C-4A60-B65A-2BCD0AE2D2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899D3-D583-4997-A52B-147E296DF7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87518-FD46-42D8-A628-FF630027EF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CF78E-41FE-402D-B3B4-0071B33C8A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A72BF-0703-4F79-B599-15509B5612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84511-4FA9-46BF-8912-F96D1ABCBC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C1BE2-CFF9-4C27-9BA9-55FEA3B1D6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84090-CFEB-4B59-ABE0-530E9C5C2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9B60C-75C0-4EBD-9AAC-321B59C88D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56697-F45D-4983-8EA2-0E3DE63BF9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BE386-9FAC-4707-971C-F582E25C64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30381-8A9C-40B0-A66A-F8815CF882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4DC30-0B4B-4E26-BFC5-B4F3CCA271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75CE8-0C06-413A-BE2A-349CD400FD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ADDA5-D80B-4418-9E90-BCC5322831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5C48-5041-48E8-8125-B9522063A3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9E97-9B93-4FA9-A2D9-D5256B9C97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AF03-834A-493E-9645-7BB8A66E0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A06A7-5775-4063-8B59-C8698A8C65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8DDC0-43C7-4B27-BAC0-B5EC1E96D9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FE49E-F350-483A-B1B1-DE8D3EB64B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9F747-805A-489A-B30F-DC42B52E72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11500-6C58-476F-9220-6510A8EEA2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6FBE5-E2C2-46AF-A430-7CD5B93A9F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E17F2-87F1-4F00-BB12-DAAD6AF5AF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B7DC4-4D37-4D29-9885-0F5A34C9E0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67164-2744-4F7A-A2E0-2B2F454B3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8897B-0ED5-4E7C-8C90-9155EC54CF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42-Dakar-Logo-rev_low.jp2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14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31D43-B26D-44CB-A9A2-B0AEB34845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ldNum" idx="8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70D30-6222-4EF1-BB0D-C1ACBD4E02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5322960"/>
            <a:ext cx="2438280" cy="13064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80D57-C7AB-48FC-9369-B014DD398A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D4857-A7AC-4F2D-9297-B34D040905D6}" type="slidenum"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itle 1"/>
          <p:cNvSpPr/>
          <p:nvPr/>
        </p:nvSpPr>
        <p:spPr>
          <a:xfrm>
            <a:off x="685800" y="990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ort from the Chair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-Large Advisory Committee from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ICANN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ubtitle 2"/>
          <p:cNvSpPr/>
          <p:nvPr/>
        </p:nvSpPr>
        <p:spPr>
          <a:xfrm>
            <a:off x="1371600" y="3524400"/>
            <a:ext cx="64008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r. Olivier Crépin-Lebl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8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6" descr="At-Large organizational structure_better margins"/>
          <p:cNvPicPr/>
          <p:nvPr/>
        </p:nvPicPr>
        <p:blipFill>
          <a:blip r:embed="rId1"/>
          <a:stretch/>
        </p:blipFill>
        <p:spPr>
          <a:xfrm>
            <a:off x="-328680" y="-177840"/>
            <a:ext cx="9472680" cy="731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61612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Activities at the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819160" y="15238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6 At-Large meet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Dakar Eve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Showca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Capacity Building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 General Assemb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/AfrICANN Mee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3 Cross Constituency meet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90EEB-D9EA-4C36-B62A-8D2F17ED907C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reation of Several Working Groups and a Task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urther progress made in Transforming ALAC from being Reactive to Forward-look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FRALO/AfrICANN Preparatory Work on Cybercrime in Afr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LAC and At-Large Leadership Upd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765AC-6BE0-48CE-8CE1-69614C3F9DDC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56" name="Title 1"/>
          <p:cNvSpPr/>
          <p:nvPr/>
        </p:nvSpPr>
        <p:spPr>
          <a:xfrm>
            <a:off x="2603520" y="4572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Highlights of the At-Large Community at the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Content Placeholder 2"/>
          <p:cNvSpPr/>
          <p:nvPr/>
        </p:nvSpPr>
        <p:spPr>
          <a:xfrm>
            <a:off x="2057400" y="1600200"/>
            <a:ext cx="6978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cy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8 Policy Statements and 1 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t-Large Activities in other Constituency Working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inued increase in the number of At-Large Stru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urrent number 13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8E39C-28FD-4509-9711-A234B16B10D2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Activities between the 4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and 4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  <a:ea typeface="ＭＳ Ｐゴシック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 ICANN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ALAC/At-Large Improvements Project Milestone Rep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atified by the ALA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nt to the 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8B5B3-4E89-47C3-80A1-4C111849F035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4" name="Title 1"/>
          <p:cNvSpPr/>
          <p:nvPr/>
        </p:nvSpPr>
        <p:spPr>
          <a:xfrm>
            <a:off x="26035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LAC/At-Large Improvement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Content Placeholder 2"/>
          <p:cNvSpPr/>
          <p:nvPr/>
        </p:nvSpPr>
        <p:spPr>
          <a:xfrm>
            <a:off x="2743200" y="1600200"/>
            <a:ext cx="62928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copy of the At-Large Chair’s Report is available for download on the following Workspac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  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https://community.icann.org/x/j4XDAQ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spcAft>
                <a:spcPts val="1199"/>
              </a:spcAft>
              <a:buClr>
                <a:srgbClr val="ffffff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041F4-8B8E-4C58-86B9-7D151FD2C45D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5" descr="At-Large logo"/>
          <p:cNvPicPr/>
          <p:nvPr/>
        </p:nvPicPr>
        <p:blipFill>
          <a:blip r:embed="rId1"/>
          <a:stretch/>
        </p:blipFill>
        <p:spPr>
          <a:xfrm>
            <a:off x="304920" y="304920"/>
            <a:ext cx="1346040" cy="1562040"/>
          </a:xfrm>
          <a:prstGeom prst="rect">
            <a:avLst/>
          </a:prstGeom>
          <a:ln w="0">
            <a:noFill/>
          </a:ln>
        </p:spPr>
      </p:pic>
      <p:sp>
        <p:nvSpPr>
          <p:cNvPr id="668" name="Title 1"/>
          <p:cNvSpPr/>
          <p:nvPr/>
        </p:nvSpPr>
        <p:spPr>
          <a:xfrm>
            <a:off x="2603520" y="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t-Large Chair’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 &amp;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8:17Z</dcterms:created>
  <dc:creator>Julie Hedlund</dc:creator>
  <dc:description/>
  <dc:language>en-US</dc:language>
  <cp:lastModifiedBy>Matt Ashtiani</cp:lastModifiedBy>
  <dcterms:modified xsi:type="dcterms:W3CDTF">2011-10-27T18:29:51Z</dcterms:modified>
  <cp:revision>45</cp:revision>
  <dc:subject/>
  <dc:title>Presentation Title</dc:title>
</cp:coreProperties>
</file>