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78D50-8A09-4EE7-8C11-0B0DC523E9E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F2B56-2356-413C-93C8-AAD540FC295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DA919-9D3A-4857-95F8-2EBE3692359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BA8AB-1F36-40CD-9485-6AC46FFE88F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8EE14-4498-40BD-B961-255D79F5253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20F6B-71EC-4527-AFB2-CCA9AE1B03E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98474-810B-466C-8430-1BCA50FE0B3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46D03-D032-44B9-8D82-CF64CF2E971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BA9B2-7150-4EE3-8A2F-5B3A36F5F2B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D249F-1E49-4FD3-BD60-DE72AD537CF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42345-9957-41BA-99D4-D24E1A08F6E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1973C-2A71-47F4-A966-434A3C66310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A9303-970E-4268-A755-EAA8C04C91A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D4565-DEBF-4BEF-9688-8281C74D8CA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1B53F-AC0B-4CE0-91E1-546AE985584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5A574-0B53-4DDC-9DF4-6B2BB8E9728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05B39-F4DD-48EB-B9C6-E64C80EC8DF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EC0B0-586E-4DF0-A440-1FAE03882DC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AEBDA-3B0B-4A44-B93B-4A85AA1F73C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59005-F544-4581-829C-F78C1B80870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9FDBA-2DDE-42BA-B3A4-E37FCBD2551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10233-71FC-401A-9274-847AC36E3D8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C7FC6-6680-4995-B6E3-BECBCD394B1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027E7-2F77-4FFA-A66D-0B32C5057F9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90476-3BF1-4C42-B36E-4A54FEB3375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B3B77-BEC7-44BD-A636-EE41C5DBF74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AA818-E1E5-454A-A10B-3C17005970A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A3D31-BA71-451A-AD59-A24266E3BE5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0E3D8-588F-4591-A31A-8A344E02B2A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EDF42-3A3F-45E6-A666-FB6AF090B64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20FDB-352F-40E5-95A5-D453F5EE009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8C7EE-40C2-4BC5-BAFE-886316D3088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FF1AC-F13C-4794-B569-B734A9C44CF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24889-CD9E-4A8D-9618-AD40EF7096B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BF649-EACA-49DF-B998-61D90DECA9E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725-2724-4652-A2B7-587CBB67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B56-6C12-4453-A540-68DB7E56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96B-57B0-4172-9B54-CA0E4E3A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727-9E81-4EE9-B137-2DF88DDE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530-9ACD-47CE-8F3A-81C42653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291-1ADC-4196-8CB0-9EB86BC7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E80-0199-47F7-91B2-99545753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D2F-33B0-4F16-A2C7-3E70BE00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375-7F8E-4182-BD2B-2FB6C1B7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330-CA34-4FDF-85D1-A9694F6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F02-C916-4BBE-A391-FC4375DB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9B4-4014-451F-BF21-72A157FA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FF0C8-FAA4-40D4-8734-2CC9A455DF3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Mcknight.glenn@gmail.com" TargetMode="External"/><Relationship Id="rId2" Type="http://schemas.openxmlformats.org/officeDocument/2006/relationships/hyperlink" Target="http://www.ecrimemonitor.wordpres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surveymonkey.com/s/XPZ967N" TargetMode="External"/><Relationship Id="rId2" Type="http://schemas.openxmlformats.org/officeDocument/2006/relationships/hyperlink" Target="https://www.surveymonkey.com/s/NYPM8L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ARALO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,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806400" y="1079640"/>
            <a:ext cx="85550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 Five  Open-Ende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amples of types of answers:  ICANN DOE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nitoring assignment and use of domain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Internet's address and numb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intaining the Domain Name System and IP number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89964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esting respons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2% believe accurate personal information isn't required to complete a domain regi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9 and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(56%)were offered a service upon registration to keep their information anonymous and 26% purchased the extra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s 11 an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82% believe that the internet is risky  while  77% know of someone who has been a victim of Internet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-179280"/>
            <a:ext cx="1008072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ity vs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ypical of surveys  when people are asked about actual risks of the Internet the perception doesn't match the ac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 Performanc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( Highest to lowest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naging  Internet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eas Needing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ublic Relations- 72%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-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 35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-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agement of Internet Resources -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's Future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Future of the Internet 7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idging the Digital Divide 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vestigation of Criminal Activities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earch on Internet Activities 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Charitable Causes 3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49040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rt list 22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lout of surve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ject completion on July 31</a:t>
            </a:r>
            <a:r>
              <a:rPr b="0" lang="en-CA" sz="32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ly 38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Monkey is a good tool for the convenience of survey distribution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offered in English French and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ts of time f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249720" y="-15840"/>
            <a:ext cx="36018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: Neg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ry low participation- Only 38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proof that ALS's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 variance in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0% drop off at 50%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clear on the next steps or followup to what to do with the surv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03280" y="1800360"/>
            <a:ext cx="3995640" cy="4122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nks to all who added their comments and completing the surv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cial thanks to Matt for posting the survey to Surve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nger period for survey review and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chanism to vete the observations into the ICAN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entives for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nner ad on ICANN to prompt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cknight.glenn@gmail.com</a:t>
            </a:r>
            <a:br>
              <a:rPr sz="3200"/>
            </a:b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Crime Blog  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crimemonitor.wordpress.co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nguage of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N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surveymonkey.com/s/XPZ967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S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www.surveymonkey.com/s/NYPM8L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FR: https://www.surveymonkey.com/s/NY5XKQ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was the goal of the NARALO   surve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in information/ opinions of the existing 24  ALS  in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ther opinions and views of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79640" y="2340000"/>
            <a:ext cx="33861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did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33440" y="1670040"/>
            <a:ext cx="892656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and Beau Brendler  created the survey with consultation to the NARALO community for feedback 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was distributed to Naralo List using Survey Mon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cess documented on the NARALO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t stopped the poll on July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completed the analysis an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ypes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endusers 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wareness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e and Function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CANN's strengths and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sues and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rv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N: 35 people took the survey, 24 of those 35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S: no change - 2 people took the survey, 1 of those 2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FR: no change - 1 person took the survey, the person completed the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9360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0:20:24Z</dcterms:created>
  <dc:creator>Glenn McKnight</dc:creator>
  <dc:description/>
  <dc:language>en-US</dc:language>
  <cp:lastModifiedBy>Matt Ashtiani</cp:lastModifiedBy>
  <dcterms:modified xsi:type="dcterms:W3CDTF">2013-01-08T02:41:37Z</dcterms:modified>
  <cp:revision>17</cp:revision>
  <dc:subject/>
  <dc:title>NARALO SURVEY</dc:title>
</cp:coreProperties>
</file>