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4296D-66D8-4159-90DA-F1B26A028C9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421FC-00C4-4762-B62D-918617082BB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1A775-645C-46C4-A28D-AB6F7E9AB8E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150C5-A3E1-43AF-BA5A-0B0E249E6AE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F2FC7-289A-4127-AD3D-22E0AA7A7B7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1A110-3779-4CD3-AC5B-D56C72EDA89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32933-2354-475E-ACBF-BE955709DB8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48C68-F648-437B-BAC1-9020C93FC9E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C1172-93CF-41A7-80B2-028159A9917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9AC44-4ABC-43FD-9E7E-4B36307EE51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55DD0-2A0D-4482-844E-49DFB90A6D4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571FC-30F8-4BC8-B2C0-9036141ED97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8C763-6E1D-4839-852E-483BF05BEFA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46C77-68AF-4559-B964-095BEA26300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16B1D-A4A4-4E0B-8E39-31C70A3823D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DAD16-6272-4E01-8105-4BA08E8A599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61842-C763-45B8-96B6-88FBA6B9AD7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9A67B-C187-4EAF-BEBF-2E4FA747864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4AE48-5610-4DCA-B6BD-B4ECDE0C83F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1335D-E159-421D-B6DD-BA09E31CF59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E8FA0-1878-419B-B035-1F5D14A6541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E8EDB-52D9-483D-964C-4C1ACE8365F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0C11F-9258-4F47-9E99-A52AD4086D3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E152C-4B3E-443A-8CB2-6C37ADAEBC7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7439E-5206-4C3A-A064-F98847DB20F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C810-DAF5-4FF6-BE29-D0EA6B14544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18853-A365-4DBF-AE91-008EAFAA54D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6C714-0E6B-415F-A075-CA7815C4249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F29B0-F9AC-4CA7-A33A-F658EF61A1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00991-EA50-4DB2-A14F-DEB6765AF28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0B688-4B15-4D19-899E-F595AD77363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08169-376D-46A0-AE60-4598FAD6099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E42DE-AF22-4599-97C1-7160AB3DF0A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3512B-76AD-4A95-9759-D50243E9B73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4D0F2-A42A-4189-9195-865F8E15334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7E3-C0C9-4F4A-9AE9-48CAF63D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8AF-5D8C-4190-A93C-F3D8F03A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05A-6DB2-4A23-8A46-8277100C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F8C-C5A8-4061-9FB5-F5D70A76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9BF-D28C-4D4E-92CF-8C8785D7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C30-1614-43F5-B036-5B0FEC2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3E1-1578-4967-AEE8-D0D69EA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BA5-F41C-44C2-A7F4-A10643F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985-99DE-44F5-98A4-320FC94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97F-B7DA-41FD-980D-8363512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B6C-3421-4B4E-B90E-9AE66EB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C8A-638E-42EF-9D05-BE89DBD6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E6552-6D53-455F-A414-A2B581C582F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49720" y="-15840"/>
            <a:ext cx="3601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3-01-08T02:41:37Z</dcterms:modified>
  <cp:revision>17</cp:revision>
  <dc:subject/>
  <dc:title>NARALO SURVEY</dc:title>
</cp:coreProperties>
</file>