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75909-521A-4639-A9F6-761F3D0BC65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2DCE4-DD53-462A-A2F8-63845949D1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B644C-FB6E-45CF-97A0-3B9BE5484AC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1B355-72C2-43D4-949A-812659BD6D2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3E402-2AF0-4794-B061-393A107A54D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86254-F8C6-4C57-9DEE-83B011C21DE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A2DBB-7E8C-43AE-887A-0FC82C454A9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EDFC9-7922-48A2-B02E-682FC77A71D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41B9E-B0E3-4AE3-A12B-8E6ABC4D839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3D666-4AC4-4D77-8993-DCA3F3606D1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28513-53CE-47E2-99D5-B1DF07B6CB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42308-767B-4CB2-8D19-C255DCF7C87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3B4C8-B719-4638-86C6-E88C033EBD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1A10-620C-4088-8B1E-5BF86D44A52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178BE-9C12-4A72-A97D-7AB6E97BDFA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D4AE5-023B-4ED4-887F-E8AB402E651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C21E9-D90B-4D9D-A939-C5F7A04E8ED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9A014-BE9C-4E62-AE55-05B053A947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8A6E4-4B72-4274-A589-CA861E332E8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3373D-E314-445E-B381-58493D63C97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C1C3D-53A2-4944-B460-A28A0F8281A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04137-D093-42B9-A5DD-DDD4676B433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4E602-A417-48D9-87BB-665126CC5BD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6019C-4967-4435-9C15-A83DBD03B1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636C2-C058-4C5C-8684-0C2D7F0CBE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4DD80-C6FC-47BB-96EF-40BEAED563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B7277-F9DE-4D39-8EDE-65D203E26D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7FD26-37F1-4248-AE1B-7C85A830A38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C2873-0229-4233-A707-40F983E6F66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D499C-C422-44B6-8F33-493559CBB95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4147D-45BC-47D4-917C-F43ABB6D320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8A29E-96E8-47E3-95C6-48499711037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09CC1-E140-4020-B51A-3DA7E7BFA7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994-6BAA-4AC6-9CD3-BD7CC592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B06-673D-4187-BD43-209FF4BF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7AB-5B29-4DAC-8B56-1A3FA6BF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C72-4583-4FFA-B4B7-CF5E25F3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B6E-1253-4BA9-AC48-5DD84567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18E4-E4CF-48B8-9ED0-5F86A91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D03-842D-4C73-895E-C3DCA91C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088-E72F-47CD-8987-971F993F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A63-5232-44A3-8B5B-14EA78B3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4B2-3C02-4A0A-A786-5DF1316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F3A-9274-49EC-AFAE-0E004687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059-38C5-4143-B0F2-697125A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96665-F59E-44D1-B9F1-0246D9861B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XPZ967N" TargetMode="External"/><Relationship Id="rId2" Type="http://schemas.openxmlformats.org/officeDocument/2006/relationships/hyperlink" Target="https://www.surveymonkey.com/s/NYPM8L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Mcknight.glenn@gmail.com" TargetMode="External"/><Relationship Id="rId2" Type="http://schemas.openxmlformats.org/officeDocument/2006/relationships/hyperlink" Target="http://www.ecrimemonitor.wordpres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ARALO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mmar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ct 15 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, Nar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500720" y="1619280"/>
            <a:ext cx="1606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806400" y="1079640"/>
            <a:ext cx="85550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 Five  Open-Ende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s of types of answers:  ICANN DOE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nitoring assignment and use of domain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Internet's address and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intaining the Domain Name System and IP numbe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respons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2% believe accurate personal information isn't required to complete a domain reg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 9 and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(56%)were offered a service upon registration to keep their information anonymous and 26% purchased the extra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 11 an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ignificant number 82% believe that the internet is risky  while  77% know of someone who has been a victim of Interne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49040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rt list 22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lout of surve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ject completion on July 31</a:t>
            </a:r>
            <a:r>
              <a:rPr b="0" lang="en-CA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ly 38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ty vs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ypical of surveys  when people are asked about actual risks of the Internet the perception doesn't match the ac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 Performanc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( Highest to lowest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aging  Internet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72036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eas Needing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ublic Relations- 72%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Policing-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Governance 35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licy Development-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agement of Internet Resources - 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CANN's Future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Future of the Internet 7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dging the Digital Divide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stigation of Criminal Activiti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earch on Internet Activities 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Charitable Causes 33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Monkey is a good tool for the convenience of survey distribution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offered in English French and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ts of time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nguage of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N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surveymonkey.com/s/XPZ967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ES: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surveymonkey.com/s/NYPM8L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NARALO-FR: https://www.surveymonkey.com/s/NY5XKQ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alysis: Neg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ry low participation- Only 38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 proof that ALS's completed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de variance in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0% drop off at 50%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clear on the next steps or followup to what to do with the surv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3995640" cy="412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anks to all who added their comments and completing the surv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cial thanks to Matt for posting the survey to 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er period for survey review and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chanism to vete the observations into the ICAN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centives for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nner ad on ICANN to prompt people to complete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cknight.glenn@gmail.com</a:t>
            </a:r>
            <a:br>
              <a:rPr sz="3200"/>
            </a:b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net Crime Blog   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crimemonitor.wordpress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was the goal of the NARALO   surve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in information/ opinions of the existing 24  ALS  in NAR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ther opinions and views of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079640" y="2340000"/>
            <a:ext cx="33861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o did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33440" y="1670040"/>
            <a:ext cx="892656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and Beau Brendler  created the survey with consultation to the NARALO community for feedback 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 was distributed to Naralo List using Survey Mon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cess documented on the NARALO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t stopped the poll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enn McKnight completed the analysis an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ypes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endusers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wareness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 and Function of I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CANN's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sue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N: 35 people took the survey, 24 of those 35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ES: no change - 2 people took the survey, 1 of those 2 completed the 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RALO-FR: no change - 1 person took the survey, the person completed theentir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9360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0:20:24Z</dcterms:created>
  <dc:creator>Glenn McKnight</dc:creator>
  <dc:description/>
  <dc:language>en-US</dc:language>
  <cp:lastModifiedBy>Matt Ashtiani</cp:lastModifiedBy>
  <dcterms:modified xsi:type="dcterms:W3CDTF">2012-09-10T20:19:48Z</dcterms:modified>
  <cp:revision>15</cp:revision>
  <dc:subject/>
  <dc:title>NARALO SURVEY</dc:title>
</cp:coreProperties>
</file>