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D689C-EA57-4F2A-92B6-A4443C4AEAD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E9BB1-E176-49B4-8098-2997D6FBBB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AEBBD-FAAE-4731-AFA3-EA6DA858A6B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FFA34-F6E4-42A5-9A83-A33C99843F6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177F-9D93-4BB5-8231-90193FC3B4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72864-8B8F-4349-81A5-77531343197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9F1CB-7C17-4DF3-9F92-EADE94591A3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3B247-4455-4D56-BE39-8E8C0689BD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4857A-CC2D-45D0-BB9C-012B6D3967E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658D-5651-4250-B7B3-6C5586E8B91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AA0A5-10C3-4347-A129-B4EFCA8D648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A4A7B-F746-422D-84BE-5FF96876536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7F96E-DDE7-483D-B949-E0EF87F3C31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9B418-5E4E-42AC-A060-4D5F8CC6DF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09592-CE4F-4932-BB56-BF477F156FF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31A9D-B356-47E1-8C37-FE77CF7EE9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313EB-D12C-4EBB-9BC4-EFA38E771FD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4D505-AD72-4F52-AA7B-A73656F1A8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768E-84AF-4D22-9602-2B855C5310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F225-DFE4-4532-9357-E9B1A5416C0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D5890-CCB5-4AEA-85A8-C4FDE75A4B3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561A1-ADE2-4A63-9182-B3DB47F4AE4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3379C-0D50-4732-8A5A-56715EBAA0D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54C3-AF03-4AC0-9FD3-313D870285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AC72A-31DD-45CB-967E-782F49BDBC4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D8AC1-529F-41AF-B830-A036F384EA1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DE1C-C926-4972-AB3F-3765D72A8B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FC9F-0E15-4047-91B8-D7690E9F0C1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86DE-9479-49C7-8964-699174D9DF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1084F-484E-44AC-B41C-F7D5D3F1790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3992-8081-4272-938A-FF4DBF2C7C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24E3-F8EC-4626-8D7D-985D54E5E1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08738-B285-419D-8827-B8D536FAB2C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513-5B3B-4B87-B256-E97DC392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A9B-D396-4F9C-ACD7-1B29B68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234-DCF9-4704-8CAA-6F27F57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ECE-22EB-4B0A-864A-10F92F48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D2B-22DE-459A-B391-4BF5B35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F84-8C51-415E-A000-C3E62E6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22B-7C6F-44DD-B39C-04EEB67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256-E8C3-41FB-B36B-0149FFE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3B3-93CC-4107-8E50-D81D8C51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025-CDC9-4140-9478-C389566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25F-D3DB-4B54-8A79-97070FF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9BA-0574-4EC1-9B69-7AA89B5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6564B-0D15-442C-A9A8-5E976C0081B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ct 15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619280"/>
            <a:ext cx="1606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2-09-10T20:19:48Z</dcterms:modified>
  <cp:revision>15</cp:revision>
  <dc:subject/>
  <dc:title>NARALO SURVEY</dc:title>
</cp:coreProperties>
</file>