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64F91-C420-4FA0-B18A-FC9DA16F6F5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65862-BEE9-4194-A92B-5952BA08DDA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2F560-3A36-4D9F-8296-4B17FF2970E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55D59-1EE9-491D-A58A-F82EE316E97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9E9BF-73D0-4439-A5CF-1BD535E5C24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4C80A-610E-4369-94B2-41F81BFF819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5C955-968E-46AE-BB20-36991460636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A35F9-87E8-41FB-9D6A-B7418F2910F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C8212-7461-4923-A584-8DD87EF3183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4AAAE-CE69-4CA6-A890-2AD81006D40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1A895-9C88-47D2-AC18-A7088645786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98AF0-B8B3-49E1-B872-30EA1742D82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AE56E-942C-47CB-AE6E-50E1B8F0175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BFCC7-84C7-498D-90C6-5BE963CADBB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EC53F-E973-4FF5-AB84-0EB6C541B86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0ED4D-30AF-41A2-9C83-3820AF287F5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BBB0D-3ACB-45FD-B192-558C34234E5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1BC4D-DE96-4972-BA18-8BE8068E910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7A978-5559-4C9A-B756-816AD3366C5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AEDD8-9221-4C01-8648-F3FF7DBB195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76A6C-CA87-4DDC-B4E9-F752944C93B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D67A9-27D5-44A7-9F8A-EFAC5A9E7F2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689E4-9E9E-40ED-A748-AB1DD162BD0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84A29-C43A-44E8-B205-9C36A90F00A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8FD7A-B316-461F-BC40-62C70A71FC7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30814-B66D-4BCC-BD88-A82D3CEADD8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F89BA-F894-4664-BF58-10E4BC5AB06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D499C-CCB4-4E1F-8036-E5C6A2F0FE9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9371B-166B-4BB0-8F63-D1A05ED7AC2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558AC-CF76-4EAA-84AF-1584CDA5367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93107-6056-450C-A807-B38B3B8319A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55B91-BF44-429B-9429-D8A4023CB8F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3680C-ACA8-46A0-882B-E2E3036CC9C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1861A-D589-4A5D-B092-D6BEDF37478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3335C-8088-407E-807B-9E8E7D93734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E77-119B-49C1-843F-A1634454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B5B-0538-49F7-ACD3-5513342A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331-5705-4DF7-85E4-B0532D30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749-EDBE-445B-96B7-3D7EC015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85C-8937-4ED8-BB57-56F40A93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868-DDB1-4DF2-BEB9-425DD039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1C7-9034-4B6B-8121-EF135A3B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E04-E25C-4540-9A0B-719C2631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4E7-B3B5-4335-AFA9-E62F5E71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3CD-0A6A-4E1C-BC92-711078BB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396-2BFF-4A41-AA82-FF8CAC38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5F4-D2A8-4E39-8EF5-F1021F2D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FDC55-E8A8-4D16-989B-716D7592EB1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Mcknight.glenn@gmail.com" TargetMode="External"/><Relationship Id="rId2" Type="http://schemas.openxmlformats.org/officeDocument/2006/relationships/hyperlink" Target="http://www.ecrimemonitor.wordpres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surveymonkey.com/s/XPZ967N" TargetMode="External"/><Relationship Id="rId2" Type="http://schemas.openxmlformats.org/officeDocument/2006/relationships/hyperlink" Target="https://www.surveymonkey.com/s/NYPM8L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NARALO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, NAR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806400" y="1079640"/>
            <a:ext cx="85550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 Five  Open-Ended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amples of types of answers:  ICANN DOES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nitoring assignment and use of domain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Internet's address and numb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intaining the Domain Name System and IP number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899640" cy="77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 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esting respons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2% believe accurate personal information isn't required to complete a domain regist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 9 and 1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ignificant number (56%)were offered a service upon registration to keep their information anonymous and 26% purchased the extra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s 11 an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ignificant number 82% believe that the internet is risky  while  77% know of someone who has been a victim of Internet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-179280"/>
            <a:ext cx="10080720" cy="77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ality vs Per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ypical of surveys  when people are asked about actual risks of the Internet the perception doesn't match the act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 Performanc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( Highest to lowest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naging  Internet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cy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Poli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reas Needing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ublic Relations- 72%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Policing-6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Governance 35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cy Development-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nagement of Internet Resources - 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's Future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Future of the Internet 72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idging the Digital Divide 5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vestigation of Criminal Activities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earch on Internet Activities 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pporting Charitable Causes 33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1490400"/>
            <a:ext cx="8280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rt list 22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lout of surve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ject completion on July 31</a:t>
            </a:r>
            <a:r>
              <a:rPr b="0" lang="en-CA" sz="32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ly 38 completed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alysis 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Monkey is a good tool for the convenience of survey distribution a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offered in English French and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ts of time for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249720" y="-15840"/>
            <a:ext cx="36018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alysis: Neg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ery low participation- Only 38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 proof that ALS's completed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de variance in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0% drop off at 50%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clear on the next steps or followup to what to do with the surve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03280" y="1800360"/>
            <a:ext cx="3995640" cy="4122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anks to all who added their comments and completing the surv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ecial thanks to Matt for posting the survey to Survey 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nger period for survey review and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chanism to vete the observations into the ICANN eco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centives for people to complete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nner ad on ICANN to prompt people to complete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cknight.glenn@gmail.com</a:t>
            </a:r>
            <a:br>
              <a:rPr sz="3200"/>
            </a:b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Crime Blog  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crimemonitor.wordpress.com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anguage of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EN: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surveymonkey.com/s/XPZ967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ES: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s://www.surveymonkey.com/s/NYPM8L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FR: https://www.surveymonkey.com/s/NY5XKQ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was the goal of the NARALO   surve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in information/ opinions of the existing 24  ALS  in NAR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ther opinions and views of me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079640" y="2340000"/>
            <a:ext cx="33861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 did th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33440" y="1670040"/>
            <a:ext cx="892656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 and Beau Brendler  created the survey with consultation to the NARALO community for feedback 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was distributed to Naralo List using Survey Monk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cess documented on the NARALO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t stopped the poll on July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 completed the analysis and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ypes of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endusers use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wareness of I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e and Function of I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CANN's strengths and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sues and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urve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EN: 35 people took the survey, 24 of those 35 completed the 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ES: no change - 2 people took the survey, 1 of those 2 completed the 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FR: no change - 1 person took the survey, the person completed the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9360000" cy="738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5T00:20:24Z</dcterms:created>
  <dc:creator>Glenn McKnight</dc:creator>
  <dc:description/>
  <dc:language>en-US</dc:language>
  <cp:lastModifiedBy>Matt Ashtiani</cp:lastModifiedBy>
  <dcterms:modified xsi:type="dcterms:W3CDTF">2013-01-08T02:41:37Z</dcterms:modified>
  <cp:revision>17</cp:revision>
  <dc:subject/>
  <dc:title>NARALO SURVEY</dc:title>
</cp:coreProperties>
</file>