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7EC58-6BEB-4EC2-99A1-AEE3FEB258C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33E7C-D39F-4234-9477-62A8F305EC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01CE0-377A-4EE8-B088-5D269AE48F0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BA720-8CDA-4235-8E80-A18CF9D60D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3ADD8-1F28-4223-986E-C05C5BFB43A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5E97A-2C24-4297-A356-3A8D488F6F8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9D949-51CB-487D-A4C2-27D626CA4D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D345-8C5C-4DF4-9E6F-139016792E4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6D07B-597A-4F3A-AC03-2D514FCCB5A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712C1-A7C2-4F5F-BC0B-0A87A5B373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F8FF5-100D-4361-9F72-2A505EFBC2F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997E2-5E5E-49D1-AEB0-5B03D16648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28A8-B331-443C-A885-1FCDFAD281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F84B3-9596-41BE-BB71-E704A8C0A3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1FDC3-39C7-4568-B239-14E0B701E4F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D790-A288-47B3-BCBD-FDC46ED6F1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01CE7-D0EE-4957-A348-698085E669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80C0C-C9F9-4F95-BEEF-F247EA69947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C63A6-A73C-4B1C-BE64-D4D52E45087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314CC-FE5E-4DC5-BA78-64FBB35326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AF342-E2F3-4C2E-8F0B-F26ACB3B4BD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6C677-6A76-4BF5-AACD-0E4090E2BC3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EF62B-A4B6-49D3-8536-1B5356FEA75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C8F79-294B-45FA-9E63-548D10C3B5D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083A5-4320-4A68-98CF-B0AC837AAA3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663DE-F324-4872-AFA7-BB057BA2614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4B4B5-DED1-45C1-932F-0DDD13E7FFB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84886-71D3-4226-9207-84F4B083B84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5082-C67C-4957-AF86-E889D55C2C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9E4BD-8D42-4A78-9875-A0DBAD09F35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E1542-63AF-4D1D-A6A0-A74E960A738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4FED7-3E44-43A6-A4D1-84F0FDE5CF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A92D0-C4E7-4365-931C-F505A080061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A4EB0-CD18-41A2-8A45-B54AABC2EE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457D-7EB2-49CC-9003-7E508C3ACD5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566-1A72-43E5-B770-2D264707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536-F994-4D26-9E7B-417A98C2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B06-CA1F-4CBD-BD6F-48022382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48A-4E00-4957-964E-E841929B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E6D-71B0-4F10-A190-07A62947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257-7F1B-43BA-8755-1585E7C8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7C8-4BA2-4A16-A792-070622D5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4B9-C447-4B98-A04F-9ECF804A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3A0-379E-4016-AA4E-A8245F9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B86-F660-4A36-B7A0-D71AF60C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360-EA45-430A-9FFA-4EDABED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7B8-1585-4978-90F5-0382192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9BF1-0E82-4EB7-B72E-3B2022F84F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49720" y="-15840"/>
            <a:ext cx="3601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3-01-08T02:41:37Z</dcterms:modified>
  <cp:revision>17</cp:revision>
  <dc:subject/>
  <dc:title>NARALO SURVEY</dc:title>
</cp:coreProperties>
</file>