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ACDED-2184-4308-809E-562295B18B8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CB709-5C06-42A6-AF22-2638F1CF0F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1C8B0-149D-487F-B0B8-22BD772437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63319-13E9-4230-913A-D181C9B2D2E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32AD3-E680-4920-8C9C-ECB26718E4D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14BBE-4AB5-4745-82FD-04C730AABE7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B87F-97FF-413D-ABD9-0429FEC34D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D6ED-DFBA-4ABE-81D5-61257258C2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E7E6A-64B4-4949-AF3D-3A9134B60D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57647-7AD0-4924-894E-2E240C67A33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E99B6-69D6-4A7F-A78E-2E3E007B05E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D221B-9A11-4BE3-8742-C2AD327C7F6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C8DA-4C59-4C9A-9785-13D12E52754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9C2A2-52D7-49B5-8E92-F953391A80A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E160-ACC3-42E9-B652-69F7A20D24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3D27-D36E-4D43-8508-4ED5B7BA44A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B6C9D-CE88-44D9-9CD5-E027C0C1F3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07BBC-0D97-4F0A-8E1C-FCDCAE3D2FE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AA5F8-B80D-49A3-96E8-89E2854FD8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A585C-21FD-450F-8839-7FABEF2661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491E3-BE8F-4187-B66E-CBC141E178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A2CB-2677-47EF-A7A1-7D0CFBEC034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5F81C-1044-40B3-83B7-B5E58B03298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56DD4-8543-484E-8F0E-3E75564A6F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3D7A-6ABF-4773-8F3E-4E08BB4BB26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4E942-0CF5-420E-9605-32D4CF55E7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10CB-540D-44B9-9F8E-9698E32108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4EF50-9106-481D-BF55-FCFEBC6F71C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90939-64F0-434A-8940-31913336CCE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1DC27-6F1E-4766-90CF-9CE9513D32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D0FFF-9CC4-4466-8855-EB1C9D1E22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3BB4-78ED-4322-8EDB-EC6A13E1AC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2D98-398D-4D84-BBDF-A3CC609D1B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D3C-6F67-49E2-B70C-5287959C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5B9-9292-41AB-8DFF-59350545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33D-54D8-415C-9E2A-EE77443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D58-6ED0-4FE5-9E7C-A2788F7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A4C-E841-45DA-935B-8CE9BE7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E14-04D6-40CA-B3C4-950B582E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93A-5EB5-4946-B596-5C3EBA3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DDB-C2F9-4F0F-B849-ADA1493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C83-32B1-4DC5-97CE-23F3EF2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DBA-1F64-49C8-BA42-B8B066A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5CC-1CBF-4148-892F-75040F0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B7A-241A-42DC-8123-E0D18C3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DB5B2-EAC8-453C-96B3-2484E789994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ct 15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619280"/>
            <a:ext cx="1606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2-09-10T20:19:48Z</dcterms:modified>
  <cp:revision>15</cp:revision>
  <dc:subject/>
  <dc:title>NARALO SURVEY</dc:title>
</cp:coreProperties>
</file>