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6DC3C-B983-4272-9CE0-9226F0FC4BB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7FC0D-23AE-4154-9EF0-F3198F31E99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3F2BA-0D9C-4541-8C5A-22C32CB120E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2BF73-76EA-4F84-9809-EAA387F9BD6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EEB1B-5FFF-48C4-9B82-D158711FEF7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63598-270E-48C4-AC0C-1433BDF490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2BB49-24B5-4871-98F5-01DEE642EF1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CFE22-7C46-468D-B32D-7A213C88C2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03D30-5FB5-47FC-B234-AB7DD3E15F2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3729-A94B-4F47-B936-140171ADA97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4A2FD-619D-4AC9-8D38-CC005DBE717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04354-339A-4164-8C0D-ED4E968DD0F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EF06F-14B9-4108-8A87-77B5C3708C5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47CA4-43DD-4459-957A-8A46B6B907B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2B496-D13B-4627-952D-6699A0F8E6A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EC3B2-8275-47C5-80FA-54039C9EF5D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BF1FD-098C-4431-B234-60D2A191345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DE197-8C22-4091-8624-8E312ECBB5E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483FE-A459-417F-A0A2-DECCFD0EEA0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CE8D5-280D-4B0F-925F-9592EA52D4A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C6B7C-8884-4CFB-B450-C60042AF329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1CF4F-62D5-41A3-AAE0-CEC9F602DF9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0DEAF-C8D8-4D1C-B66E-DCC28BD94C0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1B001-BAB8-44AB-826C-035ED377544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64125-9111-4F35-901C-C46E64423FC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D7AA6-40BE-41DD-8500-A916D9C00D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D2269-CC10-495C-B78A-26D2A9C4DF5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A970D-22A0-4279-9AC2-EFA8D85615E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91574-EEFF-4362-BD99-1366FE08F26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9F30-AF6A-4FE6-B8A4-883615C2425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11755-6E46-43E7-9291-76F4BE19740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83487-2747-463C-BF8A-2AFEA9AC804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240E9-7BCB-4E3A-A14A-84D606E3F09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244-43F3-4A37-B50E-F3015DC9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8B1-1E48-4348-9D3A-33B05AA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BB7-CE55-496E-9C7F-989DA638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4A9-915B-4D95-9CD9-859B4443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213-DCFA-4B70-9026-E15B3326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A94-F5E2-4A15-8797-086D8361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D01-F9D4-46DD-B399-95D809BE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152-0F6D-458B-896E-C6E65EC0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93E-57B0-4390-967A-3D3A6629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024-08DC-42B7-9953-1028760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C7B-D150-44CF-B965-F1B9F58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A28-9411-4838-9353-423A1E42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68DB5-5E2D-406C-8C66-81DD2BBE0E4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mm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ct 15 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00720" y="1619280"/>
            <a:ext cx="16063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2-09-10T20:19:48Z</dcterms:modified>
  <cp:revision>15</cp:revision>
  <dc:subject/>
  <dc:title>NARALO SURVEY</dc:title>
</cp:coreProperties>
</file>