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9.png" ContentType="image/png"/>
  <Override PartName="/ppt/media/image1.wmf" ContentType="image/x-wmf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6.jpeg" ContentType="image/jpeg"/>
  <Override PartName="/ppt/media/image10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dt" idx="2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284C90-AA41-49BD-B8EC-441F633552B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 type="ftr" idx="2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6"/>
          <p:cNvSpPr>
            <a:spLocks noGrp="1"/>
          </p:cNvSpPr>
          <p:nvPr>
            <p:ph type="sldNum" idx="2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FCCFA8-9BCA-4FBF-859C-213C00A8E9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AD2370-94DF-4D41-B4EC-4349F9E32F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83FF88-6C00-4FD2-B41F-3D869945DF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B8C25E-3D4A-4F34-827A-5773E63783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stablishment of performance goals can best be specified when defined within three primary level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867994-D32E-4717-9F01-B314C25C8A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rebuchet MS"/>
              </a:rPr>
              <a:t>Metrics -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S Stability and Secur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0% L-Root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avail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itiate community development of key performance indicators for measuring “100% DNS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availability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Contract enforcement of TLD uptime service level agre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global busines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inuity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exerci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Measure of progress toward certificatio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global business continuity standa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DNSSEC TLD signings and broadly adopted by end of plan peri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Number of IPv6 awareness raising engagements in which ICANN participa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itiate an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Internet number resource certification security effort and collaborate with the community on implementatio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in the plan peri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e metrics to ensure that appropriate percentage of the ICANN budget is dedicated to DNS stability, security and resili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D4FC53-089C-44CE-9450-BE6CCE9BC5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lnSpc>
                <a:spcPct val="100000"/>
              </a:lnSpc>
              <a:spcBef>
                <a:spcPts val="451"/>
              </a:spcBef>
              <a:buClr>
                <a:srgbClr val="7f7f7f"/>
              </a:buClr>
              <a:buFont typeface="Trebuchet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rebuchet MS"/>
              </a:rPr>
              <a:t>Metrics -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etition, consumer trust &amp; consumer choice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unch of the new gTLD program and timely processing of applic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IDN ccTLDs delegated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annual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gTLDs and IDN Fast Track: Implementation of measures of success that align with ICANN core vales and original program object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e effectiveness of Rights Protection Mechanisms in New gTLD Progr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ff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Describe the priorities of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gional education program and report progres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ff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Build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blish and execute a contractual compliance regime for addressing the new expanded TLD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unch and timely progress of the Whois program enhancements, especially to address internationalized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ff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Document and publish IDN guidelines in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ff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Address the domain names that are not compliant with IDNA 2008 protocol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resses GNSO RySG comment on Internationalization opportun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01C520-DAD4-410F-A010-446AE69F7C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rebuchet MS"/>
              </a:rPr>
              <a:t>Metrics -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 Operations including IA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et or exceed IANA contract service level agreement perform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11 award of the IANA follow-on contract or 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FQM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 assessmen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monstrating improvement over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PKI deployment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within the period of the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0% L-root up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ganizational Effectiveness Program Benchmarks, Metrics and Resu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 of global stakeholder service level metr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11 implementation of a new ICANN finance information technology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velop and publish additional metrics and reporting of contractual compliance perform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8714DC-6A5F-48BF-9880-D0EE0CA493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rebuchet MS"/>
              </a:rPr>
              <a:t>Metrics -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healthy Internet eco-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ly completion of the Affirmation Review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ly Board determination and action to implement Affirmation of Commitments reviews recommend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inuation of a single authoritative ro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alized cross-stakeholder participation process in the multi-stakeholder mod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Improved ICANN Board of Directors feedback methodology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international Internet governance events with constructive ICANN particip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and trend of ICANN Fellowships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and the related increase and participation in ICANN proce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bal and skill set diversity of the ICANN Board of directors meet the Bylaws requir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resses ALAC comment for better feedback from Board on action/no action from SO/AC recommend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137ECE-FBB4-4543-9974-92A198F180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CD336E-6310-467D-A015-C281D99002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293BF9-C5F2-422E-A888-4DE1D6C447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4D954A-3DD1-47BE-8836-6DC3DE2D973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2DA19C-2E18-4E05-BDED-23A91970B64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FB11E2-3763-44D0-9D8F-CEB17BB5978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582B04-A1D2-4A74-88E8-A8FF1669291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71933F-8B3D-48D2-9BC1-A5D54183070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5EA64B-04CF-4B3B-BD10-7DFC93E40A56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7F72A3-E2C9-4CCA-9717-6E11DAAE0F55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D38EED-1EDE-46AC-96A6-5A1F1D7D8F3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0E903C-4AF7-43D8-B7C6-BA8DC1CA87DB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E733D6-F72B-46E7-A0A8-5754B072E7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34F9B1-16D1-4489-B85C-C6C64E8C304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AE6E81-C661-48F9-B2B9-BF6298A7C8C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47FD32-07E0-47D0-836B-A020ECE85A2F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4DDE8E-AF03-4DE2-B68A-02E556C3EBA7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26699D-C94C-4FC8-94BB-F64027463872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ED6EE7-8343-4AA8-9CA0-9E168B4EE76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E58AB5-F635-4850-875A-0177B73D9773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CA1B03-AF91-4C9E-BFD3-15464273E2FF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D367D0-410E-4058-89AC-9133667CD051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14948C-41C3-4F1A-A0D9-8158F46019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2EE69B-9888-49F6-B98B-77337D7D9647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F7245-F0D9-4515-BE70-98A9AE5702A9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50C7E-3312-44D5-9F02-00E66CC6102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C1215-A78B-428B-AE90-18431F603B62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D67A8-19EE-425F-9F3C-B15D7CC28488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4BA96-EF53-443D-A00C-4F2BD0BA47F0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EA81E-0B14-48EC-BA4A-1509FEAA7813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B750B-6817-400E-BA32-8A56954A90DB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8E709-E6B6-4330-A55A-780842BB35ED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5A07A-A0EE-4CD9-A8E2-D95928A223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B366A-55AB-4411-B4B6-76472F2D3A63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BF3C7-4215-499E-9767-0DCAB387E270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DAF1D-EFA1-4AC0-A203-1EA24FA3D52E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FD55AD-E806-4A66-A6F4-400BBBCDBDFE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D5D96F-C6CE-4A57-986F-E1F8C570CFB7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AE763D-3AC2-4E9C-B7D2-F39664FD0C71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68E639-72BB-456C-9532-764D733004EA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8F3C91-DD7A-4CDF-994D-FE1C6B22AD56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7F7A83-865B-44BC-AC75-457016826431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2FAC29-5626-483E-8163-C3DE865CC92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91D449-215C-44A3-8785-458750FBFFCE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3B097D-A258-431A-8166-1B049F123F17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1CB1FB-9332-4E95-9596-A5EC1B76CBBD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A3D03E-7F5C-48DA-9EF4-18EEB89837D5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301226-0134-412B-BD7F-6D664EB7F522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B6BACDA-3043-4A49-85FE-DD513B0E5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68521CC-9B1E-46F2-AE1B-8A0D785CF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7F397AF-6B26-4B58-9F71-068E44CB4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62C6BA9-E003-4AF5-897A-61D492910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6F2CE76-6266-4CBC-82B7-FC13730CD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96BC642-1D6B-4452-BA46-A94D1F8F7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E884F5F-5A88-4916-AE2D-F4888E39D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675C843-841A-4415-943E-D7AE7AEED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CF612C4-57FA-4973-8D06-325F76C46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9B2BE4-ACCD-4A3D-A72D-4C7DA37AA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686289F-96A2-45BC-96E8-310B3ED6E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AE4B3CD-CF65-47D6-A061-07A5683AD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8F0822-9C00-4B65-A80A-8BF7F85639E8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3F4D22-AD5A-4D1E-ACC0-02F04487E3C5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EC1485-DAB3-4F90-949A-B3E2119B647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4C8E11-52AB-419C-812D-2253F486AD51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2F102D-BE8F-46E9-9DAD-630FB132394A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415946-B753-4320-8C0C-C89D4FD10119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FC1DB2-E91E-41C6-B652-DCAFA04172EA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BF123B-4515-483C-A992-C34E70EC8A6A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526A85-A272-4499-B740-4B075D8BF5F0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AC546B-A5EC-45D6-88FE-2E3277177223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D3AE2B-FA6B-4846-8320-8D58B9A7E8B5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CAF804-AAD2-45FA-A6CE-4DE0A02E11C2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836210-BA69-4FC7-9312-3CAF2720E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D75438-5B20-461E-8B62-7A9E62D79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6D97C9-7560-443B-ACA5-916B0CD64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32E93C-8494-4CA7-BA1F-88B42A381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5B3041-8B3B-4D2B-ACEB-F56815452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1A3639-6371-4E73-826A-E195EB28C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86080A-A02D-4147-9EE2-FB7AB38BB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D5C223-FEB1-44DE-A93F-807465584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68ED4D-5016-419B-81F3-5C16C612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D8BD28-6905-4A97-8983-3A1D88C32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23C1D2-7B43-4D21-A208-86E268E0F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C31B62-0D28-441F-9731-4A4A86922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2C0520-4ABC-41FD-AA6B-2B89CC5F2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D7387C-903A-470C-843F-1A87B1C2B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5FEED9-08D0-4B4C-B607-9695EB740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5D3331-069E-480B-B972-995D8DB90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58DD57-CD74-41C8-AE95-A09B69CDC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D5D251-ECF4-4584-AF67-BA02B96F7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86BF68-D24F-490C-8F25-04C410E0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C7A6C0-726D-4E4D-8E87-3FF40735F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223DFE-C95F-45CF-935D-E0E58C25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EFC0F3-1177-48E9-BBF6-92EAB427F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682D28-23AA-4761-8C2A-96BEDCBE5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DC42C1-05F2-456E-8DD0-955742B31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1462988-3AF0-4CEF-86D0-28D5DF9BD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6F0EE3-BB70-4158-AB58-65A117A90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2D4B8EB-0005-448B-8437-FA34D454F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F9F07E-4FF4-4EDF-9575-A94DF5DE6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134F756-E570-431C-BE2D-008AE417F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FF6729-DFFC-4281-B664-126046A7A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9DD5CFD-9908-43CF-A96F-C797575D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8AD444-7729-4819-A0B8-9FB0E8DA3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6AC6563-CC71-4B75-8646-C9D814081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E9798E2-C22A-411D-9F5E-AD98287FD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7BF658E-48B9-40B3-BC20-7CDCEDB21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F3A8F0-A37D-4A76-B280-0C33FD2F8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B014-352B-487A-8745-C26BDB0CF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09A2-45B5-431C-8CE1-91EEDB2AC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92EA-AF25-4D79-9D2D-3C2FDAE30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C395-DFBD-4245-AC37-1B1D9BA33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1C88-10D3-4594-BC95-2FA2B88E0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383C-C775-4ED0-B392-0C9BC40B7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4CA8-3B53-4385-B104-176071CC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0360-0C67-4E33-8078-6129A45E7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8CE4-AE56-4F7E-A6F1-D10FB4F5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024C-539E-47C3-8A9B-CA0627368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101F-EF9F-43C4-84A4-9F4B49897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6ABE-7436-448C-86C8-E2C782DD3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730DC4-6F43-4EB6-B742-6338F794A57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C296BD-65F6-458D-85E2-20E8006365E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E6CD0A-8919-45BC-962A-FA42A2684B0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0E6A8C-6BE7-49B8-A52A-E9A1C19D886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7CA8BE-B1B2-4587-93AC-D1A311189DE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D25432-B383-40E0-A9A5-7B0FF9F0708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7DBA6B-2A8C-475B-9CA1-8C90E9BC41B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FFAC33-20DD-40C6-9CB8-A06DF45C3DB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628E99-E760-4A01-A8CA-E96C8B318E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EDCB6C-9E14-4CDD-86E5-021A8C3F5F6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C809B5-9BE8-4CB5-90BA-6DC3C60F533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5B67D0-8786-4A14-B794-CE6CB4534FD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5FBDE4-1096-4ED3-9E00-AEC0C9CC008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4EB8E6-C9B5-4185-8A4F-A714E7BE4D2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43E9B5-02DA-4CCF-98A6-5970E39C0C7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0F5D49-3980-4C14-ABA9-C3A51AFF49E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094AF6-CA1C-4E4C-8FD9-F67343A0AF2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80C5C4-DEEE-4B4D-A42A-78CCD6EA675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9C79B0-DB13-4099-9B5C-1E547E1FF0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233567-2508-4F6B-8B0D-32C593DFB01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EFA203-E6C1-4071-BF88-685D311E8F8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1FE8A6-6F9D-44F7-B35A-80D6A6E7D7C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CCC299-7810-4CD5-94A3-BA15634D55F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37F9EB-0641-438C-9A5C-026DC632B73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EC8BC-DDC7-479A-B311-C127AF078ED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B48E1-47B0-476D-92C1-AA44B9D3DD0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BE787-432B-4341-8D0A-C5C192E1CE6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3E6F2-8BE2-4D15-AA05-93AF1097B0C8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2A2EE-7BD2-43DD-91EB-15702FC1A9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87A1B-504D-4E03-94A6-23745A7B981F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3DABD-218E-49A0-AE77-B62906C6B02F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82D7E-EFA1-43ED-A0DB-331628DCF71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C2990-560A-48EE-88E1-E4F37F3D1FC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64EB4-2472-487A-82CD-AE6A9721D4A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CAE40-D25A-4534-BBA1-F53CD19C94DF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CCA5A-FC0A-4B15-9C2F-9653D9B6B8C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2FF641-1879-4AED-BFF3-FC8A112B24C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F1048F-47D5-45EB-9FBF-C5AE9986C1D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24F399-6C72-401E-89FA-1A32E2186C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63360" y="-63360"/>
            <a:ext cx="9207360" cy="69213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5" descr="42-Dakar-Logo-rev_low.jp2"/>
          <p:cNvPicPr/>
          <p:nvPr/>
        </p:nvPicPr>
        <p:blipFill>
          <a:blip r:embed="rId3"/>
          <a:stretch/>
        </p:blipFill>
        <p:spPr>
          <a:xfrm>
            <a:off x="0" y="5772240"/>
            <a:ext cx="1447920" cy="780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5257800"/>
            <a:ext cx="2381400" cy="12762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5A2863-3341-4648-A76E-18300DA94B7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5257800"/>
            <a:ext cx="2381400" cy="1276200"/>
          </a:xfrm>
          <a:prstGeom prst="rect">
            <a:avLst/>
          </a:prstGeom>
          <a:ln w="0">
            <a:noFill/>
          </a:ln>
        </p:spPr>
      </p:pic>
      <p:sp>
        <p:nvSpPr>
          <p:cNvPr id="402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9A82FE-E49B-4000-A3FE-E8A81E6A4C7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5257800"/>
            <a:ext cx="2381400" cy="1276200"/>
          </a:xfrm>
          <a:prstGeom prst="rect">
            <a:avLst/>
          </a:prstGeom>
          <a:ln w="0">
            <a:noFill/>
          </a:ln>
        </p:spPr>
      </p:pic>
      <p:sp>
        <p:nvSpPr>
          <p:cNvPr id="444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794CB3-D689-4137-BF96-D20C6D673A1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5257800"/>
            <a:ext cx="2381400" cy="127620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622A54-E4C8-4C9F-A139-E2AAE248102A}" type="datetime">
              <a:rPr b="0" lang="en-US" sz="2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25880E-441A-4D1F-B073-72E24A52308B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3" descr="42-Dakar-Logo-AUG11-King-FINAL250PX_low_white.jpg"/>
          <p:cNvPicPr/>
          <p:nvPr/>
        </p:nvPicPr>
        <p:blipFill>
          <a:blip r:embed="rId3"/>
          <a:stretch/>
        </p:blipFill>
        <p:spPr>
          <a:xfrm>
            <a:off x="0" y="5276880"/>
            <a:ext cx="2381400" cy="1276200"/>
          </a:xfrm>
          <a:prstGeom prst="rect">
            <a:avLst/>
          </a:prstGeom>
          <a:ln w="0">
            <a:noFill/>
          </a:ln>
        </p:spPr>
      </p:pic>
      <p:sp>
        <p:nvSpPr>
          <p:cNvPr id="528" name="PlaceHolder 1"/>
          <p:cNvSpPr>
            <a:spLocks noGrp="1"/>
          </p:cNvSpPr>
          <p:nvPr>
            <p:ph type="sldNum" idx="1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2A0BF1-B428-463D-A431-EB63C964B05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3" descr="42-Dakar-Logo-AUG11-King-FINAL250PX_low_white.jpg"/>
          <p:cNvPicPr/>
          <p:nvPr/>
        </p:nvPicPr>
        <p:blipFill>
          <a:blip r:embed="rId3"/>
          <a:stretch/>
        </p:blipFill>
        <p:spPr>
          <a:xfrm>
            <a:off x="0" y="5276880"/>
            <a:ext cx="2381400" cy="127620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0DA093-7078-41AE-B3C8-1444EDE591BB}" type="datetime">
              <a:rPr b="0" lang="en-US" sz="2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1AE261-F309-44EC-9931-A5B78154BD40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3" descr="42-Dakar-Logo-AUG11-King-FINAL250PX_low_white.jpg"/>
          <p:cNvPicPr/>
          <p:nvPr/>
        </p:nvPicPr>
        <p:blipFill>
          <a:blip r:embed="rId3"/>
          <a:stretch/>
        </p:blipFill>
        <p:spPr>
          <a:xfrm>
            <a:off x="0" y="5276880"/>
            <a:ext cx="2381400" cy="1276200"/>
          </a:xfrm>
          <a:prstGeom prst="rect">
            <a:avLst/>
          </a:prstGeom>
          <a:ln w="0">
            <a:noFill/>
          </a:ln>
        </p:spPr>
      </p:pic>
      <p:sp>
        <p:nvSpPr>
          <p:cNvPr id="608" name="PlaceHolder 1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AB68A1-1F30-4508-93BB-6155CC06FC54}" type="datetime">
              <a:rPr b="0" lang="en-US" sz="2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D9A3C4-490C-46FE-9C02-34AE544E39E3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3" descr="42-Dakar-Logo-AUG11-King-FINAL250PX_low_white.jpg"/>
          <p:cNvPicPr/>
          <p:nvPr/>
        </p:nvPicPr>
        <p:blipFill>
          <a:blip r:embed="rId3"/>
          <a:stretch/>
        </p:blipFill>
        <p:spPr>
          <a:xfrm>
            <a:off x="0" y="5276880"/>
            <a:ext cx="2381400" cy="1276200"/>
          </a:xfrm>
          <a:prstGeom prst="rect">
            <a:avLst/>
          </a:prstGeom>
          <a:ln w="0">
            <a:noFill/>
          </a:ln>
        </p:spPr>
      </p:pic>
      <p:sp>
        <p:nvSpPr>
          <p:cNvPr id="649" name="PlaceHolder 1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5206CC-47B1-4B6F-8F36-14F593EC2525}" type="datetime">
              <a:rPr b="0" lang="en-US" sz="2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355E37-FA5A-4BDA-9ABB-BFEFFB5869E3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7" descr="42-Dakar-Logo-AUG11-King-FINAL250PX_low_white.jpg"/>
          <p:cNvPicPr/>
          <p:nvPr/>
        </p:nvPicPr>
        <p:blipFill>
          <a:blip r:embed="rId5"/>
          <a:stretch/>
        </p:blipFill>
        <p:spPr>
          <a:xfrm>
            <a:off x="0" y="5257800"/>
            <a:ext cx="2381400" cy="1276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5257800"/>
            <a:ext cx="2381400" cy="1276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42-Dakar-Logo-AUG11-King-FINAL250PX_low_white.jpg"/>
          <p:cNvPicPr/>
          <p:nvPr/>
        </p:nvPicPr>
        <p:blipFill>
          <a:blip r:embed="rId3"/>
          <a:stretch/>
        </p:blipFill>
        <p:spPr>
          <a:xfrm>
            <a:off x="0" y="5276880"/>
            <a:ext cx="2381400" cy="1276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890BAF-E02B-4D9A-A842-43C47FD4196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E0239B-28FB-4950-AF87-F4513F2815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42-Dakar-Logo-AUG11-King-FINAL250PX_low_white.jpg"/>
          <p:cNvPicPr/>
          <p:nvPr/>
        </p:nvPicPr>
        <p:blipFill>
          <a:blip r:embed="rId5"/>
          <a:stretch/>
        </p:blipFill>
        <p:spPr>
          <a:xfrm>
            <a:off x="0" y="5257800"/>
            <a:ext cx="2381400" cy="12762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F7F371-4EA0-40CD-B4D6-B00599AC30A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5257800"/>
            <a:ext cx="2381400" cy="127620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C7FCE8-9753-4F50-93B6-CABA2E8773B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5257800"/>
            <a:ext cx="2381400" cy="1276200"/>
          </a:xfrm>
          <a:prstGeom prst="rect">
            <a:avLst/>
          </a:prstGeom>
          <a:ln w="0">
            <a:noFill/>
          </a:ln>
        </p:spPr>
      </p:pic>
      <p:sp>
        <p:nvSpPr>
          <p:cNvPr id="280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Num" idx="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8D0368-A0FB-49BF-B3A9-B06013EA02E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5257800"/>
            <a:ext cx="2381400" cy="1276200"/>
          </a:xfrm>
          <a:prstGeom prst="rect">
            <a:avLst/>
          </a:prstGeom>
          <a:ln w="0">
            <a:noFill/>
          </a:ln>
        </p:spPr>
      </p:pic>
      <p:sp>
        <p:nvSpPr>
          <p:cNvPr id="321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DAB5B6-40D5-4E24-A5F7-859F17627DD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45.xml"/><Relationship Id="rId6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8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1056960"/>
            <a:ext cx="777240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2012 – 2015 ICAN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Strategic Plan Development Upda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1333440" y="4038120"/>
            <a:ext cx="64008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23 October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2"/>
          <p:cNvSpPr/>
          <p:nvPr/>
        </p:nvSpPr>
        <p:spPr>
          <a:xfrm>
            <a:off x="606600" y="92160"/>
            <a:ext cx="81817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CANN Strategic  - One of the Four Strategic Focus A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umer choice, competition and innov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52"/>
          <p:cNvSpPr/>
          <p:nvPr/>
        </p:nvSpPr>
        <p:spPr>
          <a:xfrm>
            <a:off x="779400" y="606600"/>
            <a:ext cx="1612800" cy="5364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Approved vers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2011-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18"/>
          <p:cNvSpPr/>
          <p:nvPr/>
        </p:nvSpPr>
        <p:spPr>
          <a:xfrm>
            <a:off x="6634080" y="623880"/>
            <a:ext cx="1801800" cy="59544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Updated, for discu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2012-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Box 22"/>
          <p:cNvSpPr/>
          <p:nvPr/>
        </p:nvSpPr>
        <p:spPr>
          <a:xfrm>
            <a:off x="5715000" y="1828800"/>
            <a:ext cx="31701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 single authoritative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 TLD options in more langu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ollo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ew gTLDs including ID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er registration ab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 industry compet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Box 22"/>
          <p:cNvSpPr/>
          <p:nvPr/>
        </p:nvSpPr>
        <p:spPr>
          <a:xfrm>
            <a:off x="318960" y="1828800"/>
            <a:ext cx="3186360" cy="42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intain single authoritative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creased TLD options in more langu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w gTLDs including ID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wer registration ab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creased industry compet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ight Arrow 35"/>
          <p:cNvSpPr/>
          <p:nvPr/>
        </p:nvSpPr>
        <p:spPr>
          <a:xfrm>
            <a:off x="3809880" y="2038320"/>
            <a:ext cx="820800" cy="2863800"/>
          </a:xfrm>
          <a:prstGeom prst="rightArrow">
            <a:avLst>
              <a:gd name="adj1" fmla="val 50000"/>
              <a:gd name="adj2" fmla="val 44144"/>
            </a:avLst>
          </a:prstGeom>
          <a:noFill/>
          <a:ln w="9360">
            <a:solidFill>
              <a:srgbClr val="77933c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2"/>
          <p:cNvSpPr/>
          <p:nvPr/>
        </p:nvSpPr>
        <p:spPr>
          <a:xfrm>
            <a:off x="606600" y="92160"/>
            <a:ext cx="81817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CANN Strategic  - One of the Four Strategic Focus A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re operations including IAN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52"/>
          <p:cNvSpPr/>
          <p:nvPr/>
        </p:nvSpPr>
        <p:spPr>
          <a:xfrm>
            <a:off x="779400" y="574560"/>
            <a:ext cx="1612800" cy="53676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Approved vers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2011-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18"/>
          <p:cNvSpPr/>
          <p:nvPr/>
        </p:nvSpPr>
        <p:spPr>
          <a:xfrm>
            <a:off x="6573960" y="541440"/>
            <a:ext cx="1949400" cy="59508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Updated, for discu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2012-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Box 27"/>
          <p:cNvSpPr/>
          <p:nvPr/>
        </p:nvSpPr>
        <p:spPr>
          <a:xfrm>
            <a:off x="5715000" y="1752480"/>
            <a:ext cx="32907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wless IANA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-term IANA functions respons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lien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-Root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al improvements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EFQ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CANN meeting ev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Box 27"/>
          <p:cNvSpPr/>
          <p:nvPr/>
        </p:nvSpPr>
        <p:spPr>
          <a:xfrm>
            <a:off x="258840" y="1779480"/>
            <a:ext cx="33224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wless IANA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-term IANA functions respons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lient L-Root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al improvements (TQ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ight Arrow 35"/>
          <p:cNvSpPr/>
          <p:nvPr/>
        </p:nvSpPr>
        <p:spPr>
          <a:xfrm>
            <a:off x="3809880" y="2038320"/>
            <a:ext cx="820800" cy="2863800"/>
          </a:xfrm>
          <a:prstGeom prst="rightArrow">
            <a:avLst>
              <a:gd name="adj1" fmla="val 50000"/>
              <a:gd name="adj2" fmla="val 44144"/>
            </a:avLst>
          </a:prstGeom>
          <a:noFill/>
          <a:ln w="9360">
            <a:solidFill>
              <a:srgbClr val="77933c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2"/>
          <p:cNvSpPr/>
          <p:nvPr/>
        </p:nvSpPr>
        <p:spPr>
          <a:xfrm>
            <a:off x="606600" y="92160"/>
            <a:ext cx="81817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CANN Strategic  - One of the Four Strategic Focus A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healthy Internet eco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52"/>
          <p:cNvSpPr/>
          <p:nvPr/>
        </p:nvSpPr>
        <p:spPr>
          <a:xfrm>
            <a:off x="779400" y="574560"/>
            <a:ext cx="1612800" cy="53676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Approved vers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2011-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18"/>
          <p:cNvSpPr/>
          <p:nvPr/>
        </p:nvSpPr>
        <p:spPr>
          <a:xfrm>
            <a:off x="6504120" y="541440"/>
            <a:ext cx="1923840" cy="59508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Updated, for discu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2012-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Box 24"/>
          <p:cNvSpPr/>
          <p:nvPr/>
        </p:nvSpPr>
        <p:spPr>
          <a:xfrm>
            <a:off x="4935600" y="1311120"/>
            <a:ext cx="4284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trive to be an exemplary international multi-stakeholder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ncre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akeholder diversity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ross-stakeholder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ld-class accountability and transparency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ATRT ac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hance trust in ICANN’s stewardshi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 in global public inter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ase of global particip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Box 24"/>
          <p:cNvSpPr/>
          <p:nvPr/>
        </p:nvSpPr>
        <p:spPr>
          <a:xfrm>
            <a:off x="149400" y="1574640"/>
            <a:ext cx="33559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ing role in internet gover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keholder d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ld-class accountability and transpa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hanced trust in ICANN’s stewardshi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 in global public inter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-stakeholder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ight Arrow 35"/>
          <p:cNvSpPr/>
          <p:nvPr/>
        </p:nvSpPr>
        <p:spPr>
          <a:xfrm>
            <a:off x="3809880" y="2038320"/>
            <a:ext cx="820800" cy="2863800"/>
          </a:xfrm>
          <a:prstGeom prst="rightArrow">
            <a:avLst>
              <a:gd name="adj1" fmla="val 50000"/>
              <a:gd name="adj2" fmla="val 44144"/>
            </a:avLst>
          </a:prstGeom>
          <a:noFill/>
          <a:ln w="9360">
            <a:solidFill>
              <a:srgbClr val="77933c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16000" y="380880"/>
            <a:ext cx="87976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</a:rPr>
              <a:t>Development of Metric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215640" y="1143000"/>
            <a:ext cx="8699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bjectiv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Broad, general areas of review. These generally reflect the end goals based on the mission of a func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riteri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Specific areas of accomplishment that satisfy major divisions of responsibility within a func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easur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Metrics designed to drive improvement and characterize progress made under each criteria. These are specific goals based on individual expected work outpu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2732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019F21-4AC1-4686-A81C-67F1C5ED1A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2" name="Picture 2" descr=""/>
          <p:cNvPicPr/>
          <p:nvPr/>
        </p:nvPicPr>
        <p:blipFill>
          <a:blip r:embed="rId1"/>
          <a:stretch/>
        </p:blipFill>
        <p:spPr>
          <a:xfrm>
            <a:off x="990720" y="1476360"/>
            <a:ext cx="7162560" cy="5153040"/>
          </a:xfrm>
          <a:prstGeom prst="rect">
            <a:avLst/>
          </a:prstGeom>
          <a:ln w="0">
            <a:noFill/>
          </a:ln>
        </p:spPr>
      </p:pic>
      <p:sp>
        <p:nvSpPr>
          <p:cNvPr id="753" name="Rectangle 4"/>
          <p:cNvSpPr/>
          <p:nvPr/>
        </p:nvSpPr>
        <p:spPr>
          <a:xfrm>
            <a:off x="285840" y="31284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Trebuchet MS"/>
              </a:rPr>
              <a:t>Example Metric 1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and trend of ICANN Fellowships and the related increase and participation in ICANN processe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4582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Calibri"/>
              </a:rPr>
              <a:t>Example Metrics 2 - DNS Stability and Secur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256BF5-8162-4E08-BD97-98DF6136BEB8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4"/>
          <p:cNvSpPr/>
          <p:nvPr/>
        </p:nvSpPr>
        <p:spPr>
          <a:xfrm>
            <a:off x="990720" y="1319040"/>
            <a:ext cx="7723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act enforcement of TLD uptime S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DNSSEC TLD signings and broadly adopted by end of plan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IPv6 awareness raising engagements in which ICANN particip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priate percentage of the ICANN budget dedicated to DNS stability, security and resil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</a:rPr>
              <a:t>Example Metrics 3 - </a:t>
            </a:r>
            <a:r>
              <a:rPr b="1" lang="en-US" sz="3200" spc="-1" strike="noStrike">
                <a:solidFill>
                  <a:srgbClr val="7f7f7f"/>
                </a:solidFill>
                <a:latin typeface="Calibri"/>
              </a:rPr>
              <a:t>Competition, consumer trust &amp; choic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Rectangle 2"/>
          <p:cNvSpPr/>
          <p:nvPr/>
        </p:nvSpPr>
        <p:spPr>
          <a:xfrm>
            <a:off x="457200" y="1523880"/>
            <a:ext cx="8610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of the new gTLD program and timely processing of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 effectiveness of Rights Protection Mechanisms in New gTLD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and timely progress of the Whois program enhancements, especially to address internationalized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NA 2008 protocol ad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915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Calibri"/>
              </a:rPr>
              <a:t>Example Metrics 4 - Core Operations including I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Rectangle 2"/>
          <p:cNvSpPr/>
          <p:nvPr/>
        </p:nvSpPr>
        <p:spPr>
          <a:xfrm>
            <a:off x="838080" y="1219320"/>
            <a:ext cx="79250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QM assessment demonstrating improvement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PKI deployment within the period of the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1 implementation of a new ICANN finance information technolog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and publish additional metrics and reporting of contractual compliance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Calibri"/>
              </a:rPr>
              <a:t>Example Metrics 5 - A healthy Internet governance  eco-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Rectangle 2"/>
          <p:cNvSpPr/>
          <p:nvPr/>
        </p:nvSpPr>
        <p:spPr>
          <a:xfrm>
            <a:off x="685800" y="1598760"/>
            <a:ext cx="8001000" cy="32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imely completion of the Affirmation Review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rmalized cross-stakeholder participation process in the multi-stakeholder mod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umber and trend of ICANN Fellowships and the related increase and participation in ICANN process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ffective process for ALAC feedback to Boar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2800440"/>
            <a:ext cx="77724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4623D1-5BB3-482F-BDB2-4EC97F49802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5"/>
          <p:cNvSpPr/>
          <p:nvPr/>
        </p:nvSpPr>
        <p:spPr>
          <a:xfrm>
            <a:off x="2743200" y="1852560"/>
            <a:ext cx="601992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Steps in Strategic Pla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Emerging them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Strategic objectives – focus on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Metrics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0" name="Picture 2" descr=""/>
          <p:cNvPicPr/>
          <p:nvPr/>
        </p:nvPicPr>
        <p:blipFill>
          <a:blip r:embed="rId1"/>
          <a:stretch/>
        </p:blipFill>
        <p:spPr>
          <a:xfrm rot="20796600">
            <a:off x="234720" y="1326960"/>
            <a:ext cx="2136600" cy="2279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2676600" y="2057400"/>
            <a:ext cx="61624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</a:rPr>
              <a:t>Question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65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1B4544-8F44-44F6-8038-5F2424D5D2A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C23D6A-66FF-4385-8FEB-C9DC443530BF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2"/>
          <p:cNvSpPr/>
          <p:nvPr/>
        </p:nvSpPr>
        <p:spPr>
          <a:xfrm>
            <a:off x="0" y="0"/>
            <a:ext cx="90583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rategic Pla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012-2015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ur Strategic Focus Areas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pporting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ne World. One Intern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4"/>
          <p:cNvSpPr/>
          <p:nvPr/>
        </p:nvSpPr>
        <p:spPr>
          <a:xfrm>
            <a:off x="457200" y="469800"/>
            <a:ext cx="1744560" cy="453960"/>
          </a:xfrm>
          <a:prstGeom prst="rect">
            <a:avLst/>
          </a:prstGeom>
          <a:solidFill>
            <a:srgbClr val="37609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NS stability and secur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Rectangle 5"/>
          <p:cNvSpPr/>
          <p:nvPr/>
        </p:nvSpPr>
        <p:spPr>
          <a:xfrm>
            <a:off x="6777000" y="466560"/>
            <a:ext cx="2070000" cy="457200"/>
          </a:xfrm>
          <a:prstGeom prst="rect">
            <a:avLst/>
          </a:prstGeom>
          <a:solidFill>
            <a:srgbClr val="37609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 healthy Internet governan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co-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Box 12"/>
          <p:cNvSpPr/>
          <p:nvPr/>
        </p:nvSpPr>
        <p:spPr>
          <a:xfrm rot="16200000">
            <a:off x="-368640" y="3053160"/>
            <a:ext cx="1181160" cy="32868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trategic Proje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Box 13"/>
          <p:cNvSpPr/>
          <p:nvPr/>
        </p:nvSpPr>
        <p:spPr>
          <a:xfrm rot="16200000">
            <a:off x="-406800" y="1545120"/>
            <a:ext cx="1257480" cy="32868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trategic Objectiv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Box 14"/>
          <p:cNvSpPr/>
          <p:nvPr/>
        </p:nvSpPr>
        <p:spPr>
          <a:xfrm rot="16200000">
            <a:off x="-378360" y="5728320"/>
            <a:ext cx="1200240" cy="32868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taff W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Box 14"/>
          <p:cNvSpPr/>
          <p:nvPr/>
        </p:nvSpPr>
        <p:spPr>
          <a:xfrm rot="16200000">
            <a:off x="-321120" y="4379040"/>
            <a:ext cx="1085760" cy="32868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Community W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10"/>
          <p:cNvSpPr/>
          <p:nvPr/>
        </p:nvSpPr>
        <p:spPr>
          <a:xfrm>
            <a:off x="4721400" y="469800"/>
            <a:ext cx="1895400" cy="453960"/>
          </a:xfrm>
          <a:prstGeom prst="rect">
            <a:avLst/>
          </a:prstGeom>
          <a:solidFill>
            <a:srgbClr val="37609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Core operations including IA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11"/>
          <p:cNvSpPr/>
          <p:nvPr/>
        </p:nvSpPr>
        <p:spPr>
          <a:xfrm>
            <a:off x="2581200" y="466560"/>
            <a:ext cx="1930320" cy="457200"/>
          </a:xfrm>
          <a:prstGeom prst="rect">
            <a:avLst/>
          </a:prstGeom>
          <a:solidFill>
            <a:srgbClr val="37609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Competition, consumer trust &amp; consumer cho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12"/>
          <p:cNvSpPr/>
          <p:nvPr/>
        </p:nvSpPr>
        <p:spPr>
          <a:xfrm>
            <a:off x="66600" y="6638760"/>
            <a:ext cx="8991720" cy="225720"/>
          </a:xfrm>
          <a:prstGeom prst="rect">
            <a:avLst/>
          </a:prstGeom>
          <a:solidFill>
            <a:srgbClr val="37609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ulti-stakeholder – Collaborative – International – Transparent - Accoun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traight Connector 13"/>
          <p:cNvSpPr/>
          <p:nvPr/>
        </p:nvSpPr>
        <p:spPr>
          <a:xfrm>
            <a:off x="307800" y="2376360"/>
            <a:ext cx="8645760" cy="5040"/>
          </a:xfrm>
          <a:prstGeom prst="line">
            <a:avLst/>
          </a:prstGeom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Straight Connector 14"/>
          <p:cNvSpPr/>
          <p:nvPr/>
        </p:nvSpPr>
        <p:spPr>
          <a:xfrm>
            <a:off x="255600" y="3943440"/>
            <a:ext cx="8734320" cy="0"/>
          </a:xfrm>
          <a:prstGeom prst="line">
            <a:avLst/>
          </a:prstGeom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Straight Connector 15"/>
          <p:cNvSpPr/>
          <p:nvPr/>
        </p:nvSpPr>
        <p:spPr>
          <a:xfrm>
            <a:off x="222120" y="5224320"/>
            <a:ext cx="8736120" cy="0"/>
          </a:xfrm>
          <a:prstGeom prst="line">
            <a:avLst/>
          </a:prstGeom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1" name="TextBox 24" descr=""/>
          <p:cNvPicPr/>
          <p:nvPr/>
        </p:nvPicPr>
        <p:blipFill>
          <a:blip r:embed="rId1"/>
          <a:stretch/>
        </p:blipFill>
        <p:spPr>
          <a:xfrm>
            <a:off x="360360" y="963720"/>
            <a:ext cx="2236680" cy="1450800"/>
          </a:xfrm>
          <a:prstGeom prst="rect">
            <a:avLst/>
          </a:prstGeom>
          <a:ln w="0">
            <a:noFill/>
          </a:ln>
        </p:spPr>
      </p:pic>
      <p:sp>
        <p:nvSpPr>
          <p:cNvPr id="782" name="TextBox 22"/>
          <p:cNvSpPr/>
          <p:nvPr/>
        </p:nvSpPr>
        <p:spPr>
          <a:xfrm>
            <a:off x="2517840" y="966960"/>
            <a:ext cx="211284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Maintain single authoritative roo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ncrease TLD options in more languag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Rollout new gTLDs including ID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Lower registration abu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ncrease industry competi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Box 27"/>
          <p:cNvSpPr/>
          <p:nvPr/>
        </p:nvSpPr>
        <p:spPr>
          <a:xfrm>
            <a:off x="4486320" y="966960"/>
            <a:ext cx="2216160" cy="11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Flawless IANA opera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ontinue long-term IANA functions responsibil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Resilient L-Root opera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ontinual improvements (EFQM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nternationaliz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CANN meeting evolu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Box 24"/>
          <p:cNvSpPr/>
          <p:nvPr/>
        </p:nvSpPr>
        <p:spPr>
          <a:xfrm>
            <a:off x="6553080" y="966960"/>
            <a:ext cx="26193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Strive to be an exemplary international multi-stakeholder organiz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ncrease stakeholder diversity and cross-stakeholder wor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World-class accountability and transparency (ATRT action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Act in global public intere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Enhance trust in ICANN’s stewardshi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Ease of global particip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5" name="TextBox 24" descr=""/>
          <p:cNvPicPr/>
          <p:nvPr/>
        </p:nvPicPr>
        <p:blipFill>
          <a:blip r:embed="rId2"/>
          <a:stretch/>
        </p:blipFill>
        <p:spPr>
          <a:xfrm>
            <a:off x="360360" y="2414520"/>
            <a:ext cx="2382840" cy="1474920"/>
          </a:xfrm>
          <a:prstGeom prst="rect">
            <a:avLst/>
          </a:prstGeom>
          <a:ln w="0">
            <a:noFill/>
          </a:ln>
        </p:spPr>
      </p:pic>
      <p:sp>
        <p:nvSpPr>
          <p:cNvPr id="786" name="TextBox 22"/>
          <p:cNvSpPr/>
          <p:nvPr/>
        </p:nvSpPr>
        <p:spPr>
          <a:xfrm>
            <a:off x="2489040" y="2363760"/>
            <a:ext cx="223236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Expand Internationalized Domain Name (IDNs)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mplement new gTLDs &amp; measure impa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Whois program improvem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mprove policy development  process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Enhance registrant prot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mplement rights protection mechanis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Expand stakehold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7" name="TextBox 27" descr=""/>
          <p:cNvPicPr/>
          <p:nvPr/>
        </p:nvPicPr>
        <p:blipFill>
          <a:blip r:embed="rId3"/>
          <a:stretch/>
        </p:blipFill>
        <p:spPr>
          <a:xfrm>
            <a:off x="4479840" y="2414520"/>
            <a:ext cx="2298960" cy="1541520"/>
          </a:xfrm>
          <a:prstGeom prst="rect">
            <a:avLst/>
          </a:prstGeom>
          <a:ln w="0">
            <a:noFill/>
          </a:ln>
        </p:spPr>
      </p:pic>
      <p:sp>
        <p:nvSpPr>
          <p:cNvPr id="788" name="TextBox 24"/>
          <p:cNvSpPr/>
          <p:nvPr/>
        </p:nvSpPr>
        <p:spPr>
          <a:xfrm>
            <a:off x="6572160" y="2398680"/>
            <a:ext cx="2619360" cy="15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omplete Affirmation of Commitments &amp; organizational review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Retain &amp; support existing community while attracting new &amp; diverse community memb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Build global support for single authoritative roo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Enhance cooperation in Internet Governan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ncrease technical community communication &amp; collabo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Box 24"/>
          <p:cNvSpPr/>
          <p:nvPr/>
        </p:nvSpPr>
        <p:spPr>
          <a:xfrm>
            <a:off x="409680" y="3949560"/>
            <a:ext cx="2377800" cy="13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Local DNSSEC adoptio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DN variant manage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Facilitate new DNS risk management working group &amp; initiate stud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Develop standards for DNS, &amp; IP address protoco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Promote IPv6 deploy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Facilitate law enforcement engage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Box 22"/>
          <p:cNvSpPr/>
          <p:nvPr/>
        </p:nvSpPr>
        <p:spPr>
          <a:xfrm>
            <a:off x="2505240" y="4113360"/>
            <a:ext cx="2112840" cy="11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Promote IDNA protocol implement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Facilitate new gTLD &amp; IDN rollou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Support Registrar Accreditation Agreement amendmen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Expand inclusion &amp; orientation of new stakehold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Box 27"/>
          <p:cNvSpPr/>
          <p:nvPr/>
        </p:nvSpPr>
        <p:spPr>
          <a:xfrm>
            <a:off x="4530600" y="4062240"/>
            <a:ext cx="2067120" cy="11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Strengthen regional presen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Engage with Staff on performan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ncrease participation on key committe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Expand engagement within technical commun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Box 24"/>
          <p:cNvSpPr/>
          <p:nvPr/>
        </p:nvSpPr>
        <p:spPr>
          <a:xfrm>
            <a:off x="6524640" y="3935520"/>
            <a:ext cx="2619360" cy="11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ncrease multi-stakeholder particip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Onboarding of participan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ncrease contributions to international forum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Review SOs and AC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Promote continuing education/orientation in ICANN program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ontinue Root Zone Manage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Box 24"/>
          <p:cNvSpPr/>
          <p:nvPr/>
        </p:nvSpPr>
        <p:spPr>
          <a:xfrm>
            <a:off x="395280" y="5240160"/>
            <a:ext cx="2378160" cy="131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Enhance business continuity &amp; risk manage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crease collaboration with RIRs &amp; technical grou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Promote DNSSEC operations &amp; edu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acilitate IPv4 &amp; IPv6 engage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dvance cooperative capability building in developing countri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crease business outrea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Box 22"/>
          <p:cNvSpPr/>
          <p:nvPr/>
        </p:nvSpPr>
        <p:spPr>
          <a:xfrm>
            <a:off x="2556000" y="5205240"/>
            <a:ext cx="2112840" cy="14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mprove complianc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Enhance SO &amp; AC support wor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Expand contracted party customer serv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Enhance global outreac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Support IDN ccTLD Fast Track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Facilitate new gTLD &amp; IDN TLD implement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Expand ICANN regional footpri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Box 27"/>
          <p:cNvSpPr/>
          <p:nvPr/>
        </p:nvSpPr>
        <p:spPr>
          <a:xfrm>
            <a:off x="4572000" y="5189400"/>
            <a:ext cx="230652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ANA request process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Root zone DNSSEC oper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acilitate Board supp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Enhance security and contingency oper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ontinue L-Root oper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mprove enterprise systems/processes/contr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mprove staff training, retention and engage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TextBox 24" descr=""/>
          <p:cNvPicPr/>
          <p:nvPr/>
        </p:nvPicPr>
        <p:blipFill>
          <a:blip r:embed="rId4"/>
          <a:stretch/>
        </p:blipFill>
        <p:spPr>
          <a:xfrm>
            <a:off x="6553080" y="5237280"/>
            <a:ext cx="2621160" cy="1474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216000" y="380880"/>
            <a:ext cx="87976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</a:rPr>
              <a:t>Steps in Strategic Plan pro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2362320" y="1219320"/>
            <a:ext cx="6248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73200" indent="-2732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Process began with community exchange in Singapo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27324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2732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Received community Input on formulation of the plan in Jul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2732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2732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Held internal brainstorm sessions, reviewed and updated strategic metric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2732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2732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SO/AC consult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2732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2732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Posted draft</a:t>
            </a: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Calibri"/>
              </a:rPr>
              <a:t>2012-2015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Strategic Plan for 45 day public comment period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3200" spc="-1" strike="noStrike">
                <a:solidFill>
                  <a:srgbClr val="7f7f7f"/>
                </a:solidFill>
                <a:latin typeface="Trebuchet MS"/>
              </a:rPr>
              <a:t>2012-2015 Draft Strategic </a:t>
            </a:r>
            <a:r>
              <a:rPr b="1" lang="en-US" sz="3200" spc="-1" strike="noStrike">
                <a:solidFill>
                  <a:srgbClr val="7f7f7f"/>
                </a:solidFill>
                <a:latin typeface="Trebuchet MS"/>
              </a:rPr>
              <a:t>plan posted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436680" y="1066680"/>
            <a:ext cx="8555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Calibri"/>
              </a:rPr>
              <a:t>Clean version of the draft pla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Calibri"/>
              </a:rPr>
              <a:t>http://www.icann.org/en/strategic-plan/draft-strategic-plan-2012-2015-clean-03oct11-en.pdf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Calibri"/>
              </a:rPr>
              <a:t>Redline version, which reflects changes made from the 2011-2014 Strategic Plan, can be found at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Calibri"/>
              </a:rPr>
              <a:t>http://www.icann.org/en/strategic-plan/draft-strategic-plan-2012-2015-redline-03oct11-en.pdf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Slide Number Placeholder 3"/>
          <p:cNvSpPr/>
          <p:nvPr/>
        </p:nvSpPr>
        <p:spPr>
          <a:xfrm>
            <a:off x="7029360" y="64771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7FE33F-70DD-4927-859F-69708CC0C41F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6" name="Picture 2" descr=""/>
          <p:cNvPicPr/>
          <p:nvPr/>
        </p:nvPicPr>
        <p:blipFill>
          <a:blip r:embed="rId1"/>
          <a:stretch/>
        </p:blipFill>
        <p:spPr>
          <a:xfrm>
            <a:off x="123840" y="933480"/>
            <a:ext cx="8943840" cy="442800"/>
          </a:xfrm>
          <a:prstGeom prst="rect">
            <a:avLst/>
          </a:prstGeom>
          <a:ln w="0">
            <a:noFill/>
          </a:ln>
        </p:spPr>
      </p:pic>
      <p:sp>
        <p:nvSpPr>
          <p:cNvPr id="707" name="Title 1"/>
          <p:cNvSpPr/>
          <p:nvPr/>
        </p:nvSpPr>
        <p:spPr>
          <a:xfrm>
            <a:off x="-36360" y="152280"/>
            <a:ext cx="918036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ＭＳ Ｐゴシック"/>
              </a:rPr>
              <a:t>2012-2015 Strategic Plan - Next Step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Box 3"/>
          <p:cNvSpPr/>
          <p:nvPr/>
        </p:nvSpPr>
        <p:spPr>
          <a:xfrm>
            <a:off x="0" y="13240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Jun 201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Box 7"/>
          <p:cNvSpPr/>
          <p:nvPr/>
        </p:nvSpPr>
        <p:spPr>
          <a:xfrm>
            <a:off x="1741320" y="2625840"/>
            <a:ext cx="1992600" cy="45900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Calibri"/>
              </a:rPr>
              <a:t>29 Jul -29 Aug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lang="en-US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nput for formulation of P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Box 25"/>
          <p:cNvSpPr/>
          <p:nvPr/>
        </p:nvSpPr>
        <p:spPr>
          <a:xfrm>
            <a:off x="2197080" y="925560"/>
            <a:ext cx="5791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MS PGothic"/>
              </a:rPr>
              <a:t>6 Month Development Pro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1"/>
          <p:cNvSpPr/>
          <p:nvPr/>
        </p:nvSpPr>
        <p:spPr>
          <a:xfrm>
            <a:off x="4952880" y="1900080"/>
            <a:ext cx="1143000" cy="64152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Calibri"/>
              </a:rPr>
              <a:t>23 - 28 Oc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42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Meeting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Dak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Box 45"/>
          <p:cNvSpPr/>
          <p:nvPr/>
        </p:nvSpPr>
        <p:spPr>
          <a:xfrm>
            <a:off x="7848720" y="14256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Dec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Box 36"/>
          <p:cNvSpPr/>
          <p:nvPr/>
        </p:nvSpPr>
        <p:spPr>
          <a:xfrm>
            <a:off x="8001000" y="5786280"/>
            <a:ext cx="1066680" cy="4590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c00000"/>
                </a:solidFill>
                <a:latin typeface="Calibri"/>
              </a:rPr>
              <a:t>Dec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oard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Box 42"/>
          <p:cNvSpPr/>
          <p:nvPr/>
        </p:nvSpPr>
        <p:spPr>
          <a:xfrm>
            <a:off x="4419720" y="3800520"/>
            <a:ext cx="2209680" cy="45900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Calibri"/>
              </a:rPr>
              <a:t>3 Oct -17 Nov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Draft Plan Public Comment (45 day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47"/>
          <p:cNvSpPr/>
          <p:nvPr/>
        </p:nvSpPr>
        <p:spPr>
          <a:xfrm>
            <a:off x="61920" y="1900080"/>
            <a:ext cx="1233360" cy="64152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Calibri"/>
              </a:rPr>
              <a:t>20 - 24 Ju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41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Meeting 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Singapo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Box 49"/>
          <p:cNvSpPr/>
          <p:nvPr/>
        </p:nvSpPr>
        <p:spPr>
          <a:xfrm>
            <a:off x="1157400" y="3289320"/>
            <a:ext cx="3396960" cy="45900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Calibri"/>
              </a:rPr>
              <a:t>Jul - Sept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raft  2012-2015 Strategic  P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Box 50"/>
          <p:cNvSpPr/>
          <p:nvPr/>
        </p:nvSpPr>
        <p:spPr>
          <a:xfrm>
            <a:off x="6324480" y="4414680"/>
            <a:ext cx="1219320" cy="45900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Calibri"/>
              </a:rPr>
              <a:t>Nov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Update Draft P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Box 51"/>
          <p:cNvSpPr/>
          <p:nvPr/>
        </p:nvSpPr>
        <p:spPr>
          <a:xfrm>
            <a:off x="7391520" y="5100480"/>
            <a:ext cx="1218960" cy="45900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c00000"/>
                </a:solidFill>
                <a:latin typeface="Calibri"/>
              </a:rPr>
              <a:t>22 Nov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Plan Board revie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1"/>
          <p:cNvSpPr/>
          <p:nvPr/>
        </p:nvSpPr>
        <p:spPr>
          <a:xfrm>
            <a:off x="882720" y="1003320"/>
            <a:ext cx="810900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New gTLD Program is raising awareness and profile of ICANN around the glo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DNS Stability &amp; Security message moves beyond DNS to include IP addresses and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Law Enforcement is engaging more with ICANN 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Provide for effective and constructive early participation of the GAC in the policy developmen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2"/>
          <p:cNvSpPr/>
          <p:nvPr/>
        </p:nvSpPr>
        <p:spPr>
          <a:xfrm>
            <a:off x="326880" y="285840"/>
            <a:ext cx="83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ＭＳ Ｐゴシック"/>
              </a:rPr>
              <a:t>Emerging themes </a:t>
            </a:r>
            <a:r>
              <a:rPr b="0" lang="en-US" sz="3200" spc="-1" strike="noStrike">
                <a:solidFill>
                  <a:srgbClr val="7f7f7f"/>
                </a:solidFill>
                <a:latin typeface="Trebuchet MS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7f7f7f"/>
                </a:solidFill>
                <a:latin typeface="Trebuchet MS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7f7f7f"/>
                </a:solidFill>
                <a:latin typeface="Trebuchet MS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7f7f7f"/>
                </a:solidFill>
                <a:latin typeface="Trebuchet MS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7f7f7f"/>
                </a:solidFill>
                <a:latin typeface="Trebuchet MS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7f7f7f"/>
                </a:solidFill>
                <a:latin typeface="Trebuchet MS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7f7f7f"/>
                </a:solidFill>
                <a:latin typeface="Trebuchet MS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7f7f7f"/>
                </a:solidFill>
                <a:latin typeface="Trebuchet MS"/>
                <a:ea typeface="ＭＳ Ｐゴシック"/>
              </a:rPr>
              <a:t> </a:t>
            </a:r>
            <a:r>
              <a:rPr b="0" lang="en-US" sz="3200" spc="-1" strike="noStrike">
                <a:solidFill>
                  <a:srgbClr val="7f7f7f"/>
                </a:solidFill>
                <a:latin typeface="Trebuchet MS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7f7f7f"/>
                </a:solidFill>
                <a:latin typeface="Trebuchet MS"/>
                <a:ea typeface="ＭＳ Ｐゴシック"/>
              </a:rPr>
              <a:t> </a:t>
            </a:r>
            <a:r>
              <a:rPr b="0" lang="en-US" sz="3200" spc="-1" strike="noStrike">
                <a:solidFill>
                  <a:srgbClr val="7f7f7f"/>
                </a:solidFill>
                <a:latin typeface="Trebuchet MS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7f7f7f"/>
                </a:solidFill>
                <a:latin typeface="Trebuchet MS"/>
                <a:ea typeface="ＭＳ Ｐゴシック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1"/>
          <p:cNvSpPr/>
          <p:nvPr/>
        </p:nvSpPr>
        <p:spPr>
          <a:xfrm>
            <a:off x="1111320" y="1066680"/>
            <a:ext cx="7291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Better define principles for internationalization to steer decisions and expa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Engage new stakeholders into the multi-stakeholder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Increase focus on Whois database policy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Better enterprise-wide processes an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ontinue to evolve ICANN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2"/>
          <p:cNvSpPr/>
          <p:nvPr/>
        </p:nvSpPr>
        <p:spPr>
          <a:xfrm>
            <a:off x="318960" y="285840"/>
            <a:ext cx="808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ＭＳ Ｐゴシック"/>
              </a:rPr>
              <a:t>Emerging themes </a:t>
            </a:r>
            <a:r>
              <a:rPr b="0" lang="en-US" sz="3200" spc="-1" strike="noStrike">
                <a:solidFill>
                  <a:srgbClr val="7f7f7f"/>
                </a:solidFill>
                <a:latin typeface="Trebuchet MS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7f7f7f"/>
                </a:solidFill>
                <a:latin typeface="Trebuchet MS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7f7f7f"/>
                </a:solidFill>
                <a:latin typeface="Trebuchet MS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7f7f7f"/>
                </a:solidFill>
                <a:latin typeface="Trebuchet MS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7f7f7f"/>
                </a:solidFill>
                <a:latin typeface="Trebuchet MS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7f7f7f"/>
                </a:solidFill>
                <a:latin typeface="Trebuchet MS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7f7f7f"/>
                </a:solidFill>
                <a:latin typeface="Trebuchet MS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7f7f7f"/>
                </a:solidFill>
                <a:latin typeface="Trebuchet MS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7f7f7f"/>
                </a:solidFill>
                <a:latin typeface="Trebuchet MS"/>
                <a:ea typeface="ＭＳ Ｐゴシック"/>
              </a:rPr>
              <a:t> 2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</a:rPr>
              <a:t>Ques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457200" y="129492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hat are the key challenges  facing ICANN  over the next 3 years in accomplishing this objective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hat are the actions or strategies we (large ICANN community) can consider in response to these challeng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2"/>
          <p:cNvSpPr/>
          <p:nvPr/>
        </p:nvSpPr>
        <p:spPr>
          <a:xfrm>
            <a:off x="606600" y="92160"/>
            <a:ext cx="81817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CANN Strategic  - One of the Four Strategic Focus A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NS stability and security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52"/>
          <p:cNvSpPr/>
          <p:nvPr/>
        </p:nvSpPr>
        <p:spPr>
          <a:xfrm>
            <a:off x="779400" y="574560"/>
            <a:ext cx="1612800" cy="53676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Approved vers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2011-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18"/>
          <p:cNvSpPr/>
          <p:nvPr/>
        </p:nvSpPr>
        <p:spPr>
          <a:xfrm>
            <a:off x="6556320" y="541440"/>
            <a:ext cx="1846440" cy="59508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Updated, for discu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2012-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8" name="TextBox 24" descr=""/>
          <p:cNvPicPr/>
          <p:nvPr/>
        </p:nvPicPr>
        <p:blipFill>
          <a:blip r:embed="rId1"/>
          <a:stretch/>
        </p:blipFill>
        <p:spPr>
          <a:xfrm>
            <a:off x="5102280" y="1676520"/>
            <a:ext cx="4005360" cy="4608360"/>
          </a:xfrm>
          <a:prstGeom prst="rect">
            <a:avLst/>
          </a:prstGeom>
          <a:ln w="0">
            <a:noFill/>
          </a:ln>
        </p:spPr>
      </p:pic>
      <p:sp>
        <p:nvSpPr>
          <p:cNvPr id="729" name="TextBox 24"/>
          <p:cNvSpPr/>
          <p:nvPr/>
        </p:nvSpPr>
        <p:spPr>
          <a:xfrm>
            <a:off x="249120" y="1811160"/>
            <a:ext cx="335304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intain &amp; drive DNS up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hance DNS risk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road DNSSEC ado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hanced international DNS co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mproved DNS resil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ight Arrow 35"/>
          <p:cNvSpPr/>
          <p:nvPr/>
        </p:nvSpPr>
        <p:spPr>
          <a:xfrm>
            <a:off x="3809880" y="2038320"/>
            <a:ext cx="820800" cy="2863800"/>
          </a:xfrm>
          <a:prstGeom prst="rightArrow">
            <a:avLst>
              <a:gd name="adj1" fmla="val 50000"/>
              <a:gd name="adj2" fmla="val 44144"/>
            </a:avLst>
          </a:prstGeom>
          <a:noFill/>
          <a:ln w="9360">
            <a:solidFill>
              <a:srgbClr val="77933c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8T18:00:56Z</dcterms:created>
  <dc:creator>User</dc:creator>
  <dc:description/>
  <dc:language>en-US</dc:language>
  <cp:lastModifiedBy>Matt Ashtiani</cp:lastModifiedBy>
  <cp:lastPrinted>2011-10-23T09:05:05Z</cp:lastPrinted>
  <dcterms:modified xsi:type="dcterms:W3CDTF">2011-11-15T01:20:52Z</dcterms:modified>
  <cp:revision>39</cp:revision>
  <dc:subject/>
  <dc:title>Presentation Title</dc:title>
</cp:coreProperties>
</file>