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2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3F20A-A5BA-417C-B94B-F044332175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ftr" idx="2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01FD2-4A52-4088-A305-8CE518207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66B35-ADD4-46A6-8728-B3F5FF2BD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FD3EB-3BFE-40F0-994B-1C352E808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199A7-E70A-4C9B-B5FF-2B3047FB0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stablishment of performance goals can best be specified when defined within three primary leve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A4BFF-1F90-4C70-914F-301BBE47C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rebuchet MS"/>
              </a:rPr>
              <a:t>Metrics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S Stability and Secu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% L-Root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te community development of key performance indicators for measuring “100% DN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vailabil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Contract enforcement of TLD uptime service level agre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global busin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ity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xerc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Measure of progress toward certific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global business continuity stand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DNSSEC TLD signings and broadly adopted by end of plan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Number of IPv6 awareness raising engagements in which ICANN particip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te a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ternet number resource certification security effort and collaborate with the community on implement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in the plan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e metrics to ensure that appropriate percentage of the ICANN budget is dedicated to DNS stability, security and resili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3D6D4-9E5A-41B0-9E8E-1CD95A25C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rebuchet MS"/>
              </a:rPr>
              <a:t>Metrics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, consumer trust &amp; consumer choice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 of the new gTLD program and timely processing of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IDN ccTLDs delegate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nnu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gTLDs and IDN Fast Track: Implementation of measures of success that align with ICANN core vales and original program 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effectiveness of Rights Protection Mechanisms in New gTLD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escribe the priorities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gional education program and report progr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Build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sh and execute a contractual compliance regime for addressing the new expanded TLD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 and timely progress of the Whois program enhancements, especially to address internationalized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ocument and publish IDN guidelines in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ddress the domain names that are not compliant with IDNA 2008 protocol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resses GNSO RySG comment on Internationalization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51180-7FC2-41FC-B26C-E5C48B378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rebuchet MS"/>
              </a:rPr>
              <a:t>Metrics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Operations including I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et or exceed IANA contract service level agreement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 award of the IANA follow-on contract or 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QM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 assessme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nstrating improvement over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PKI deployment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within the period of the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% L-root up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tional Effectiveness Program Benchmarks, Metrics and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global stakeholder service level metr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 implementation of a new ICANN finance information technology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and publish additional metrics and reporting of contractual compliance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18C2B-5088-48A2-9035-5D117F186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rebuchet MS"/>
              </a:rPr>
              <a:t>Metrics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althy Internet eco-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ly completion of the Affirmation Revie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ly Board determination and action to implement Affirmation of Commitments reviews recommend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ation of a single authoritativ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ized cross-stakeholder participation process in the multi-stakeholder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mproved ICANN Board of Directors feedback methodolo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international Internet governance events with constructive ICANN partici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and trend of ICANN Fellowship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nd the related increase and participation in ICANN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and skill set diversity of the ICANN Board of directors meet the Bylaws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resses ALAC comment for better feedback from Board on action/no action from SO/AC recommend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221C2-45FB-4C14-90D8-E1E1FAC63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4FE56-0163-4943-95C8-4428B98B0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11F1C-DBA7-41DF-A8BE-EC913D8E4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607157-4BCC-44FD-B6BC-A268491A35B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5994EB-9B43-448C-B10F-8965D3EB6A4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E95552-634A-4070-9461-3E90AA76D30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8FD587-13F3-4278-A12E-4A8425E810B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A77201-A8E7-4FC3-B685-0306540EF7A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8F6645-3AA8-49D5-AC53-88A484747FC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C46EA7-579C-45DC-87C0-7A4111E8FCD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45E8DD-47B5-4936-B968-820D1847265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C01081-041E-4A4E-B50D-879F59EAE26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53838-71B9-42B1-B89A-38ECB3114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847E9-5248-49D4-8445-6A4F4E5109D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3AA50-ABF5-49FC-A2FC-2ABA0FFF728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B1278-1368-4088-A162-5B1B05AE8BA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E4F4A0-AF0E-444B-8CA1-BEE1BC931D0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D79B7-09D0-48C2-9E02-5F73B845011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A43DF-15B0-473E-B9AA-60B918C4288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4D452-4513-4CAF-A968-0A2AA86E88B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39A22-3DB0-4EB7-A35B-3341803B2EC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50D1F-7F5A-4D4F-A60B-D25A6EC0E11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5B0AF-CB6B-4220-9233-D2EBB7A23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C0CA6-ADFF-412B-9B88-EF5B3080A85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1A4AE-2757-478A-9101-A6BF961FD6F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45EA3-77E4-476E-B53F-6E848D9052B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DBF12-5790-4E77-8029-063FF7EDCC3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D7B57-029F-495D-8163-7DA6BE1B92B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79ABE-A4DD-406E-B112-06686AE7BDE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DCDE-FF2C-404A-B971-1F3D48D03D8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261D7-3C39-485F-A16F-E8D55EDD944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4FE3E-81DC-41D0-BBEA-6AFB66343DD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7ADC6-51E5-4660-ADEC-968FA3F23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1F84-1959-4E3B-A688-E99245C1845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A8532-4349-41F9-9415-D9DA4440B67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3E36-DF54-40C4-8BE2-C4F31FCE8B0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D728F3-DFC0-4FD6-9A0C-08DDE358B55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3DCD1C-6E2E-4296-B4CF-19DB7AA6277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676286-66C9-473F-9EE3-D5671C8C5E1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753592-DEB5-4CBB-BCCF-1BB9A3A3E54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A5477-27EB-451F-AE94-6A9242E0946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C15C8-909F-434A-8FB2-F5C1E85A719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03472F-9CFB-458B-9EE7-6167DA0F03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CCF2B3-729A-4104-ADE6-8269252E9E9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6FE316-4727-4EF4-BD6A-C87887A9A01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D3B173-1EFA-4ECE-A5D5-57968097B8E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800345-3FAB-4800-8662-2F5C711A5B0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8C1135-D3F5-4B25-95B9-5DA53D6DA2C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41D253-61A1-4ECC-B0FB-5D1FC302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3026E5-1089-42EC-BC70-D30005CC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9D6D1A-7979-4710-AEF8-4D4F994A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7116B5-F2CA-4705-B06C-538E6254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D77B31-1EA8-405C-AEBC-8CD1CF81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18AB94-1367-4ED0-B905-C5CF40FA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655BCD-36F1-455F-91A4-B1D8313B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77516D-58BD-4C68-972F-0C86C10C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104F1B-B8C9-4835-B503-3D099873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DDF422-6257-4C0D-8BBC-0708F682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AF7959-1378-4820-883C-086EB8AD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C8A86D-1019-40F4-B965-F9A81073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B0AAB-E20E-45A5-A184-46AEF81A894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2E2D3-3C79-452E-8CDF-6B63CA447E9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FF1C2-3B24-449A-827C-0BFBB7AD91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5D0BA-3E92-48A0-941C-C4849D2464C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298DA2-1863-4D92-8DAD-F61F6887C7F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4DBC8-AD9B-49AB-A00C-E740909F737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C4204-420F-4422-8743-DCC553C87DC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F6AA0-56F0-443E-A436-3B2D2E0B610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2ED49-8969-404D-B16F-81B708D602D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8B980-BB1D-4D3B-99FF-C752FA674B1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8F520-C9FC-43FF-AB61-35F2348944C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15078-B11C-40A4-B1B0-038144FF91F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CDE55-86E2-435F-8659-F9959DD0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C5BD79-9757-445A-A7C8-53B14812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DDA69-1FCC-4B87-B91B-179C1892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0ECB4B-57CA-4800-943F-FB43EF03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C3C9F0-074F-474C-A051-6ED06C0B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ED82BF-6014-4C9C-BD9E-611209CC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2D04CD-4BA2-43BE-B969-A9184B15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A0A0C-C2C8-482A-A1DC-2BB5DCFC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72F6F-5D20-4D4A-95C6-FE75A78B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31A46-DAA6-48AC-9801-61CB7E50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5999EC-A061-4ACB-BD37-CFCA564A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EAF0F-E8A5-42DF-9E81-7D2BAD5E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8764AD-D359-4D23-AE2A-2F4271CF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22BEA3-B41A-4A63-938E-CFC14976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07571-6D28-4FC9-9F25-1243EFF3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7153F-BB98-4E7E-A9A6-E972B8D9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70978-A134-4889-A972-421BBD4B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07929C-CCD3-4E4D-B838-82E7CC5A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717A1-03A0-4BEB-82CF-1129178B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FA77DB-71CE-4F86-BDF4-C18A7A10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2FB7FB-5518-4FB3-9738-2EF2D808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4F211A-DDFA-4667-913A-04B66199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02294B-CED4-45B0-8740-86765378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A4371E-6040-4562-B0B7-4D77071B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BE1FCD-6C22-4CE3-8917-BF95E82A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CBCC2F-67A5-4ECC-B7EF-6B879B21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AC9CDE-B972-46A3-8143-016BC835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89E53F-5E51-401C-9E7B-3F476411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58CDAE-8C95-4230-ACEC-C7FDA63E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E6B028-B681-4357-84A9-34630BE2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9BB0D1-EAA6-4FAD-A256-927E3365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60FF4B-3DF4-4E15-890B-199373F0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5FD736-23DC-431E-BA53-5D0F3CF0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430359-85FB-44CC-B853-01456B0E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2F26E1-B32E-408F-8F81-7AEAEF69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04DD7F-39EE-44FC-B741-D25EF0D8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3EE-2C39-4A66-9F19-A3AA25C2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96D-FA2D-42B7-BDF3-C7CF4572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F70-C6B1-4F68-A03B-0FB7E561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6FE-530F-4C48-A63D-6594BBE5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0A8-0C7B-476B-AB87-B0DA711D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1AF-D28A-4E4E-98E5-353D68D8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2B2-1F0A-45B0-9A29-4926E875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42F-15E2-4482-ADFA-AC39B90C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C79-37E1-4192-8830-953D0098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F39-3CF4-444F-8B56-C3328700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E09-22F8-41F6-A879-4CE8EB5D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E38-D23A-40A9-B0FA-4184BA9C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04B5A-1706-406F-8F8F-AE7FD7EC481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B18E1-646B-4095-978B-76DC8E2664E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33C16-597D-4A7F-8BE1-7EF1C34493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07C2F-A65E-45C4-8AD5-278CB051273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DECAC-69D6-4AC9-AF3B-6E98279765E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B4A2E-F49C-4755-B468-1EF5773663D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A7E80-D274-4DCD-AFF2-2CD645493D5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4D840-2B94-44EB-8EF0-CA31FA57B5D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F400B-3FDA-4AB6-83BF-421A1298E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D71D1-0279-43A3-BFA4-24A08897911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F6A19-EBA1-4A10-BE02-EDDD1606BB0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FE73E-6055-44F9-B6A4-D8848895C7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9CFCE-ACA0-47F2-8D10-AC79259563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0D423-8B76-4920-928F-675A1863E47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698BE-5D10-4919-9B0E-9AA0DAEA626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4778C-17D7-4732-8119-39415446B12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AA437-E3F0-4C46-873A-72649DD844A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3FDCC-02DE-416D-B241-8AD45D5DCFE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CCFCD-2598-4A1F-8EA1-EB3325BF9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5BEE1-CC87-4585-84C4-FCD1DCE6D65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1C3AD-97F8-4349-BD49-91B604CA96C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9654F-F4A8-4A12-8BB2-EE2B9408672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AC38F-005A-4036-8E8E-DB7EAF768E7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B8FE5-67F0-48F2-8265-10C0570234B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6914-888C-4866-BB7C-0C5D2512986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8DBA-D403-4F9F-9CFA-7EBB17A1FD4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05CF-EE88-412C-B7B0-BC902EF8D24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42D6-B741-4435-B46C-F3A89A2C5F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FA5D-9397-4A26-89AA-8AB01D4AB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52D0-7F4D-42F5-9FCC-AF7AB586F7D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8FEA-029D-4AA6-8A1E-FB9D154C982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8D6A-F953-4516-ACDB-56A99EB5739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0658-C809-461B-ADAC-BA2AD78EC7C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AAC2-F00A-4EA7-BB96-219CAD7F3A7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F99D-76EE-4746-A6A1-A4C52828E50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6F24-FC46-472A-90ED-89C44B67C46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32C36E-4D5D-4997-8098-717AAEEB49E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EB1C02-4B1D-4EE7-9857-A426783420F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DD0E76-600F-4AB8-9536-9547F36FE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42-Dakar-Logo-rev_low.jp2"/>
          <p:cNvPicPr/>
          <p:nvPr/>
        </p:nvPicPr>
        <p:blipFill>
          <a:blip r:embed="rId3"/>
          <a:stretch/>
        </p:blipFill>
        <p:spPr>
          <a:xfrm>
            <a:off x="0" y="5772240"/>
            <a:ext cx="1447920" cy="78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0719B-D4C2-4510-B83C-44CC0CF56B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06C54-9C48-449E-A06C-DD00F1C110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444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B6935-079D-4F79-81EE-44E596BED02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B8510-02BE-427A-AF07-1136B9A263B6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C1699-60D4-4057-B458-2DCA065A9AE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527688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6C859-63D8-4D31-9B85-8ACE5A7648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527688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6BA46-F6BD-48F9-9CFA-8D4E31101DC8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E5B43-EE10-4186-BC46-3BBA656E1AC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527688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C79C2-A1DC-4737-925F-9439709C7775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A23E4-6671-4E5A-9A62-4F7E688F8F0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527688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B391C-42C9-44F9-8B24-C72A6E255620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EF814-73B6-4654-93E4-885B858C2C5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42-Dakar-Logo-AUG11-King-FINAL250PX_low_white.jpg"/>
          <p:cNvPicPr/>
          <p:nvPr/>
        </p:nvPicPr>
        <p:blipFill>
          <a:blip r:embed="rId5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5276880"/>
            <a:ext cx="2381400" cy="12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78B8A-EBEB-4321-AC35-C03695489D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F9E9B-7338-489B-9187-F0F669EAA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42-Dakar-Logo-AUG11-King-FINAL250PX_low_white.jpg"/>
          <p:cNvPicPr/>
          <p:nvPr/>
        </p:nvPicPr>
        <p:blipFill>
          <a:blip r:embed="rId5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4EB8B-5CBD-46A5-BEC5-A0F06438FE7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406FE-A805-4FCE-9E79-EC8FFE3369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7633F-2B79-4945-9187-10AB9F0E1BB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5257800"/>
            <a:ext cx="2381400" cy="127620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5E8AD-4466-49BB-AB7B-FFF9E5506C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05696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012 – 2015 ICAN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trategic Plan Development Upd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1333440" y="4038120"/>
            <a:ext cx="64008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23 Octo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606600" y="92160"/>
            <a:ext cx="8181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CANN Strategic  - One of the Four Strategic Focus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umer choice, competition and inno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52"/>
          <p:cNvSpPr/>
          <p:nvPr/>
        </p:nvSpPr>
        <p:spPr>
          <a:xfrm>
            <a:off x="779400" y="606600"/>
            <a:ext cx="1612800" cy="5364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Approved ver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2011-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8"/>
          <p:cNvSpPr/>
          <p:nvPr/>
        </p:nvSpPr>
        <p:spPr>
          <a:xfrm>
            <a:off x="6634080" y="623880"/>
            <a:ext cx="1801800" cy="5954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pdated, for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12-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2"/>
          <p:cNvSpPr/>
          <p:nvPr/>
        </p:nvSpPr>
        <p:spPr>
          <a:xfrm>
            <a:off x="5715000" y="1828800"/>
            <a:ext cx="3170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single authoritativ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TLD options in more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oll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w gTLDs including I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registration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dustry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2"/>
          <p:cNvSpPr/>
          <p:nvPr/>
        </p:nvSpPr>
        <p:spPr>
          <a:xfrm>
            <a:off x="318960" y="1828800"/>
            <a:ext cx="318636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 single authoritativ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d TLD options in more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gTLDs including I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r registration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d industry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ight Arrow 35"/>
          <p:cNvSpPr/>
          <p:nvPr/>
        </p:nvSpPr>
        <p:spPr>
          <a:xfrm>
            <a:off x="3809880" y="2038320"/>
            <a:ext cx="820800" cy="2863800"/>
          </a:xfrm>
          <a:prstGeom prst="rightArrow">
            <a:avLst>
              <a:gd name="adj1" fmla="val 50000"/>
              <a:gd name="adj2" fmla="val 44144"/>
            </a:avLst>
          </a:prstGeom>
          <a:noFill/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2"/>
          <p:cNvSpPr/>
          <p:nvPr/>
        </p:nvSpPr>
        <p:spPr>
          <a:xfrm>
            <a:off x="606600" y="92160"/>
            <a:ext cx="8181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CANN Strategic  - One of the Four Strategic Focus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re operations including IAN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52"/>
          <p:cNvSpPr/>
          <p:nvPr/>
        </p:nvSpPr>
        <p:spPr>
          <a:xfrm>
            <a:off x="779400" y="574560"/>
            <a:ext cx="1612800" cy="5367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Approved ver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2011-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8"/>
          <p:cNvSpPr/>
          <p:nvPr/>
        </p:nvSpPr>
        <p:spPr>
          <a:xfrm>
            <a:off x="6573960" y="541440"/>
            <a:ext cx="1949400" cy="5950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pdated, for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12-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27"/>
          <p:cNvSpPr/>
          <p:nvPr/>
        </p:nvSpPr>
        <p:spPr>
          <a:xfrm>
            <a:off x="5715000" y="1752480"/>
            <a:ext cx="3290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wless IANA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 IANA functions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lien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-Roo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l improvement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F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CANN meeting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27"/>
          <p:cNvSpPr/>
          <p:nvPr/>
        </p:nvSpPr>
        <p:spPr>
          <a:xfrm>
            <a:off x="258840" y="1779480"/>
            <a:ext cx="3322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wless IANA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 IANA functions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lient L-Roo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l improvements (T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ight Arrow 35"/>
          <p:cNvSpPr/>
          <p:nvPr/>
        </p:nvSpPr>
        <p:spPr>
          <a:xfrm>
            <a:off x="3809880" y="2038320"/>
            <a:ext cx="820800" cy="2863800"/>
          </a:xfrm>
          <a:prstGeom prst="rightArrow">
            <a:avLst>
              <a:gd name="adj1" fmla="val 50000"/>
              <a:gd name="adj2" fmla="val 44144"/>
            </a:avLst>
          </a:prstGeom>
          <a:noFill/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"/>
          <p:cNvSpPr/>
          <p:nvPr/>
        </p:nvSpPr>
        <p:spPr>
          <a:xfrm>
            <a:off x="606600" y="92160"/>
            <a:ext cx="8181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CANN Strategic  - One of the Four Strategic Focus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healthy Internet eco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52"/>
          <p:cNvSpPr/>
          <p:nvPr/>
        </p:nvSpPr>
        <p:spPr>
          <a:xfrm>
            <a:off x="779400" y="574560"/>
            <a:ext cx="1612800" cy="5367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Approved ver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2011-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8"/>
          <p:cNvSpPr/>
          <p:nvPr/>
        </p:nvSpPr>
        <p:spPr>
          <a:xfrm>
            <a:off x="6504120" y="541440"/>
            <a:ext cx="1923840" cy="5950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pdated, for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12-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24"/>
          <p:cNvSpPr/>
          <p:nvPr/>
        </p:nvSpPr>
        <p:spPr>
          <a:xfrm>
            <a:off x="4935600" y="1311120"/>
            <a:ext cx="428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rive to be an exemplary international multi-stakeholder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r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keholder diversit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oss-stakeholde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-class accountability and transparenc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ATRT a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rust in ICANN’s steward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 in global public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ase of global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24"/>
          <p:cNvSpPr/>
          <p:nvPr/>
        </p:nvSpPr>
        <p:spPr>
          <a:xfrm>
            <a:off x="149400" y="1574640"/>
            <a:ext cx="3355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ing role in internet gover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keholder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-class accountability and 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trust in ICANN’s steward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 in global public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takeholde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ight Arrow 35"/>
          <p:cNvSpPr/>
          <p:nvPr/>
        </p:nvSpPr>
        <p:spPr>
          <a:xfrm>
            <a:off x="3809880" y="2038320"/>
            <a:ext cx="820800" cy="2863800"/>
          </a:xfrm>
          <a:prstGeom prst="rightArrow">
            <a:avLst>
              <a:gd name="adj1" fmla="val 50000"/>
              <a:gd name="adj2" fmla="val 44144"/>
            </a:avLst>
          </a:prstGeom>
          <a:noFill/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6000" y="380880"/>
            <a:ext cx="8797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</a:rPr>
              <a:t>Development of Metri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15640" y="1143000"/>
            <a:ext cx="8699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Broad, general areas of review. These generally reflect the end goals based on the mission of a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ite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Specific areas of accomplishment that satisfy major divisions of responsibility within a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asu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Metrics designed to drive improvement and characterize progress made under each criteria. These are specific goals based on individual expected work outpu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FF155-B7B9-4EDF-8CDD-CD83CB0E9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tretch/>
        </p:blipFill>
        <p:spPr>
          <a:xfrm>
            <a:off x="990720" y="1476360"/>
            <a:ext cx="7162560" cy="515304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285840" y="3128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</a:rPr>
              <a:t>Example Metric 1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and trend of ICANN Fellowships and the related increase and participation in ICANN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Calibri"/>
              </a:rPr>
              <a:t>Example Metrics 2 - DNS Stability and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1D703-0AD9-412F-A705-258F3FBDA54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990720" y="1319040"/>
            <a:ext cx="772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enforcement of TLD uptime S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DNSSEC TLD signings and broadly adopted by end of pla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IPv6 awareness raising engagements in which ICANN particip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percentage of the ICANN budget dedicated to DNS stability, security and resil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</a:rPr>
              <a:t>Example Metrics 3 - </a:t>
            </a:r>
            <a:r>
              <a:rPr b="1" lang="en-US" sz="3200" spc="-1" strike="noStrike">
                <a:solidFill>
                  <a:srgbClr val="7f7f7f"/>
                </a:solidFill>
                <a:latin typeface="Calibri"/>
              </a:rPr>
              <a:t>Competition, consumer trust &amp; choi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Rectangle 2"/>
          <p:cNvSpPr/>
          <p:nvPr/>
        </p:nvSpPr>
        <p:spPr>
          <a:xfrm>
            <a:off x="457200" y="152388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of the new gTLD program and timely processing of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effectiveness of Rights Protection Mechanisms in New gTL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and timely progress of the Whois program enhancements, especially to address internationaliz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NA 2008 protocol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Calibri"/>
              </a:rPr>
              <a:t>Example Metrics 4 - Core Operations including I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2"/>
          <p:cNvSpPr/>
          <p:nvPr/>
        </p:nvSpPr>
        <p:spPr>
          <a:xfrm>
            <a:off x="838080" y="1219320"/>
            <a:ext cx="792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QM assessment demonstrating improvement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KI deployment within the period of th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 implementation of a new ICANN finance information technolog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publish additional metrics and reporting of contractual complian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Calibri"/>
              </a:rPr>
              <a:t>Example Metrics 5 - A healthy Internet governance  eco-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5800" y="1598760"/>
            <a:ext cx="8001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imely completion of the Affirmation Revi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malized cross-stakeholder participation process in the multi-stakeholder mod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umber and trend of ICANN Fellowships and the related increase and participation in ICANN proces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ffective process for ALAC feedback to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90027-ADE6-4C1F-8F57-D2BC0DC8679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5"/>
          <p:cNvSpPr/>
          <p:nvPr/>
        </p:nvSpPr>
        <p:spPr>
          <a:xfrm>
            <a:off x="2743200" y="1852560"/>
            <a:ext cx="60199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eps in Strategic Pla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merging t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rategic objectives – focus on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etric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2" descr=""/>
          <p:cNvPicPr/>
          <p:nvPr/>
        </p:nvPicPr>
        <p:blipFill>
          <a:blip r:embed="rId1"/>
          <a:stretch/>
        </p:blipFill>
        <p:spPr>
          <a:xfrm rot="20796600">
            <a:off x="234720" y="1326960"/>
            <a:ext cx="2136600" cy="2279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36F3EE-610E-4A01-A906-3EA5C0384C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D04A1-4818-4AA8-8144-36715F2FB79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2"/>
          <p:cNvSpPr/>
          <p:nvPr/>
        </p:nvSpPr>
        <p:spPr>
          <a:xfrm>
            <a:off x="0" y="0"/>
            <a:ext cx="9058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ategic Pl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12-2015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ur Strategic Focus Areas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ing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e World. One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57200" y="469800"/>
            <a:ext cx="1744560" cy="45396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NS stability and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6777000" y="466560"/>
            <a:ext cx="2070000" cy="45720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 healthy Internet govern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co-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12"/>
          <p:cNvSpPr/>
          <p:nvPr/>
        </p:nvSpPr>
        <p:spPr>
          <a:xfrm rot="16200000">
            <a:off x="-368640" y="3053160"/>
            <a:ext cx="1181160" cy="328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rategic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13"/>
          <p:cNvSpPr/>
          <p:nvPr/>
        </p:nvSpPr>
        <p:spPr>
          <a:xfrm rot="16200000">
            <a:off x="-406800" y="1545120"/>
            <a:ext cx="1257480" cy="328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rategic Objec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14"/>
          <p:cNvSpPr/>
          <p:nvPr/>
        </p:nvSpPr>
        <p:spPr>
          <a:xfrm rot="16200000">
            <a:off x="-378360" y="5728320"/>
            <a:ext cx="1200240" cy="328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af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4"/>
          <p:cNvSpPr/>
          <p:nvPr/>
        </p:nvSpPr>
        <p:spPr>
          <a:xfrm rot="16200000">
            <a:off x="-321120" y="4379040"/>
            <a:ext cx="1085760" cy="328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mmunity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0"/>
          <p:cNvSpPr/>
          <p:nvPr/>
        </p:nvSpPr>
        <p:spPr>
          <a:xfrm>
            <a:off x="4721400" y="469800"/>
            <a:ext cx="1895400" cy="45396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re operations including I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1"/>
          <p:cNvSpPr/>
          <p:nvPr/>
        </p:nvSpPr>
        <p:spPr>
          <a:xfrm>
            <a:off x="2581200" y="466560"/>
            <a:ext cx="1930320" cy="45720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mpetition, consumer trust &amp; consumer ch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2"/>
          <p:cNvSpPr/>
          <p:nvPr/>
        </p:nvSpPr>
        <p:spPr>
          <a:xfrm>
            <a:off x="66600" y="6638760"/>
            <a:ext cx="8991720" cy="22572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ulti-stakeholder – Collaborative – International – Transparent - Accoun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13"/>
          <p:cNvSpPr/>
          <p:nvPr/>
        </p:nvSpPr>
        <p:spPr>
          <a:xfrm>
            <a:off x="307800" y="2376360"/>
            <a:ext cx="8645760" cy="504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4"/>
          <p:cNvSpPr/>
          <p:nvPr/>
        </p:nvSpPr>
        <p:spPr>
          <a:xfrm>
            <a:off x="255600" y="3943440"/>
            <a:ext cx="8734320" cy="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15"/>
          <p:cNvSpPr/>
          <p:nvPr/>
        </p:nvSpPr>
        <p:spPr>
          <a:xfrm>
            <a:off x="222120" y="5224320"/>
            <a:ext cx="8736120" cy="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TextBox 24" descr=""/>
          <p:cNvPicPr/>
          <p:nvPr/>
        </p:nvPicPr>
        <p:blipFill>
          <a:blip r:embed="rId1"/>
          <a:stretch/>
        </p:blipFill>
        <p:spPr>
          <a:xfrm>
            <a:off x="360360" y="963720"/>
            <a:ext cx="2236680" cy="1450800"/>
          </a:xfrm>
          <a:prstGeom prst="rect">
            <a:avLst/>
          </a:prstGeom>
          <a:ln w="0">
            <a:noFill/>
          </a:ln>
        </p:spPr>
      </p:pic>
      <p:sp>
        <p:nvSpPr>
          <p:cNvPr id="782" name="TextBox 22"/>
          <p:cNvSpPr/>
          <p:nvPr/>
        </p:nvSpPr>
        <p:spPr>
          <a:xfrm>
            <a:off x="2517840" y="966960"/>
            <a:ext cx="2112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intain single authoritative ro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crease TLD options in more languag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ollout new gTLDs including ID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Lower registration ab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crease industry compet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27"/>
          <p:cNvSpPr/>
          <p:nvPr/>
        </p:nvSpPr>
        <p:spPr>
          <a:xfrm>
            <a:off x="4486320" y="966960"/>
            <a:ext cx="221616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lawless IANA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ntinue long-term IANA functions responsi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silient L-Root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ntinual improvements (EFQ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ternationa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CANN meeting evo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24"/>
          <p:cNvSpPr/>
          <p:nvPr/>
        </p:nvSpPr>
        <p:spPr>
          <a:xfrm>
            <a:off x="6553080" y="966960"/>
            <a:ext cx="26193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rive to be an exemplary international multi-stakeholder 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crease stakeholder diversity and cross-stakeholder 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World-class accountability and transparency (ATRT action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t in global public inter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nhance trust in ICANN’s stewards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ase of global particip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TextBox 24" descr=""/>
          <p:cNvPicPr/>
          <p:nvPr/>
        </p:nvPicPr>
        <p:blipFill>
          <a:blip r:embed="rId2"/>
          <a:stretch/>
        </p:blipFill>
        <p:spPr>
          <a:xfrm>
            <a:off x="360360" y="2414520"/>
            <a:ext cx="2382840" cy="1474920"/>
          </a:xfrm>
          <a:prstGeom prst="rect">
            <a:avLst/>
          </a:prstGeom>
          <a:ln w="0">
            <a:noFill/>
          </a:ln>
        </p:spPr>
      </p:pic>
      <p:sp>
        <p:nvSpPr>
          <p:cNvPr id="786" name="TextBox 22"/>
          <p:cNvSpPr/>
          <p:nvPr/>
        </p:nvSpPr>
        <p:spPr>
          <a:xfrm>
            <a:off x="2489040" y="2363760"/>
            <a:ext cx="2232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and Internationalized Domain Name (IDNs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 new gTLDs &amp; measure imp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hois program improv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mprove policy development  proce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nhance registrant prot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mplement rights protection mechanis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and stakehold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TextBox 27" descr=""/>
          <p:cNvPicPr/>
          <p:nvPr/>
        </p:nvPicPr>
        <p:blipFill>
          <a:blip r:embed="rId3"/>
          <a:stretch/>
        </p:blipFill>
        <p:spPr>
          <a:xfrm>
            <a:off x="4479840" y="2414520"/>
            <a:ext cx="2298960" cy="1541520"/>
          </a:xfrm>
          <a:prstGeom prst="rect">
            <a:avLst/>
          </a:prstGeom>
          <a:ln w="0">
            <a:noFill/>
          </a:ln>
        </p:spPr>
      </p:pic>
      <p:sp>
        <p:nvSpPr>
          <p:cNvPr id="788" name="TextBox 24"/>
          <p:cNvSpPr/>
          <p:nvPr/>
        </p:nvSpPr>
        <p:spPr>
          <a:xfrm>
            <a:off x="6572160" y="2398680"/>
            <a:ext cx="2619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mplete Affirmation of Commitments &amp; organizational revie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tain &amp; support existing community while attracting new &amp; diverse community memb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uild global support for single authoritative ro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nhance cooperation in Internet Govern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crease technical community communication &amp; collabo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24"/>
          <p:cNvSpPr/>
          <p:nvPr/>
        </p:nvSpPr>
        <p:spPr>
          <a:xfrm>
            <a:off x="409680" y="3949560"/>
            <a:ext cx="23778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Local DNSSEC adop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DN variant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acilitate new DNS risk management working group &amp; initiate stu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evelop standards for DNS, &amp; IP address protoc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romote IPv6 deploy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acilitate law enforcement eng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22"/>
          <p:cNvSpPr/>
          <p:nvPr/>
        </p:nvSpPr>
        <p:spPr>
          <a:xfrm>
            <a:off x="2505240" y="4113360"/>
            <a:ext cx="21128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romote IDNA protocol implemen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acilitate new gTLD &amp; IDN roll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upport Registrar Accreditation Agreement amend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pand inclusion &amp; orientation of new stakehold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27"/>
          <p:cNvSpPr/>
          <p:nvPr/>
        </p:nvSpPr>
        <p:spPr>
          <a:xfrm>
            <a:off x="4530600" y="4062240"/>
            <a:ext cx="206712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rengthen regional pres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ngage with Staff on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crease participation on key committe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pand engagement within technical commun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24"/>
          <p:cNvSpPr/>
          <p:nvPr/>
        </p:nvSpPr>
        <p:spPr>
          <a:xfrm>
            <a:off x="6524640" y="3935520"/>
            <a:ext cx="261936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crease multi-stakeholder particip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nboarding of particip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ncrease contributions to international foru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eview SOs and A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romote continuing education/orientation in ICANN progra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ntinue Root Zone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24"/>
          <p:cNvSpPr/>
          <p:nvPr/>
        </p:nvSpPr>
        <p:spPr>
          <a:xfrm>
            <a:off x="395280" y="5240160"/>
            <a:ext cx="237816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nhance business continuity &amp; risk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crease collaboration with RIRs &amp; technical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romote DNSSEC operations &amp; 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acilitate IPv4 &amp; IPv6 eng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dvance cooperative capability building in developing countri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crease business outr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22"/>
          <p:cNvSpPr/>
          <p:nvPr/>
        </p:nvSpPr>
        <p:spPr>
          <a:xfrm>
            <a:off x="2556000" y="5205240"/>
            <a:ext cx="211284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mprove complian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nhance SO &amp; AC support 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pand contracted party customer 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nhance global outre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upport IDN ccTLD Fast Trac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acilitate new gTLD &amp; IDN TLD implemen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xpand ICANN regional footpr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27"/>
          <p:cNvSpPr/>
          <p:nvPr/>
        </p:nvSpPr>
        <p:spPr>
          <a:xfrm>
            <a:off x="4572000" y="5189400"/>
            <a:ext cx="23065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ANA request proces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oot zone DNSSEC oper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acilitate Board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nhance security and contingency oper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ntinue L-Root oper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mprove enterprise systems/processes/contr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mprove staff training, retention and eng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TextBox 24" descr=""/>
          <p:cNvPicPr/>
          <p:nvPr/>
        </p:nvPicPr>
        <p:blipFill>
          <a:blip r:embed="rId4"/>
          <a:stretch/>
        </p:blipFill>
        <p:spPr>
          <a:xfrm>
            <a:off x="6553080" y="5237280"/>
            <a:ext cx="2621160" cy="147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16000" y="380880"/>
            <a:ext cx="8797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</a:rPr>
              <a:t>Steps in Strategic Pla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362320" y="121932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73200" indent="-27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cess began with community exchange in Singap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ceived community Input on formulation of the plan in Ju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eld internal brainstorm sessions, reviewed and updated strategic metric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O/AC consul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osted draft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2012-201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Strategic Plan for 45 day public comment period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3200" spc="-1" strike="noStrike">
                <a:solidFill>
                  <a:srgbClr val="7f7f7f"/>
                </a:solidFill>
                <a:latin typeface="Trebuchet MS"/>
              </a:rPr>
              <a:t>2012-2015 Draft Strategic 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</a:rPr>
              <a:t>plan poste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36680" y="1066680"/>
            <a:ext cx="855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Clean version of the draft pl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http://www.icann.org/en/strategic-plan/draft-strategic-plan-2012-2015-clean-03oct11-en.pd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Redline version, which reflects changes made from the 2011-2014 Strategic Plan, can be found a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http://www.icann.org/en/strategic-plan/draft-strategic-plan-2012-2015-redline-03oct11-en.pdf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702936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ECBE8-AFEB-4184-AB09-841FEB4F52DE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"/>
          <p:cNvPicPr/>
          <p:nvPr/>
        </p:nvPicPr>
        <p:blipFill>
          <a:blip r:embed="rId1"/>
          <a:stretch/>
        </p:blipFill>
        <p:spPr>
          <a:xfrm>
            <a:off x="123840" y="933480"/>
            <a:ext cx="8943840" cy="442800"/>
          </a:xfrm>
          <a:prstGeom prst="rect">
            <a:avLst/>
          </a:prstGeom>
          <a:ln w="0">
            <a:noFill/>
          </a:ln>
        </p:spPr>
      </p:pic>
      <p:sp>
        <p:nvSpPr>
          <p:cNvPr id="707" name="Title 1"/>
          <p:cNvSpPr/>
          <p:nvPr/>
        </p:nvSpPr>
        <p:spPr>
          <a:xfrm>
            <a:off x="-36360" y="152280"/>
            <a:ext cx="9180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2012-2015 Strategic Plan - Next Ste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3"/>
          <p:cNvSpPr/>
          <p:nvPr/>
        </p:nvSpPr>
        <p:spPr>
          <a:xfrm>
            <a:off x="0" y="1324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n 20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7"/>
          <p:cNvSpPr/>
          <p:nvPr/>
        </p:nvSpPr>
        <p:spPr>
          <a:xfrm>
            <a:off x="1741320" y="2625840"/>
            <a:ext cx="1992600" cy="459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29 Jul -29 Au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put for formulation of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25"/>
          <p:cNvSpPr/>
          <p:nvPr/>
        </p:nvSpPr>
        <p:spPr>
          <a:xfrm>
            <a:off x="2197080" y="925560"/>
            <a:ext cx="579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6 Month Development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"/>
          <p:cNvSpPr/>
          <p:nvPr/>
        </p:nvSpPr>
        <p:spPr>
          <a:xfrm>
            <a:off x="4952880" y="1900080"/>
            <a:ext cx="1143000" cy="6415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23 - 28 O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Mee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Dak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45"/>
          <p:cNvSpPr/>
          <p:nvPr/>
        </p:nvSpPr>
        <p:spPr>
          <a:xfrm>
            <a:off x="7848720" y="1425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c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36"/>
          <p:cNvSpPr/>
          <p:nvPr/>
        </p:nvSpPr>
        <p:spPr>
          <a:xfrm>
            <a:off x="8001000" y="5786280"/>
            <a:ext cx="1066680" cy="459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Dec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42"/>
          <p:cNvSpPr/>
          <p:nvPr/>
        </p:nvSpPr>
        <p:spPr>
          <a:xfrm>
            <a:off x="4419720" y="3800520"/>
            <a:ext cx="2209680" cy="459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3 Oct -17 Nov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raft Plan Public Comment (45 da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7"/>
          <p:cNvSpPr/>
          <p:nvPr/>
        </p:nvSpPr>
        <p:spPr>
          <a:xfrm>
            <a:off x="61920" y="1900080"/>
            <a:ext cx="1233360" cy="6415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20 - 24 Ju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Meeting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ingap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49"/>
          <p:cNvSpPr/>
          <p:nvPr/>
        </p:nvSpPr>
        <p:spPr>
          <a:xfrm>
            <a:off x="1157400" y="3289320"/>
            <a:ext cx="3396960" cy="459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Jul - Sep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raft  2012-2015 Strategic 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50"/>
          <p:cNvSpPr/>
          <p:nvPr/>
        </p:nvSpPr>
        <p:spPr>
          <a:xfrm>
            <a:off x="6324480" y="4414680"/>
            <a:ext cx="1219320" cy="459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Nov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Update Draft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51"/>
          <p:cNvSpPr/>
          <p:nvPr/>
        </p:nvSpPr>
        <p:spPr>
          <a:xfrm>
            <a:off x="7391520" y="5100480"/>
            <a:ext cx="1218960" cy="459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22 Nov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Plan Board re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1"/>
          <p:cNvSpPr/>
          <p:nvPr/>
        </p:nvSpPr>
        <p:spPr>
          <a:xfrm>
            <a:off x="882720" y="1003320"/>
            <a:ext cx="81090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ew gTLD Program is raising awareness and profile of ICANN around the gl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NS Stability &amp; Security message moves beyond DNS to include IP addresses and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aw Enforcement is engaging more with ICANN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vide for effective and constructive early participation of the GAC in the policy develop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326880" y="285840"/>
            <a:ext cx="83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Emerging themes 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1"/>
          <p:cNvSpPr/>
          <p:nvPr/>
        </p:nvSpPr>
        <p:spPr>
          <a:xfrm>
            <a:off x="1111320" y="1066680"/>
            <a:ext cx="729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etter define principles for internationalization to steer decisions and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gage new stakeholders into the multi-stakehold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e focus on Whois database policy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etter enterprise-wide processe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tinue to evolve ICAN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"/>
          <p:cNvSpPr/>
          <p:nvPr/>
        </p:nvSpPr>
        <p:spPr>
          <a:xfrm>
            <a:off x="318960" y="285840"/>
            <a:ext cx="80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Emerging themes 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 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2949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are the key challenges  facing ICANN  over the next 3 years in accomplishing this objectiv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are the actions or strategies we (large ICANN community) can consider in response to these challeng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606600" y="92160"/>
            <a:ext cx="8181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CANN Strategic  - One of the Four Strategic Focus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NS stability and securit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2"/>
          <p:cNvSpPr/>
          <p:nvPr/>
        </p:nvSpPr>
        <p:spPr>
          <a:xfrm>
            <a:off x="779400" y="574560"/>
            <a:ext cx="1612800" cy="5367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Approved ver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2011-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8"/>
          <p:cNvSpPr/>
          <p:nvPr/>
        </p:nvSpPr>
        <p:spPr>
          <a:xfrm>
            <a:off x="6556320" y="541440"/>
            <a:ext cx="1846440" cy="5950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pdated, for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12-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TextBox 24" descr=""/>
          <p:cNvPicPr/>
          <p:nvPr/>
        </p:nvPicPr>
        <p:blipFill>
          <a:blip r:embed="rId1"/>
          <a:stretch/>
        </p:blipFill>
        <p:spPr>
          <a:xfrm>
            <a:off x="5102280" y="1676520"/>
            <a:ext cx="4005360" cy="4608360"/>
          </a:xfrm>
          <a:prstGeom prst="rect">
            <a:avLst/>
          </a:prstGeom>
          <a:ln w="0">
            <a:noFill/>
          </a:ln>
        </p:spPr>
      </p:pic>
      <p:sp>
        <p:nvSpPr>
          <p:cNvPr id="729" name="TextBox 24"/>
          <p:cNvSpPr/>
          <p:nvPr/>
        </p:nvSpPr>
        <p:spPr>
          <a:xfrm>
            <a:off x="249120" y="1811160"/>
            <a:ext cx="33530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 &amp; drive DNS up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hance DNS ris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ad DNSSEC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hanced international DNS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roved DNS resil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ight Arrow 35"/>
          <p:cNvSpPr/>
          <p:nvPr/>
        </p:nvSpPr>
        <p:spPr>
          <a:xfrm>
            <a:off x="3809880" y="2038320"/>
            <a:ext cx="820800" cy="2863800"/>
          </a:xfrm>
          <a:prstGeom prst="rightArrow">
            <a:avLst>
              <a:gd name="adj1" fmla="val 50000"/>
              <a:gd name="adj2" fmla="val 44144"/>
            </a:avLst>
          </a:prstGeom>
          <a:noFill/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8:00:56Z</dcterms:created>
  <dc:creator>User</dc:creator>
  <dc:description/>
  <dc:language>en-US</dc:language>
  <cp:lastModifiedBy>Matt Ashtiani</cp:lastModifiedBy>
  <cp:lastPrinted>2011-10-23T09:05:05Z</cp:lastPrinted>
  <dcterms:modified xsi:type="dcterms:W3CDTF">2011-11-15T01:20:52Z</dcterms:modified>
  <cp:revision>39</cp:revision>
  <dc:subject/>
  <dc:title>Presentation Title</dc:title>
</cp:coreProperties>
</file>