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DE23-0B82-4CD6-86DC-4AF763A37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eedback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004D-4F4B-468F-B76F-792B734498F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0761-940C-4A70-BC7F-E5BE5CF7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75EB-BBAC-4097-9E25-059C8AF2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9E82-0F70-4ADD-9636-DEFE2C57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30A2-2016-448E-AD78-414CBBFF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2A5-CADF-4820-8350-331191B1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92CC-695D-4FBB-BF02-BE648060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E2B2-4096-49AB-B696-8C005783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2A6D-A193-4836-8C4D-500D8A4C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96F5-791A-42E0-A52E-1C60F3C9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516B-6EAC-4671-A48E-5DE7547F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21B2-B2E5-428C-BC1E-A96F11A5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1CB7-8491-4E3D-83A4-C019A002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1F70-5D91-47FB-8A87-6FAD0FAF8CE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561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263"/>
                </a:solidFill>
                <a:latin typeface="Arial"/>
              </a:rPr>
              <a:t>2012-2015 Strategic Plan Draft Timeline</a:t>
            </a:r>
            <a:endParaRPr b="1" lang="en-US" sz="1800" spc="-1" strike="noStrike">
              <a:solidFill>
                <a:srgbClr val="003366"/>
              </a:solidFill>
              <a:latin typeface="Arial Narrow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2280" y="3895560"/>
          <a:ext cx="8686800" cy="37152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263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</a:tr>
            </a:tbl>
          </a:graphicData>
        </a:graphic>
      </p:graphicFrame>
      <p:sp>
        <p:nvSpPr>
          <p:cNvPr id="51" name="TextBox 64"/>
          <p:cNvSpPr/>
          <p:nvPr/>
        </p:nvSpPr>
        <p:spPr>
          <a:xfrm>
            <a:off x="-76320" y="278136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May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Kick-Off 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Development 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2" name="TextBox 65"/>
          <p:cNvSpPr/>
          <p:nvPr/>
        </p:nvSpPr>
        <p:spPr>
          <a:xfrm>
            <a:off x="380880" y="4519440"/>
            <a:ext cx="145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May-Jun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Request SO/AC Consultations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3" name="Straight Connector 103"/>
          <p:cNvSpPr/>
          <p:nvPr/>
        </p:nvSpPr>
        <p:spPr>
          <a:xfrm flipV="1">
            <a:off x="471600" y="3587400"/>
            <a:ext cx="1440" cy="62244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4" name="Straight Connector 105"/>
          <p:cNvSpPr/>
          <p:nvPr/>
        </p:nvSpPr>
        <p:spPr>
          <a:xfrm flipV="1">
            <a:off x="1143000" y="3903480"/>
            <a:ext cx="0" cy="58716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5" name="Straight Connector 109"/>
          <p:cNvSpPr/>
          <p:nvPr/>
        </p:nvSpPr>
        <p:spPr>
          <a:xfrm flipV="1">
            <a:off x="5334120" y="3882960"/>
            <a:ext cx="1440" cy="61272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6" name="TextBox 91"/>
          <p:cNvSpPr/>
          <p:nvPr/>
        </p:nvSpPr>
        <p:spPr>
          <a:xfrm>
            <a:off x="4248000" y="2765520"/>
            <a:ext cx="152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Sep 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Post Draft Strategic Plan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7" name="TextBox 91"/>
          <p:cNvSpPr/>
          <p:nvPr/>
        </p:nvSpPr>
        <p:spPr>
          <a:xfrm>
            <a:off x="6524640" y="274176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Nov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Post  Proposed Plan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8" name="Straight Connector 109"/>
          <p:cNvSpPr/>
          <p:nvPr/>
        </p:nvSpPr>
        <p:spPr>
          <a:xfrm flipV="1">
            <a:off x="7391520" y="3635280"/>
            <a:ext cx="0" cy="61272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9" name="TextBox 65"/>
          <p:cNvSpPr/>
          <p:nvPr/>
        </p:nvSpPr>
        <p:spPr>
          <a:xfrm>
            <a:off x="2362320" y="279576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Jul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Open Public Comment Forum for Input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Straight Connector 109"/>
          <p:cNvSpPr/>
          <p:nvPr/>
        </p:nvSpPr>
        <p:spPr>
          <a:xfrm flipV="1">
            <a:off x="4876920" y="3643200"/>
            <a:ext cx="0" cy="58752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1" name="TextBox 91"/>
          <p:cNvSpPr/>
          <p:nvPr/>
        </p:nvSpPr>
        <p:spPr>
          <a:xfrm>
            <a:off x="7981920" y="2738520"/>
            <a:ext cx="101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Dec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Submit for Board Approval 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2" name="Straight Connector 109"/>
          <p:cNvSpPr/>
          <p:nvPr/>
        </p:nvSpPr>
        <p:spPr>
          <a:xfrm flipV="1">
            <a:off x="8305920" y="3625560"/>
            <a:ext cx="0" cy="61740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3" name="Straight Connector 103"/>
          <p:cNvSpPr/>
          <p:nvPr/>
        </p:nvSpPr>
        <p:spPr>
          <a:xfrm flipV="1">
            <a:off x="3122640" y="3625920"/>
            <a:ext cx="1440" cy="62208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4" name="Straight Connector 109"/>
          <p:cNvSpPr/>
          <p:nvPr/>
        </p:nvSpPr>
        <p:spPr>
          <a:xfrm flipV="1">
            <a:off x="6095880" y="3898800"/>
            <a:ext cx="0" cy="58752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TextBox 65"/>
          <p:cNvSpPr/>
          <p:nvPr/>
        </p:nvSpPr>
        <p:spPr>
          <a:xfrm>
            <a:off x="5607000" y="4497480"/>
            <a:ext cx="1432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Oct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Collect Feedback @ Dakar Meeting  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6" name="Straight Connector 109"/>
          <p:cNvSpPr/>
          <p:nvPr/>
        </p:nvSpPr>
        <p:spPr>
          <a:xfrm flipV="1">
            <a:off x="8610480" y="3893760"/>
            <a:ext cx="0" cy="61740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7" name="TextBox 91"/>
          <p:cNvSpPr/>
          <p:nvPr/>
        </p:nvSpPr>
        <p:spPr>
          <a:xfrm>
            <a:off x="7810560" y="4486320"/>
            <a:ext cx="133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Dec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Post Approved Strategic Plan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TextBox 65"/>
          <p:cNvSpPr/>
          <p:nvPr/>
        </p:nvSpPr>
        <p:spPr>
          <a:xfrm>
            <a:off x="1143000" y="27511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Jun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Collect Input </a:t>
            </a:r>
            <a:br>
              <a:rPr sz="1200"/>
            </a:b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@ Singapore Meeting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9" name="Straight Connector 109"/>
          <p:cNvSpPr/>
          <p:nvPr/>
        </p:nvSpPr>
        <p:spPr>
          <a:xfrm flipV="1">
            <a:off x="2514600" y="3927240"/>
            <a:ext cx="0" cy="58716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4343400" y="448632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Sep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SO/AC Consultations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Straight Connector 103"/>
          <p:cNvSpPr/>
          <p:nvPr/>
        </p:nvSpPr>
        <p:spPr>
          <a:xfrm flipV="1">
            <a:off x="1827360" y="3615840"/>
            <a:ext cx="1440" cy="62244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2" name="TextBox 65"/>
          <p:cNvSpPr/>
          <p:nvPr/>
        </p:nvSpPr>
        <p:spPr>
          <a:xfrm>
            <a:off x="1924200" y="4591080"/>
            <a:ext cx="127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Jun-Jul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Exec &amp; Board Workshops on Strategic Plan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2:56:11Z</dcterms:created>
  <dc:creator>IT</dc:creator>
  <dc:description/>
  <dc:language>en-US</dc:language>
  <cp:lastModifiedBy>User</cp:lastModifiedBy>
  <cp:lastPrinted>2011-05-27T22:24:59Z</cp:lastPrinted>
  <dcterms:modified xsi:type="dcterms:W3CDTF">2011-06-10T23:10:19Z</dcterms:modified>
  <cp:revision>562</cp:revision>
  <dc:subject/>
  <dc:title>Slide 1</dc:title>
</cp:coreProperties>
</file>