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346A-4C51-4621-8096-FC509F224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eed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1BDE-E3AF-4470-90D0-46220CC4564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181-1BD8-4475-B26A-0BFC2175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44B-A235-4BBA-892A-9B05B93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833-32A3-40FB-9A9F-A8479F9A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2D4-BF00-43B6-973C-0159D0C4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E85-5BF9-4336-A6FA-04213692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97D-78D7-4A80-8AD8-EDD7CFEA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CB7-9A51-4D09-84A0-CE10D2B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493-7CB5-4C41-9A10-74ED2216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08E-ED94-4B73-BB06-AA83B7FB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8F7-FD3A-4B4B-8F3D-8E0CBE5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F61-0692-452E-80E9-559AD15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43E-D9D4-46C8-A9C7-5E6375C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09C-42BD-4D50-9CF7-8E2FA99B41A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56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263"/>
                </a:solidFill>
                <a:latin typeface="Arial"/>
              </a:rPr>
              <a:t>2012-2015 Strategic Plan Draft Timeline</a:t>
            </a:r>
            <a:endParaRPr b="1" lang="en-US" sz="1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3895560"/>
          <a:ext cx="8686800" cy="371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263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4"/>
          <p:cNvSpPr/>
          <p:nvPr/>
        </p:nvSpPr>
        <p:spPr>
          <a:xfrm>
            <a:off x="-76320" y="278136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May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Kick-Off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Development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2" name="TextBox 65"/>
          <p:cNvSpPr/>
          <p:nvPr/>
        </p:nvSpPr>
        <p:spPr>
          <a:xfrm>
            <a:off x="380880" y="4519440"/>
            <a:ext cx="145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May-Jun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Request SO/AC Consultation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3" name="Straight Connector 103"/>
          <p:cNvSpPr/>
          <p:nvPr/>
        </p:nvSpPr>
        <p:spPr>
          <a:xfrm flipV="1">
            <a:off x="471600" y="3587400"/>
            <a:ext cx="1440" cy="62244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4" name="Straight Connector 105"/>
          <p:cNvSpPr/>
          <p:nvPr/>
        </p:nvSpPr>
        <p:spPr>
          <a:xfrm flipV="1">
            <a:off x="1143000" y="3903480"/>
            <a:ext cx="0" cy="58716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5" name="Straight Connector 109"/>
          <p:cNvSpPr/>
          <p:nvPr/>
        </p:nvSpPr>
        <p:spPr>
          <a:xfrm flipV="1">
            <a:off x="5334120" y="3882960"/>
            <a:ext cx="1440" cy="6127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6" name="TextBox 91"/>
          <p:cNvSpPr/>
          <p:nvPr/>
        </p:nvSpPr>
        <p:spPr>
          <a:xfrm>
            <a:off x="4248000" y="2765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Sep 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Draft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7" name="TextBox 91"/>
          <p:cNvSpPr/>
          <p:nvPr/>
        </p:nvSpPr>
        <p:spPr>
          <a:xfrm>
            <a:off x="6524640" y="274176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Nov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 Proposed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8" name="Straight Connector 109"/>
          <p:cNvSpPr/>
          <p:nvPr/>
        </p:nvSpPr>
        <p:spPr>
          <a:xfrm flipV="1">
            <a:off x="7391520" y="3635280"/>
            <a:ext cx="0" cy="6127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9" name="TextBox 65"/>
          <p:cNvSpPr/>
          <p:nvPr/>
        </p:nvSpPr>
        <p:spPr>
          <a:xfrm>
            <a:off x="2362320" y="279576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l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Open Public Comment Forum for Input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Straight Connector 109"/>
          <p:cNvSpPr/>
          <p:nvPr/>
        </p:nvSpPr>
        <p:spPr>
          <a:xfrm flipV="1">
            <a:off x="4876920" y="3643200"/>
            <a:ext cx="0" cy="5875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1" name="TextBox 91"/>
          <p:cNvSpPr/>
          <p:nvPr/>
        </p:nvSpPr>
        <p:spPr>
          <a:xfrm>
            <a:off x="7981920" y="2738520"/>
            <a:ext cx="10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Dec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Submit for Board Approval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2" name="Straight Connector 109"/>
          <p:cNvSpPr/>
          <p:nvPr/>
        </p:nvSpPr>
        <p:spPr>
          <a:xfrm flipV="1">
            <a:off x="8305920" y="3625560"/>
            <a:ext cx="0" cy="61740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3" name="Straight Connector 103"/>
          <p:cNvSpPr/>
          <p:nvPr/>
        </p:nvSpPr>
        <p:spPr>
          <a:xfrm flipV="1">
            <a:off x="3122640" y="3625920"/>
            <a:ext cx="1440" cy="62208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4" name="Straight Connector 109"/>
          <p:cNvSpPr/>
          <p:nvPr/>
        </p:nvSpPr>
        <p:spPr>
          <a:xfrm flipV="1">
            <a:off x="6095880" y="3898800"/>
            <a:ext cx="0" cy="5875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TextBox 65"/>
          <p:cNvSpPr/>
          <p:nvPr/>
        </p:nvSpPr>
        <p:spPr>
          <a:xfrm>
            <a:off x="5607000" y="4497480"/>
            <a:ext cx="143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Oct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Collect Feedback @ Dakar Meeting 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6" name="Straight Connector 109"/>
          <p:cNvSpPr/>
          <p:nvPr/>
        </p:nvSpPr>
        <p:spPr>
          <a:xfrm flipV="1">
            <a:off x="8610480" y="3893760"/>
            <a:ext cx="0" cy="61740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7" name="TextBox 91"/>
          <p:cNvSpPr/>
          <p:nvPr/>
        </p:nvSpPr>
        <p:spPr>
          <a:xfrm>
            <a:off x="7810560" y="4486320"/>
            <a:ext cx="133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Dec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Approved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1143000" y="2751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n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Collect Input </a:t>
            </a:r>
            <a:br>
              <a:rPr sz="1200"/>
            </a:b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@ Singapore Meeting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9" name="Straight Connector 109"/>
          <p:cNvSpPr/>
          <p:nvPr/>
        </p:nvSpPr>
        <p:spPr>
          <a:xfrm flipV="1">
            <a:off x="2514600" y="3927240"/>
            <a:ext cx="0" cy="58716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343400" y="44863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Sep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SO/AC Consultation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Straight Connector 103"/>
          <p:cNvSpPr/>
          <p:nvPr/>
        </p:nvSpPr>
        <p:spPr>
          <a:xfrm flipV="1">
            <a:off x="1827360" y="3615840"/>
            <a:ext cx="1440" cy="62244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2" name="TextBox 65"/>
          <p:cNvSpPr/>
          <p:nvPr/>
        </p:nvSpPr>
        <p:spPr>
          <a:xfrm>
            <a:off x="1924200" y="4591080"/>
            <a:ext cx="127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n-Jul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Exec &amp; Board Workshops on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2:56:11Z</dcterms:created>
  <dc:creator>IT</dc:creator>
  <dc:description/>
  <dc:language>en-US</dc:language>
  <cp:lastModifiedBy>User</cp:lastModifiedBy>
  <cp:lastPrinted>2011-05-27T22:24:59Z</cp:lastPrinted>
  <dcterms:modified xsi:type="dcterms:W3CDTF">2011-06-10T23:10:19Z</dcterms:modified>
  <cp:revision>562</cp:revision>
  <dc:subject/>
  <dc:title>Slide 1</dc:title>
</cp:coreProperties>
</file>