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65D83-7EC2-4D29-B279-9CBFE218127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CC8AAA-558B-444E-9DCE-920BF89937D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2F8AD6-F43E-4199-AC50-16D968A08C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DD577-43C5-47A9-8C24-3381552CD78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74FBE-F031-4635-97C9-75FEF01DFE9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2974C-E8CA-4FB4-9B7B-FD260EDC629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1D8B9-29DB-4822-B815-3F6C6DEAB6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5A3E0-97EE-45BC-871A-606F7847920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E9CDB5-4431-4F3B-801F-11367C28845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E5CDB-9B1E-4249-82E2-AB6B1F6B9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A9767-CEE7-4AC9-8420-3A549330F8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3A26A-7B6B-4426-87BF-6DC907C0C57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ABF10-AEE8-4A81-B028-472704DEE0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CD249-C81A-4622-B2B0-F2C8C93C62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27540-4723-4094-9396-3424CE20EC5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A0A5A-9573-45E3-8C24-741A48F5A19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99575-A868-469E-B7AE-E2E9941F961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2C4B6-90B1-4F87-A362-5F12A5001B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3272E-5096-4947-BEF0-26BE9283AB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A730E-1F88-4408-B154-80A910657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663F8-48BB-473D-83A8-57EDACDD773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070B-B17D-455B-A8F1-EE0BEE07A2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FF6A-7D46-4319-89D8-D7CD5AD0A99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7588D-4C85-4859-8E63-754C7406F47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2720-6483-4238-989C-264C06AF87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0B11-F056-4E07-8FDC-C76BBECEB8D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59F0-F8A9-4CEA-87F2-16060E2E2D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84E5-B778-47EE-8456-A4D95C428F0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91C9-1C8B-44EA-B5B7-D5592CC88A7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A7625-E252-43D0-A2C8-319726EED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9DE3-1543-4240-AE6E-526FE4C15CB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9C95A-D00D-4516-80DD-2BBC02AE003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D51C-F4E7-46F4-A32C-48F6BFA4AFC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82C1B-7B78-41D2-B558-8329DA865E4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359E6-364F-4986-8582-5479243979E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3D780-D737-4FE2-A27B-48E8562B94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8D780-E63E-4EC1-B579-092EDE7822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BDED7-376D-4930-9242-61300A4CFE4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79AAD-51BB-496B-A149-8964F52B6E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0A6E9-0102-479D-A085-14ED3B6637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EDC32-ED4B-4BA8-81ED-6E7F88DF5FC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EA157-E5B5-4371-BE3D-339E41E09C6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6648E-DE68-43E7-93D7-128EBD43AD4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F6044-6AD0-4820-B387-12350E60F38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18F66-D0CF-41F9-9692-F11EC54F2C2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265BA-FE9C-4DE0-AD5C-C7EC1F55D01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88645-D089-4890-BB4A-BB8350B0974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AC3A0-519B-425F-8614-87739A29111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3DE69-37EC-40A1-A461-5922D198D38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26A65-B7CD-4AAA-B3CF-CDA4F6D4C9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7A09F-B290-481C-85C8-97468C65E17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7D3CB-376B-4ED3-B0F8-62496A32D51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CF3C3-7EC3-4AB6-9089-08F0FE15162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18706-C3D5-49BD-9118-0DF8BC41963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65D88-CB96-48AC-A4D8-346F2B1F65A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3FD36-A40B-4660-8126-8587932350C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E912B-1165-4AC2-8EE5-11EC98CD3F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A8F-1787-404E-9572-095CE0DB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662-3A30-4250-8B43-ED40B881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213-D864-44BE-AAFF-C350FADF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6AF-C026-4F50-AA77-AEF04FAA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A7B-D32C-4825-A72B-71FA1DDB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58F-A69D-4BE5-8F77-8BFB9712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54E-DE6B-4434-A022-D6938847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54A-A01E-4980-89E4-B1BA01F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1A5-2481-4F0F-B78A-5C6A0D7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BBA-5E5E-41D0-ADD0-11BC4FEF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D73-AB98-4092-BCB1-71C873A9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048-23A1-4E60-9139-D47A5A09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598C2-1E25-47D6-8AD5-EA3366713A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C0809-4B57-4333-9824-E5744E1B72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FBDDC-5F70-4A61-8B29-FE3FAAA144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E4928-878F-43D3-9404-6B8CF95A4F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C1D59-E429-4E5F-A91D-2F94E92FF6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25090-3AE6-44A0-BABD-DAF51AFA25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D81C1-15C2-4491-BD23-CA0E64BAF7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69AE3-9631-44CE-B8FE-3B474C37F0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EC457-75BF-404F-B73E-513CC67E8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DA97A-F5B3-4FEB-8821-A81752D606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26DF8-C8F4-495F-B0EA-277F58CB8B4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7088B-FB23-4F80-8611-4D207CA387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C5BEB-4564-4B87-B419-B2B5D23B05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BD2EF-D462-4CE2-824A-8594D2E2EC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13BFE-C310-42D2-BDE0-A0B2C75D5FE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9BE1-D2C6-4DCD-8329-9506EB414E0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A9AA2-35E8-487B-900C-F5E11C1AC43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3EA12-EDB7-417B-B933-D46ED4AF2C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D5A62-BE2D-456A-B53D-4A8FF00B3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B9ECF-541D-4584-9A43-BA94F267E4A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42E7F-27EB-4F98-BC85-AFB823E5E2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E5C9A-6D2C-41A7-ADA9-B04EE567F4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2E952-D0CC-49FC-AD66-ABE93921B52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5BF76-98C9-4FBF-B832-10CCCA29AF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3988-E537-4FC5-BB5E-37D5B68C03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9E75-B5E2-49F8-A9BF-C0A05A1F7C0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889D-A187-401B-AD84-5F52F740C10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41F1-0C7B-4E13-A7E5-901DA52F10C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A3B4-62C2-44C1-B212-FBFF50D70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137B-CFBE-4406-A8BA-06E3ECD13A0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90A6-BDD6-4B1E-94A3-15BBCDEC65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CDE9-B871-462C-A8B8-D3E7300EE6A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92F8-1733-42E1-BCC7-99F435D8656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6607-0875-4828-926A-A25787BBD9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AAF7-C999-46A4-B146-2F00C1454A7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4161-C92C-4405-AD45-FA7DBBC94B7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5BC97-2E29-4AD7-9B91-6AB2090265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431C0-33EE-44FB-9FBE-9D9E96D258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AEC53-F742-4F6E-851B-419A3EBB0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6E2DB-4DD0-4231-86F6-469E941B3C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D8DCA-6760-4122-BA49-454982594E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C79AB-73CD-498E-A502-1AFF585F52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771D2-8171-4A83-B5F8-C1702017FC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509CA-E99C-46C9-95C5-C858821DD9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760A4-50C0-4E26-9943-9BB865FE7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92F12-60C5-428E-ABD1-D75FE09B02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ECE84-D612-42A3-A1FA-67854B01ED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6DFD9-00FD-4146-A8B8-B365BC517B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C5F42-13FE-43EC-AE0E-EDB3720A22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37157-E28C-4E82-A0E8-668F646857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6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B4DA1-0340-4C0D-A47D-A3058F4E8F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sert photos in left colu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Placeholder 7" descr="plant.jpg"/>
          <p:cNvPicPr/>
          <p:nvPr/>
        </p:nvPicPr>
        <p:blipFill>
          <a:blip r:embed="rId1"/>
          <a:srcRect l="0" t="-39262" r="0" b="-39262"/>
          <a:stretch/>
        </p:blipFill>
        <p:spPr>
          <a:xfrm>
            <a:off x="304920" y="1600200"/>
            <a:ext cx="2133360" cy="4343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SVSF-logo-final-Feb2011-330x194.png"/>
          <p:cNvPicPr/>
          <p:nvPr/>
        </p:nvPicPr>
        <p:blipFill>
          <a:blip r:embed="rId2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6C3B9-4A40-4687-BC85-DEE91EA015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04:36Z</dcterms:created>
  <dc:creator>HU</dc:creator>
  <dc:description/>
  <dc:language>en-US</dc:language>
  <cp:lastModifiedBy>HU</cp:lastModifiedBy>
  <dcterms:modified xsi:type="dcterms:W3CDTF">2011-03-01T23:09:24Z</dcterms:modified>
  <cp:revision>2</cp:revision>
  <dc:subject/>
  <dc:title>Presentation Title</dc:title>
</cp:coreProperties>
</file>