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B9377F-AB2B-4708-9004-879C1D1B002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D8082-DB0C-42FA-AB39-D6339E662A1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4C319-527C-4EAE-AFD6-A7DDEA4F23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C6FBB7-F410-4559-952E-79447EF59EA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E0929-EB1B-4573-A093-B906504EC4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E0002-646C-4EDC-ABA0-81162C5B09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779BC-B12B-4B37-9E53-4ACE380FEE5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81FB7-DC2A-4F62-BC04-0B516865B43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DF111-3D4B-4C8A-8D19-6837FA049A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9CBA1-A79F-4E26-9B3B-6D07C4A4A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6C8B4-086F-43D8-B280-1C29E1BAA5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01001-8C7F-43B9-8E11-12B4EDA1397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D81E2-4097-4DB7-9E5A-3960A03EA3D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CF577-E5A0-43C0-9FB9-FD67408A40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E5D42-68EA-4A83-87B6-EEE41D9C235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489FE-480A-4795-8F02-1ED9CC086A5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66107-58C6-4379-96F4-4934B6D60C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CFB8C-769F-4BDA-B19A-26727B71247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DCB6C-B6BC-4ACD-BF20-6F92AB1AF4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4C3C9-78E7-413A-9C8F-BF18691BC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4A8EF-8F74-4817-9A2A-ADB1F665F83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73E8-1413-4FD0-84ED-EE18D029B6D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8083-8FC3-4EED-A178-4681509657A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E306-6A57-45C7-8DA0-4F25121B0AF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2647-5B32-4F15-B8F0-F46FF961232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1C09-A778-4F23-A6F4-33D0039419B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7BF3-5397-4729-82E8-E6B2E99697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3801-EA95-42E7-B6BF-A470E4B1289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05B5-3706-4176-82D8-599EA2E604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3E85-771C-43C2-87B9-8955CEB1F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123F-9689-430E-8DCC-3BDDFF5ECC7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AA70-35D6-4EBF-94CB-8A7F5A854E7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7D29-7426-40B3-8438-BB3309A9AA5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2D517-A90C-4DCC-B205-D0804017B3D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45161-F66B-47D9-9AF2-21F429439F5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813FB-9F1B-4EFD-8930-AE805CB5AA9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45A37-DCAA-4822-9EC2-E0D72629F80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8BC95-324F-4D7B-8F06-3ABA1AB8FF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1F47F-E4C4-46DE-88F6-7CA4D2831F7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45D23-F3FE-43A5-8AD5-157989F768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E1128-47F0-443D-98E2-BC4D0EC0AC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4F587-8929-4658-BA76-3383B10A3D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00A23-6171-4518-8B4D-5A43AE38F61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32FDC-612F-4C27-9475-1F68006EFA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1D242-2FBB-4A4C-9B24-7E007A0CB55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5C9AC-A90E-47C6-B17E-4709C52E7A9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F0D2B-3A0E-4B46-B152-088B57A7CE9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1E5322-C7C4-43D0-8629-E2C6FEC7EDB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F24FF-B931-4716-9238-5807E339896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3A3E6-F926-43EA-B786-CD797B4EF3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AC973-9581-41CE-9730-F4FC0BDAECB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96C73-8E67-40F7-AB9F-2B700F405CF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7B9CB-55FA-47B1-AFB0-4E738729329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560B9-8C0D-48FB-9B74-1DFE106469D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58896-A31D-4E09-B54D-66892FECB4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CC632-4527-4C81-8A8E-CB202FB1603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0CB94-B1CB-40CC-84F2-4F777FBA7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C9E-D0CB-4CE2-8930-6CA76127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7E3-B0E7-4A38-9341-03BFFF87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7B6-1A80-4B20-9157-FAF5B4DE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CB8-6D1E-4654-95A3-4B67EB74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A63-C400-4FBA-B7D9-F0F1BE61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F64-FEB0-493A-AEE4-2B833EC9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53C-C878-4BAE-A6F6-6E348834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9B1-F6FC-483D-A54F-FA64493D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2F2-767B-4A69-A98E-EA38D265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3A2-AF32-4B66-B6A6-F811C01B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481-1BF7-474A-9150-E8F8B5AD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726-E1C6-4682-86AD-7F10A323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FAE64-6B2A-4B9B-B772-4DA87958497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82C73-A523-412F-A160-9430C36839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DAB75-086C-49EB-BFBD-2138CD19A6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0A753-72F7-4EF4-8C5C-27A98B6B0F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E7064-D568-45EB-81FB-C8CA5A98B1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E0FD2-85C4-45B3-B127-AB26D68793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59E15-88C3-485F-B8B2-C9532409E4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1D201-B67A-4492-932D-E152FD08E8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AC4FB-C1DB-42B2-AE41-91434F234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97C12-31CD-48B6-A344-007543FD771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9F415-A31E-49EB-8FCF-9759C9398A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F4462-22AA-48A0-87E0-1E01E1EF9AC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E760B-BDA2-4F50-90E3-303CAF4ADB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76001-4B9E-4208-8E5B-E114C3139F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D1482-EC2F-4135-A483-F02DB99B2C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0A928-8FB9-4628-B132-4A195FDE56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A30B8-E752-409D-86E3-06B3CC9876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0E8F4-8762-4E53-A553-3C47CB870D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5BC48-557E-4BBF-A2E0-428B935BA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CE1B1-62FD-4D0D-B6F4-3488C6D4416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2E3D9-0F03-455F-9828-46C302EC37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8FC4E-DD4C-4126-88F9-B38B0A154F5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63350-A168-4519-9D9E-2E1F3EAFE97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32325-8D1E-4AF9-9261-1BC28C5FE2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7818-5304-48C1-9F19-35FA14812D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DABB-B104-4CBC-917C-7B421F9E5C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46A1-8E1F-45F5-9BBD-1803117CDA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0369-6214-4C19-8FC1-698C63CB7D6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7C1F-8F38-41B4-A5B9-2B27FA5B1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C760-D02C-4416-8D67-E4530A15FF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D1F1-53B3-4408-BAF0-15E4D461DC7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EA09-296B-4228-95EE-846143E8C46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2CFC-077D-46D6-82C7-E23996C112F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C217-0615-4A5C-8690-D8F2D0B2ACF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48D0-E054-4866-BC94-4A7AA94FB64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161B-91CC-4158-B1A0-0D8E07F45D5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BFB94-A805-4320-ABC3-EEEF4813F0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A3ECD-D37D-43AB-AC07-6E1FA3F5B4B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B83B4-BADF-432C-ACC6-8360C8618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3AB40-9154-44C7-BB1A-5C60619C3E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56703-2AE8-4DB7-A061-1E4D0AD35D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00D0B-030F-4A64-BC06-3CE0E1D901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753C3-6CFE-4658-895B-FF725622A8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BDE64-53C7-4C57-A29F-313A04C367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FB11F-43A5-4ED1-A46F-35DF2D071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AB958-816B-4518-87BF-0D27B5E78F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24163-E5BE-4B93-A546-B68A12FE81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E2F3A-1564-4E12-B3D1-C46EE1A48C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F578B-6BF5-4EF8-8855-B38B1AD702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B4C7F-B312-4D5B-A953-8115E09701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6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98FB4-DC28-4A39-A9B7-F7AAD51933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sert photos in left colu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Placeholder 7" descr="plant.jpg"/>
          <p:cNvPicPr/>
          <p:nvPr/>
        </p:nvPicPr>
        <p:blipFill>
          <a:blip r:embed="rId1"/>
          <a:srcRect l="0" t="-39262" r="0" b="-39262"/>
          <a:stretch/>
        </p:blipFill>
        <p:spPr>
          <a:xfrm>
            <a:off x="304920" y="1600200"/>
            <a:ext cx="2133360" cy="4343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SVSF-logo-final-Feb2011-330x194.png"/>
          <p:cNvPicPr/>
          <p:nvPr/>
        </p:nvPicPr>
        <p:blipFill>
          <a:blip r:embed="rId2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4343400"/>
            <a:ext cx="3531960" cy="207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C:\Users\heidi.ullrich\PowerFolders\At-Large\Outreach and Participation\At-Large Logo\IC_AtLarge_Logo.png"/>
          <p:cNvPicPr/>
          <p:nvPr/>
        </p:nvPicPr>
        <p:blipFill>
          <a:blip r:embed="rId2"/>
          <a:stretch/>
        </p:blipFill>
        <p:spPr>
          <a:xfrm>
            <a:off x="7315200" y="0"/>
            <a:ext cx="146376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E8443-8C6E-408B-8D49-4876EE98D2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SVSF-logo-final-Feb2011-330x194.png"/>
          <p:cNvPicPr/>
          <p:nvPr/>
        </p:nvPicPr>
        <p:blipFill>
          <a:blip r:embed="rId1"/>
          <a:stretch/>
        </p:blipFill>
        <p:spPr>
          <a:xfrm>
            <a:off x="76320" y="5181480"/>
            <a:ext cx="245592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3:04:36Z</dcterms:created>
  <dc:creator>HU</dc:creator>
  <dc:description/>
  <dc:language>en-US</dc:language>
  <cp:lastModifiedBy>HU</cp:lastModifiedBy>
  <dcterms:modified xsi:type="dcterms:W3CDTF">2011-03-01T23:09:24Z</dcterms:modified>
  <cp:revision>2</cp:revision>
  <dc:subject/>
  <dc:title>Presentation Title</dc:title>
</cp:coreProperties>
</file>